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B464-5385-46B3-8495-04A1C2BA7A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360-612C-40DB-9754-2B3EB94C07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E2A-D053-43A0-8341-9923F4184F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E82-09B0-4350-A565-5807DF35A3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1A4F-AA1F-4E70-A9AD-0610A7189D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8A7-DA54-4614-806C-2F0B1AA0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812-2713-4E36-9906-1E203C70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1DA-27EE-431E-BF16-BF45E686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093-8427-4820-AA0C-863308E3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004-A92A-4507-9315-EC7E8DB3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376-D38D-45F2-B5A5-6022D50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8DE-F1E2-4510-AB4B-830A099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A72-18A6-4E3F-AD9E-9C345F8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21C-6074-46CE-92A4-F69B04D9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EB8-3452-4D3A-838D-46D38465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205-6BE6-4B6A-B80A-75693F3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AED-483F-44DB-8495-3474B5E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19CD-4F9E-428B-AA43-7D99199EF9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_a_cb"/>
          <p:cNvPicPr/>
          <p:nvPr/>
        </p:nvPicPr>
        <p:blipFill>
          <a:blip r:embed="rId1"/>
          <a:stretch/>
        </p:blipFill>
        <p:spPr>
          <a:xfrm>
            <a:off x="7308720" y="19044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1. srpen 2011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. led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-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Únor/březen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- předpokládaný začátek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nestátní neziskové organiz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se základním vzdě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ublicita – samostatná klíčová aktivit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rojektové žádosti, nebo příloze 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sm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07-13/oplzz/desatero-op-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ypořádání připomínek k výz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.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3. výzva pro předkládání grantových projektů                     v oblasti podpory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6. květ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50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1. srpna 2011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náleží partnerovi, musí být označeny názvem partnera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Úspěšní žadatelé dolož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bezdlužnosti a bezúho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velik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estné prohlášení o tom, že na schválený projekt žadatel nečerpá jiné veřejn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závažn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ankou potvrzený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ormulář finanční ide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ňovány na stránkách www.esfcr,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ZOR: Žádost musí být založena ve správné výz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2 výzvy (A,B nebo C 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e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vinné přílohy, resp. pro výzvu 76 je relevantní pouze doklad o právní subjektiv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3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Realizace musí být ukončena nejpozději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do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30. 6. 2015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splněny specifické podmínky dané výzvou (samostatná aktivita publicity, zařazení experta do realizačního týmu a projekt není zaměřen jen na školení a neobsahuje volnočasové ak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3 hodnotitelé) a následného hodnocení prostřednictvím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v průměru minimálně 65 bo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zařazení položek rozpočtu – viz. D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není kvantifik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ě popsaná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zdové příspěvky v rámci přímé podpory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: v projektu lze nárokovat až 100% mzdových nákladů na pracovní místo, nejvýše však trojnásobek minimální mzdy, tj. 24 000 Kč + povinné od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příloha č. 4 výzvy „Obvyklé ceny osobních nákladů“ a příloha č.5 výzvy „Obvyklé ceny zařízení a vybavení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40 pracovních dnů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40 5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otivace zaměstnavatelů v uplatňování rovných příležitostí žen a mužů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jsou podporovány v rámci všech tří okruhů aktivit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uze jako součást komplexního řešení problematiky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lze provozovat na základě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latné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legislativy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 v době realizace projektu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otivace zaměstn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litika přátelská k rodině a gendrově příznivá politika v  podnicích (audity, soutěže at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lexibilní forma organizac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voj a ověření inovativních programů 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a opatření k dané proble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Tvorba pracovním míst včetně mzdových příspěvků (v rámci přímé podp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Podpora a rozvoj samostatné výdělečné 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pro ženy začínající podnikat a vykonávající samostatně výděleč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arth Vader</cp:lastModifiedBy>
  <dcterms:modified xsi:type="dcterms:W3CDTF">2011-06-20T09:44:14Z</dcterms:modified>
  <cp:revision>391</cp:revision>
  <dc:subject/>
  <dc:title>Snímek 1</dc:title>
</cp:coreProperties>
</file>