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lnSpc>
                <a:spcPct val="145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76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48EC-5EB8-421A-9532-F9527985DE7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11C3-8E6B-4547-84C2-D0AA56E08C2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175C-8F7E-49BC-9963-A964417A711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0238-A086-4882-ABEC-AA22C8055E0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6580-0FB2-4CC4-95CF-AC672BA68B9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E496-CD77-4F3B-8DB3-78AA90016F7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896E-EA7A-4CCF-98FA-8880566DD0F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9875-3CDC-4194-A77B-70F5AEB4337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C1EB-B00A-4CDB-9E2A-AACDD4A0102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63F3-EB8F-4C69-931C-965B474C2D1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D3D6-CB45-48C4-9DCF-E379138322F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676C-279B-492A-8F94-05E37E17AA5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3C74-7DB6-4553-AF5C-96E8E077C5E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EB84-49B4-43A6-B306-8778B6E6689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3404-84B4-405B-82E4-A970173FCFC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4961-A254-48E1-BD67-6DFC7112315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4D4E-CEA0-4E14-B5C8-A114AACFE6A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F37C-A95E-47D6-AAB6-578964602B1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5B34-091D-4089-BA73-069C36EE64A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BE33-7F6D-4F65-B6A2-D431BD97F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4E7E-3A1E-49CD-A24C-1F5E11EC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3736-B201-4A4F-ACFC-0DAD7FA47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44DD-B3F5-49F3-BA77-DD2CF6435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965F-841F-483D-A4DB-389610F9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BCD9-7729-4D4C-B096-A9EB9303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9E87-02F1-4136-A1E5-0C38D5BF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E2E2-FE3F-44D7-941A-C5379546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C2D6-E469-4881-BC4A-2BC1AB8D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4025-9EE2-4254-A7C3-46D2D2A8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C502-A022-48A3-B8BB-2C633238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B079-360F-40D4-BECE-E31CBE64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F242-5C06-4E3F-99A0-A31E464DF9C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team.cz/cz/products/rp/logframe.pdf" TargetMode="External"/><Relationship Id="rId2" Type="http://schemas.openxmlformats.org/officeDocument/2006/relationships/hyperlink" Target="http://www.partnerstvi-jmk.cz/page.php?action=detail&amp;id=94" TargetMode="External"/><Relationship Id="rId3" Type="http://schemas.openxmlformats.org/officeDocument/2006/relationships/hyperlink" Target="http://www.logframe.cz/metoda.ht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s://forum.esfcr.cz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Specifická kritéria výzvy č. 76 </a:t>
            </a: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92000" y="2492280"/>
            <a:ext cx="65516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93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2800"/>
            </a:b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OP LZZ – výzva č. 76 Rovné příležitosti žen a mužů na trhu práce a slaďová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aha/Brno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407e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účel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terý má projekt splnit (jen jeden); čeho hodláme dosáhnout; skutečný motiv; změna, kterou chceme dosáhnout (i když jí třeba nedosáhne jenom jeden projekt). Účel vyjadřuje cíl, ne aktivity; bezprostřední důvod, proč se do projektu pouštíme. O naplnění změny usilujeme výstupy a výsledky (příp. i dopa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CHCEME DOSÁHNOUT, JESTLIŽE PROVEDEME AK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Účelem projektu ve výzvě 76 by mělo být zlepšení situace v definovaných oblastech trhu prá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Horizontální a vertikální rozdělení trhu 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íra platové nerovnosti žen a muž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ístup zaměstnavatelů ke slaďování prac. a rodinného živ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bourávání genderových stereotyp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Firmy jsou motivovány zavézt relevantní opatření pro slaďování rodinného a pracovního života (MPS, regionu X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Šipka doprava 5"/>
          <p:cNvSpPr/>
          <p:nvPr/>
        </p:nvSpPr>
        <p:spPr>
          <a:xfrm>
            <a:off x="463680" y="3032280"/>
            <a:ext cx="647640" cy="36828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90" name="Šipka doprava 5"/>
          <p:cNvSpPr/>
          <p:nvPr/>
        </p:nvSpPr>
        <p:spPr>
          <a:xfrm>
            <a:off x="466560" y="542772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výstupy a výsled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loužící pro dosažení účelu projek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y -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se skutečně zrealizovalo; realizátoři projektu nesou za jejich dosažní přímou odpovědnost (za splnění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edpokladů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); konkrétní popis toho, co se vytvoří, zdokonalí, inovuje…); je-li jich více -- nutno je popsat a očíslo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provedené genderové audity ve firmá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á interní směrnice k zavádění relevantní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á statistika využívání genderových opatře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led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- okamžité dopady projektu (čeho bude s ukončením projektu dosaženo) - používá se trpný rod (ve tvaru přídavného jména) popisující situaci na konci projektu (inovovaný produkt, motivované firmy pro prosazování tématu slaďová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zlepšení přístupu firem v regionu XY k problematice slaďování rodinného  pracovního živ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lepšení zaměstnanosti v regionu díky využití genderov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aktivit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loužící k dosažení výstupů - ke každému výstupu přiřadit 2-4 aktivity se zdroji dostupnými pro vytvoření výstupů; činnosti, které jsou předmětem projektu (jejich logická a časová posloupnost) - jak bude projekt realizov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Genderový audit ve firm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iskuzní kulatý stů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í interních směrnic ve firmá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stavení výsledků zaměstnancům podni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ojení Úřadu práce ČR - propagace podpory slaďování při nabízení práce a při jednání s ostatními podniky zapojenými do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pracování statistiky využívání nov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vantitativní výzkum a evaluace v regionu (firmá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 vyplnění sloupce intervenčních cílů ověř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rtikální logiku pomocí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Jestliže/Pak -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usí být uvedeny všechny faktory ovlivňující dosažení vyšší úrovně (dosažení vyšší úrovně je podmíněno splněním úrovně nižš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bjektivně ověřitelné ukazatele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jednotlivých úrovních logického rámc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Řídit lze jen to, co lze měřit (u aktivit se uvádějí ukazatelé vstupů) - co, kolik, kdy, pro koho, kde. Pro měření jedné aktivity, výsledku či výstupů, a účelu - 2-3 ukazatel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i projektech financovaných ze strukturálních fondů je dobré vycházet ze seznamu monitorovacích ukazatelů pro dané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5 firem projde genderovým auditem (počet podpořených osob 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20% zaměstnanců využije zaveden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zdroje objektivního ověření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jednotlivých úrovních logického rámce - pouze ukazatele, které je možno ověřit-- tj. validn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jsou-li jasné zdroje, je nutno v projektu učinit opatření, které povedou k jejich získání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u aktivit -- časový údaj o začátku a ukončení každé ak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ředpoklad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na jednotlivých úrovních logického rámce -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rizika přeformulovat do pozitivní podoby jako předpoklad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předpokládáme o vnějších faktorech, na něž projekt nemá vliv, ale které mohou ovlivnit jeho realizaci a dlouhodobě i jeho udržitelno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povědi jsou strukturovány podle jednotlivých úrovní Cílů, Účelů, Výstupů a Aktivit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ledním řádkem tohoto sloupce jsou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ředběžné podmín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(připravenost k realizaci), jejichž splnění podmiňuje zahájení celého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Příprava projektu a jeho schválení poskytovatelem dotace, schopný realizační tým a genderový exper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Plátno 26"/>
          <p:cNvGrpSpPr/>
          <p:nvPr/>
        </p:nvGrpSpPr>
        <p:grpSpPr>
          <a:xfrm>
            <a:off x="1187280" y="1665360"/>
            <a:ext cx="6913800" cy="3995640"/>
            <a:chOff x="1187280" y="1665360"/>
            <a:chExt cx="6913800" cy="3995640"/>
          </a:xfrm>
        </p:grpSpPr>
        <p:sp>
          <p:nvSpPr>
            <p:cNvPr id="102" name="Obdélník 30"/>
            <p:cNvSpPr/>
            <p:nvPr/>
          </p:nvSpPr>
          <p:spPr>
            <a:xfrm>
              <a:off x="1187280" y="1665360"/>
              <a:ext cx="6913800" cy="39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buClr>
                  <a:srgbClr val="143f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pic>
          <p:nvPicPr>
            <p:cNvPr id="103" name="Picture 32" descr=""/>
            <p:cNvPicPr/>
            <p:nvPr/>
          </p:nvPicPr>
          <p:blipFill>
            <a:blip r:embed="rId1"/>
            <a:stretch/>
          </p:blipFill>
          <p:spPr>
            <a:xfrm>
              <a:off x="1187280" y="1838880"/>
              <a:ext cx="6361920" cy="316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Line 33"/>
            <p:cNvSpPr/>
            <p:nvPr/>
          </p:nvSpPr>
          <p:spPr>
            <a:xfrm>
              <a:off x="2945160" y="2590920"/>
              <a:ext cx="0" cy="1680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5" name="Text Box 34"/>
            <p:cNvSpPr/>
            <p:nvPr/>
          </p:nvSpPr>
          <p:spPr>
            <a:xfrm>
              <a:off x="2462040" y="249012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6" name="Text Box 35"/>
            <p:cNvSpPr/>
            <p:nvPr/>
          </p:nvSpPr>
          <p:spPr>
            <a:xfrm>
              <a:off x="2478240" y="39819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4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7" name="Text Box 36"/>
            <p:cNvSpPr/>
            <p:nvPr/>
          </p:nvSpPr>
          <p:spPr>
            <a:xfrm>
              <a:off x="7005240" y="450288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6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8" name="Text Box 37"/>
            <p:cNvSpPr/>
            <p:nvPr/>
          </p:nvSpPr>
          <p:spPr>
            <a:xfrm>
              <a:off x="2945160" y="257184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5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9" name="Text Box 38"/>
            <p:cNvSpPr/>
            <p:nvPr/>
          </p:nvSpPr>
          <p:spPr>
            <a:xfrm>
              <a:off x="2478240" y="29397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2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0" name="Text Box 39"/>
            <p:cNvSpPr/>
            <p:nvPr/>
          </p:nvSpPr>
          <p:spPr>
            <a:xfrm>
              <a:off x="2478240" y="34401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3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1" name="Line 40"/>
            <p:cNvSpPr/>
            <p:nvPr/>
          </p:nvSpPr>
          <p:spPr>
            <a:xfrm flipH="1" flipV="1">
              <a:off x="3251880" y="4213080"/>
              <a:ext cx="3805560" cy="63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2" name="Text Box 41"/>
            <p:cNvSpPr/>
            <p:nvPr/>
          </p:nvSpPr>
          <p:spPr>
            <a:xfrm>
              <a:off x="3498480" y="326664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8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3" name="Text Box 42"/>
            <p:cNvSpPr/>
            <p:nvPr/>
          </p:nvSpPr>
          <p:spPr>
            <a:xfrm>
              <a:off x="2931480" y="490896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0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4" name="Text Box 43"/>
            <p:cNvSpPr/>
            <p:nvPr/>
          </p:nvSpPr>
          <p:spPr>
            <a:xfrm>
              <a:off x="3505320" y="274572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9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5" name="Text Box 44"/>
            <p:cNvSpPr/>
            <p:nvPr/>
          </p:nvSpPr>
          <p:spPr>
            <a:xfrm>
              <a:off x="3505320" y="37875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7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6" name="Line 45"/>
            <p:cNvSpPr/>
            <p:nvPr/>
          </p:nvSpPr>
          <p:spPr>
            <a:xfrm>
              <a:off x="3560760" y="415548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7" name="Line 46"/>
            <p:cNvSpPr/>
            <p:nvPr/>
          </p:nvSpPr>
          <p:spPr>
            <a:xfrm flipH="1" flipV="1">
              <a:off x="3498480" y="3750840"/>
              <a:ext cx="3558960" cy="404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8" name="Line 47"/>
            <p:cNvSpPr/>
            <p:nvPr/>
          </p:nvSpPr>
          <p:spPr>
            <a:xfrm>
              <a:off x="3560760" y="363456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9" name="Line 48"/>
            <p:cNvSpPr/>
            <p:nvPr/>
          </p:nvSpPr>
          <p:spPr>
            <a:xfrm flipH="1" flipV="1">
              <a:off x="3498480" y="3228480"/>
              <a:ext cx="3558960" cy="406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0" name="Line 49"/>
            <p:cNvSpPr/>
            <p:nvPr/>
          </p:nvSpPr>
          <p:spPr>
            <a:xfrm>
              <a:off x="3560760" y="311328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1" name="Line 50"/>
            <p:cNvSpPr/>
            <p:nvPr/>
          </p:nvSpPr>
          <p:spPr>
            <a:xfrm flipH="1" flipV="1">
              <a:off x="3498480" y="2707200"/>
              <a:ext cx="3558960" cy="406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2" name="Oval 51"/>
            <p:cNvSpPr/>
            <p:nvPr/>
          </p:nvSpPr>
          <p:spPr>
            <a:xfrm>
              <a:off x="1840680" y="1665360"/>
              <a:ext cx="6260400" cy="3995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45000"/>
                </a:lnSpc>
                <a:buClr>
                  <a:srgbClr val="143f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3" name="Line 52"/>
            <p:cNvSpPr/>
            <p:nvPr/>
          </p:nvSpPr>
          <p:spPr>
            <a:xfrm>
              <a:off x="4295520" y="2359800"/>
              <a:ext cx="1596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4" name="Text Box 53"/>
            <p:cNvSpPr/>
            <p:nvPr/>
          </p:nvSpPr>
          <p:spPr>
            <a:xfrm>
              <a:off x="4295520" y="233964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1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5" name="Text Box 54"/>
            <p:cNvSpPr/>
            <p:nvPr/>
          </p:nvSpPr>
          <p:spPr>
            <a:xfrm>
              <a:off x="5386320" y="233964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2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ečné čtení matice log.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Obrázek 28" descr=""/>
          <p:cNvPicPr/>
          <p:nvPr/>
        </p:nvPicPr>
        <p:blipFill>
          <a:blip r:embed="rId1"/>
          <a:srcRect l="14214" t="33060" r="12230" b="10538"/>
          <a:stretch/>
        </p:blipFill>
        <p:spPr>
          <a:xfrm>
            <a:off x="611280" y="1596960"/>
            <a:ext cx="77058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Příručka pro řízení rozvojových partnerství, Ministerstvo práce a sociálních věcí, 2008, str. 28-42. Dostupné z WWW: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http://www.equalcr.cz/files/clanky/7/Prirucka_pro_rizeni_rozvojovych_partnerstvi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CHUDOBA, Roman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Formulace projektu metodou logického rámce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eam.cz/cz/products/rp/logframe.pdf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ACKO, Branislav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etody a techniky projektovéh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ř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ízení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in Sborník vybraných kapitol z přípravy a řízení projektů. Výukový materiál z projektu Euromanažer. Krajské zařízení pro další vzdělávání pedagogických pracovníků a informační centrum, Nový Jičín, příspěvková Organ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atice logického rámce. Metodický návod tvorby a použití logického rámce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Modul III.Akreditovaný vzdělávací program Mobilní projektový inkubátor. 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artnerstvi-jmk.cz/page.php?action=detail&amp;id=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etoda logického rámce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logframe.cz/metoda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Národní ústav odborného vzdělávání.: 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Jak připravit projekty financované z evropských fondů v období 2007-2013 -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ožnosti čerpání prostředků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říprava a zpracování projektu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Konkrétní rady pro tvorbu a podávání projektu. 1. Vyd., Praha, 2008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400" spc="-1" strike="noStrike">
              <a:solidFill>
                <a:srgbClr val="d1131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forum.esfcr.cz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Princip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lavním smyslem tvorby partnerství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úzká vzájemná spolupráce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různých typů organizac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teré disponují odlišnými zkušenostmi s řešením problematiky v dané oblasti (vymezené jak regionálně, tak i tematicky) při realizaci projektu. Partneři se podílejí na fungování a naplňování cíle společného projektu, spoluúčast všech partnerů na projektu je podstatná a nezastupitelná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Český part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s finančním příspěv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bez finančního příspěv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musí patřit mezi oprávněné žadatele ve výzvě č. 7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Výjimku tvoří Úřad práce ČR, který může být partnerem, ovšem bez finančního příspěv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Ostatní organizační složky státu a jimi zřizované organizace mohou být pouze spolupracujícími organizacemi, nikoli partn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Šipka doprava 3"/>
          <p:cNvSpPr/>
          <p:nvPr/>
        </p:nvSpPr>
        <p:spPr>
          <a:xfrm>
            <a:off x="587520" y="1700280"/>
            <a:ext cx="647640" cy="369720"/>
          </a:xfrm>
          <a:prstGeom prst="rightArrow">
            <a:avLst>
              <a:gd name="adj1" fmla="val 50000"/>
              <a:gd name="adj2" fmla="val 49834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53" name="Šipka doprava 4"/>
          <p:cNvSpPr/>
          <p:nvPr/>
        </p:nvSpPr>
        <p:spPr>
          <a:xfrm>
            <a:off x="528480" y="444672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Princip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vaha právních vztahů mezi žadatelem a jeho partnery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esmí být založena na poskytování služeb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běžně dostupných na trh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Realizace principu partnerství nesmí být v rozporu s příslušnými právními předpisy ČR, zejména principu partnerství nesmí být zneužito k obcházení zákona o veřejných zakázká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Bodové zvýhodnění v rámci výzvy č. 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artnerství stejného typu subjektů – např. NNO a NNO, podnikatelský subjekt a podnikatelský subjekt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0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artnerství dvou typů subjektů – např. NNO a podnikatelský subjekt, NNO a místní samospráva, podnikatelský subjekt a místní samospráva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6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) partnerství tří a více typů subjektů – např. NNO, podnikatelský subjekt a místní samospráva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12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 jeden typ organizace jsou považovány všechny její právní for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čet partnerů není rozhodující, body jsou přiděleny na základě propojení různých typů organiza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Šipka doprava 4"/>
          <p:cNvSpPr/>
          <p:nvPr/>
        </p:nvSpPr>
        <p:spPr>
          <a:xfrm>
            <a:off x="555480" y="134136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57" name="Šipka doprava 5"/>
          <p:cNvSpPr/>
          <p:nvPr/>
        </p:nvSpPr>
        <p:spPr>
          <a:xfrm>
            <a:off x="582480" y="4941720"/>
            <a:ext cx="649440" cy="368640"/>
          </a:xfrm>
          <a:prstGeom prst="rightArrow">
            <a:avLst>
              <a:gd name="adj1" fmla="val 50000"/>
              <a:gd name="adj2" fmla="val 5011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hody, klady, příležitosti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chopnost identifikovat problémy a potřeby a vyvinout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účinné způsoby jejich řeš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Rozšíření projektových zdrojů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dovedností, znalostí, organizační kapacit, finančních zdroj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třet rozmanitých zkušeností a myšlenek –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tvůrčí řešení a ino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Mnohostranné řešení mnohostranných (komplexních) problémů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každý přispívá něčím, co ti druzí nemají, neznají nebo neum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nikatelský sektor a veřejný sektor –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ení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řejný sektor a neziskový sektor –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zájmy a potřeby li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ziskový a podnikatelský sektor –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pružnost, iniciativa, efektiv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ziskový sektor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trádá často finanční zdroje (materiál i lid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nikatelský sektor – postrádá veřejný záj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řejný sektor – postrádá podnikavost, odvahu začít, pružno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efektiv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Synergie – partneři toho spolu dokáží víc, než každý sám (1+1&lt;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Šipka doprava 5"/>
          <p:cNvSpPr/>
          <p:nvPr/>
        </p:nvSpPr>
        <p:spPr>
          <a:xfrm>
            <a:off x="539640" y="3500280"/>
            <a:ext cx="647640" cy="370080"/>
          </a:xfrm>
          <a:prstGeom prst="rightArrow">
            <a:avLst>
              <a:gd name="adj1" fmla="val 50000"/>
              <a:gd name="adj2" fmla="val 49786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61" name="Šipka doprava 4"/>
          <p:cNvSpPr/>
          <p:nvPr/>
        </p:nvSpPr>
        <p:spPr>
          <a:xfrm>
            <a:off x="539640" y="4446720"/>
            <a:ext cx="647640" cy="369720"/>
          </a:xfrm>
          <a:prstGeom prst="rightArrow">
            <a:avLst>
              <a:gd name="adj1" fmla="val 50000"/>
              <a:gd name="adj2" fmla="val 49834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výhody, zápory, rizika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íc partnerů = víc lidí = více pohledů na věc </a:t>
            </a: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→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íce času a úsilí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třebného k přesvědčení ostatních, k dosažení konsensu a k přijetí rozhodnu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íjemce si nemůže dělat vše jen dle svého – musí brát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hledy na partn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polupráce postavena na jasném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mluvním a právním základě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jeden z partnerů má konečnou zodpovědnost za proj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artnerství vyžaduje řízení a s tím i dobré komunikační doved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Invalidní partnerství – partnerství bez reálné rovnoprávnosti, bez podílu na rozhodování či bez dostatečné informovanosti některých čle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Pozor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!!!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na partnery, kteří jsou neužiteční, mají nevhodné cíle, nebo chtějí ostatní jen využít. Do projektu nic nepřináší – peníze, know how či lidské zdroje, ale chtějí pouze „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moci s realizac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“ jakožto dodavatel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ít či nemít partnera? Pokud ano, ko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ůležité otáz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partneři do projektu přines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sou uznatelní v rámci výzv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á bude partnerova úloha v projekt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ý bude jejich závazek, jak ho přijmou a jak ho napln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 logicky do sebe zapadají jednotlivé úlohy partnerů? – nejsou někde mezery? Nedublují se určité aktivity? Existují třecí plochy, konflikt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i přípravě partnerského projek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lze ušetřit čas – je třeba mnoho setkání, diskuzí či alespoň e-mai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jistit rovnost účastníků – každý by měl něčím přispět – silnější identifikace s projek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e opravdu společná ochota podílet se na získávání a využívání společných finančních prostředků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Metoda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Hodnotí se použití metody logického rámce, která umožňuje navržení a uspořádání základních charakteristik projektu ve vzájemných souvislos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nitřní logika projektu prokázaná v matici logického rámce, je založena na princip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íčiny a důsled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hora dolů: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Aby – Je třeb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zdola nahoru: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Jestliže – P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V Jestliže/Pak testu mus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být uvedeny všechny faktory ovlivňující dosažení vyšší úrovně (dosažení vyšší úrovně je podmíněno splněním nižší úrovn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vedeme ty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Aktivity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sáhneme těch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ů a výsledků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me dosáhli těch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ů a výsledků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lze očekávat tu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změn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(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Účel projektu)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me splnili ten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Účel projektu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jsme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ispěli k naplnění toho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becného cí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brý projekt má zvolené monitorovací ukazatele přiměřené a realistické, cíle jsou vždy kvantifikované a stanovené cílové hodnoty jsou dosažitelné (z hlediska času a rozpočtu) a vedou k měřitelným dopadů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předložení LR -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0 bodů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ložení LR –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3 bod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Šipka doprava 5"/>
          <p:cNvSpPr/>
          <p:nvPr/>
        </p:nvSpPr>
        <p:spPr>
          <a:xfrm>
            <a:off x="520560" y="36450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69" name="Šipka doprava 5"/>
          <p:cNvSpPr/>
          <p:nvPr/>
        </p:nvSpPr>
        <p:spPr>
          <a:xfrm>
            <a:off x="500040" y="2698920"/>
            <a:ext cx="647640" cy="36828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Metoda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116000" y="1468440"/>
            <a:ext cx="77040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403280" y="1663560"/>
          <a:ext cx="7201080" cy="4359240"/>
        </p:xfrm>
        <a:graphic>
          <a:graphicData uri="http://schemas.openxmlformats.org/drawingml/2006/table">
            <a:tbl>
              <a:tblPr/>
              <a:tblGrid>
                <a:gridCol w="1800360"/>
                <a:gridCol w="1800000"/>
                <a:gridCol w="1800360"/>
                <a:gridCol w="1800360"/>
              </a:tblGrid>
              <a:tr h="13114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intervenční logika (strom cílů)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Velmi obecné proč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ktivně měřitelné ukazatele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zdroje a prostředky k ověření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vnější předpoklady a rizika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čel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Proč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Co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ity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Jak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73" name="Zahnutá šipka doleva 8"/>
          <p:cNvSpPr/>
          <p:nvPr/>
        </p:nvSpPr>
        <p:spPr>
          <a:xfrm>
            <a:off x="3008160" y="3687840"/>
            <a:ext cx="601920" cy="86364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480 h 863640"/>
              <a:gd name="textAreaBottom" fmla="*/ 6289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4" name="Zahnutá šipka doleva 10"/>
          <p:cNvSpPr/>
          <p:nvPr/>
        </p:nvSpPr>
        <p:spPr>
          <a:xfrm>
            <a:off x="3008160" y="2708280"/>
            <a:ext cx="601920" cy="86508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480 h 865080"/>
              <a:gd name="textAreaBottom" fmla="*/ 63000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5" name="Zahnutá šipka doleva 11"/>
          <p:cNvSpPr/>
          <p:nvPr/>
        </p:nvSpPr>
        <p:spPr>
          <a:xfrm>
            <a:off x="3008160" y="4724280"/>
            <a:ext cx="601920" cy="86544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840 h 865440"/>
              <a:gd name="textAreaBottom" fmla="*/ 63036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6" name="Zahnutá šipka doprava 7"/>
          <p:cNvSpPr/>
          <p:nvPr/>
        </p:nvSpPr>
        <p:spPr>
          <a:xfrm>
            <a:off x="395280" y="4653000"/>
            <a:ext cx="360360" cy="792000"/>
          </a:xfrm>
          <a:custGeom>
            <a:avLst/>
            <a:gdLst>
              <a:gd name="textAreaLeft" fmla="*/ 48240 w 360360"/>
              <a:gd name="textAreaRight" fmla="*/ 312120 w 360360"/>
              <a:gd name="textAreaTop" fmla="*/ 164160 h 792000"/>
              <a:gd name="textAreaBottom" fmla="*/ 58284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59" stAng="-5400000" swAng="-5400000"/>
                <a:lnTo>
                  <a:pt x="0" y="11414"/>
                </a:lnTo>
                <a:arcTo wR="21600" hR="8959" stAng="10800000" swAng="-3485831"/>
                <a:lnTo>
                  <a:pt x="16200" y="21316"/>
                </a:lnTo>
                <a:lnTo>
                  <a:pt x="21600" y="19146"/>
                </a:lnTo>
                <a:lnTo>
                  <a:pt x="16200" y="16407"/>
                </a:lnTo>
                <a:lnTo>
                  <a:pt x="16200" y="17634"/>
                </a:lnTo>
                <a:arcTo wR="21600" hR="8959" stAng="7314169" swAng="3288825"/>
                <a:lnTo>
                  <a:pt x="204" y="10187"/>
                </a:lnTo>
                <a:arcTo wR="21600" hR="8959" stAng="-10602993" swAng="5202993"/>
                <a:close/>
              </a:path>
              <a:path fill="darkenLess" w="21600" h="21600">
                <a:moveTo>
                  <a:pt x="21600" y="0"/>
                </a:moveTo>
                <a:arcTo wR="21600" hR="8959" stAng="-5400000" swAng="-5400000"/>
                <a:lnTo>
                  <a:pt x="0" y="8959"/>
                </a:lnTo>
                <a:arcTo wR="21600" hR="8959" stAng="10800000" swAng="-197007"/>
                <a:lnTo>
                  <a:pt x="204" y="10187"/>
                </a:lnTo>
                <a:arcTo wR="21600" hR="8959" stAng="-10602993" swAng="5202993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7" name="Zahnutá šipka nahoru 12"/>
          <p:cNvSpPr/>
          <p:nvPr/>
        </p:nvSpPr>
        <p:spPr>
          <a:xfrm>
            <a:off x="395280" y="4653000"/>
            <a:ext cx="549360" cy="647640"/>
          </a:xfrm>
          <a:custGeom>
            <a:avLst/>
            <a:gdLst>
              <a:gd name="textAreaLeft" fmla="*/ 85680 w 549360"/>
              <a:gd name="textAreaRight" fmla="*/ 394920 w 54936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3313283"/>
                <a:lnTo>
                  <a:pt x="21446" y="4581"/>
                </a:lnTo>
                <a:lnTo>
                  <a:pt x="16200" y="0"/>
                </a:lnTo>
                <a:lnTo>
                  <a:pt x="10646" y="4581"/>
                </a:lnTo>
                <a:lnTo>
                  <a:pt x="13346" y="4581"/>
                </a:lnTo>
                <a:arcTo wR="6750" hR="21600" stAng="2086717" swAng="2847297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8" name="AutoShape 44"/>
          <p:cNvSpPr/>
          <p:nvPr/>
        </p:nvSpPr>
        <p:spPr>
          <a:xfrm flipH="1" flipV="1">
            <a:off x="1151640" y="4579200"/>
            <a:ext cx="436680" cy="865080"/>
          </a:xfrm>
          <a:custGeom>
            <a:avLst/>
            <a:gdLst>
              <a:gd name="textAreaLeft" fmla="*/ 58320 w 436680"/>
              <a:gd name="textAreaRight" fmla="*/ 378360 w 43668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9" name="AutoShape 44"/>
          <p:cNvSpPr/>
          <p:nvPr/>
        </p:nvSpPr>
        <p:spPr>
          <a:xfrm flipH="1" flipV="1">
            <a:off x="1162800" y="2482200"/>
            <a:ext cx="436680" cy="865080"/>
          </a:xfrm>
          <a:custGeom>
            <a:avLst/>
            <a:gdLst>
              <a:gd name="textAreaLeft" fmla="*/ 58320 w 436680"/>
              <a:gd name="textAreaRight" fmla="*/ 378360 w 43668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0" name="AutoShape 44"/>
          <p:cNvSpPr/>
          <p:nvPr/>
        </p:nvSpPr>
        <p:spPr>
          <a:xfrm flipH="1" flipV="1">
            <a:off x="1162800" y="3539520"/>
            <a:ext cx="438120" cy="865080"/>
          </a:xfrm>
          <a:custGeom>
            <a:avLst/>
            <a:gdLst>
              <a:gd name="textAreaLeft" fmla="*/ 58680 w 438120"/>
              <a:gd name="textAreaRight" fmla="*/ 379440 w 43812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1" name="TextovéPole 14"/>
          <p:cNvSpPr/>
          <p:nvPr/>
        </p:nvSpPr>
        <p:spPr>
          <a:xfrm>
            <a:off x="3708360" y="3348000"/>
            <a:ext cx="144000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Aby 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Je třeba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2" name="TextovéPole 19"/>
          <p:cNvSpPr/>
          <p:nvPr/>
        </p:nvSpPr>
        <p:spPr>
          <a:xfrm>
            <a:off x="-19080" y="4863960"/>
            <a:ext cx="133344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ak 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Jestliže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becný (hlavní) cíl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 jehož naplnění projekt přispěje; cíl, k jehož dosažení je projekt jen jednou z podmínek; důvod realizace ve spojení s prioritami v operačních programech (či programových dodatcíc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Uvádíme, k dosažení jakého cíle přispějeme, jestliže splníme účel, pro který    jsme se do projektu pouštěli. Hlavní cíl v logickém rámci by měl odpovídat hlavnímu cíli v daném opatření 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TANOVÉNÍ OBECNÉHO CÍLE - CO CHCEME DOSÁHNOU    OBECNĚ, JESTLIŽE SPLNÍME ÚČ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 oblast podpory 3. 4 je obecným cílem podpora Rovných příležitostí žen a mužů na trhu práce a slaďování pracovního a rodinného živo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lepšení slaďování rodinného a pracovního života (v regionu XY, v MS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Šipka doprava 5"/>
          <p:cNvSpPr/>
          <p:nvPr/>
        </p:nvSpPr>
        <p:spPr>
          <a:xfrm>
            <a:off x="493560" y="35892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6" name="Šipka doprava 5"/>
          <p:cNvSpPr/>
          <p:nvPr/>
        </p:nvSpPr>
        <p:spPr>
          <a:xfrm>
            <a:off x="493560" y="56610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Labajová Zuzana, Mgr. (MPSV)</cp:lastModifiedBy>
  <dcterms:modified xsi:type="dcterms:W3CDTF">2011-06-17T12:58:40Z</dcterms:modified>
  <cp:revision>1010</cp:revision>
  <dc:subject/>
  <dc:title>Snímek 1</dc:title>
</cp:coreProperties>
</file>