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41F5-F09A-4C8A-8DB0-0E4FA37BFA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A378-E990-4020-AD6B-9994F09AF4F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8DDC-5A1F-42A4-B1E8-52E082C45F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345A-B445-4AD1-9E8D-BF3D62F2D1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7ECE-FDEE-4904-8237-0949F4049C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C79E-E1CE-4046-BEF8-708C3A3EEC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6EAF-409A-497E-95B9-570A290AB7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F52C-1AC2-4572-941D-D6FD7E605B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0AA3-BFFC-4422-9679-03D0766157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168-C866-49E0-B100-3F490296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EFB-2DE4-413E-A1CD-B4E56385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BCB-59FE-4FCB-A9CC-96DFEB28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9BC-0119-4159-8E74-1E7E0C96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5FE-4E2F-480E-9937-06FAC640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DD1-0A9C-44EE-B485-8D45F8C7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4DA-E481-4AF1-8E8F-34C96878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CDDE-8113-4E54-818A-5D676B78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085-8F54-47E5-B1A9-6B05BA81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CCC-7560-494D-9DC8-02FD55FB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F61-4AD8-4829-9911-DE37A3B1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56D-334F-493C-BAD8-350F635A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EBD2-FC7A-4058-9851-BB4CB0F29C0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600" spc="-1" strike="noStrike">
              <a:solidFill>
                <a:srgbClr val="d113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32000" y="1125360"/>
            <a:ext cx="48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358920" y="1197000"/>
            <a:ext cx="3673440" cy="432108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395280" y="2384280"/>
            <a:ext cx="3456000" cy="324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280"/>
            <a:ext cx="44643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soby žadate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a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piš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4000" y="1376280"/>
            <a:ext cx="386244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 všechny KA projektu 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29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jenom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ráce a slaďování pracovního a rodinného života (č. 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503280" y="5189400"/>
            <a:ext cx="781380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76 složen ze dvou možno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2"/>
          <p:cNvSpPr/>
          <p:nvPr/>
        </p:nvSpPr>
        <p:spPr>
          <a:xfrm flipV="1">
            <a:off x="4102200" y="3409920"/>
            <a:ext cx="1225440" cy="4334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5327640" y="3209760"/>
            <a:ext cx="2533680" cy="4003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3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08000" y="1341000"/>
            <a:ext cx="42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 výzvě č.76 je uveden seznam povinných příloh, které musí být součástí předložené žádosti o finanční podpor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vinná příloh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ro výzvu č.76 je pouze jed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001) 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395280" y="1015920"/>
            <a:ext cx="4175280" cy="50770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431640" y="1449360"/>
            <a:ext cx="28130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2920" y="1591920"/>
            <a:ext cx="4141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 Následující odstávka aplikací bude 1.7.2011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6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1643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324000" y="981000"/>
          <a:ext cx="7524720" cy="512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81000"/>
                    <a:ext cx="75247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"/>
          <p:cNvSpPr/>
          <p:nvPr/>
        </p:nvSpPr>
        <p:spPr>
          <a:xfrm>
            <a:off x="6408720" y="393372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1233360" y="4464000"/>
            <a:ext cx="6820200" cy="333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vzhledem k provázanosti záložek, vyplňovat záložky v takovém 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d 1. 3. 2011 došlo ke změně zál.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Výběrová ř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etaily k VŘ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kument naleznete v Pokynech řídícího orgánu. Změna není popsána v D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68360" y="1015920"/>
            <a:ext cx="2124000" cy="517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Kopečná Janka, Ing. (MPSV)</cp:lastModifiedBy>
  <cp:lastPrinted>2008-07-08T14:49:10Z</cp:lastPrinted>
  <dcterms:modified xsi:type="dcterms:W3CDTF">2011-06-06T10:21:44Z</dcterms:modified>
  <cp:revision>714</cp:revision>
  <dc:subject/>
  <dc:title>Projektový manažer OP LZZ v M7+</dc:title>
</cp:coreProperties>
</file>