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4120"/>
            <a:ext cx="49622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D92FC-55DD-47A6-8A5B-9E6C8E7AF20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177EE-8F1E-4247-8E4A-037CC9AAC35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355760" y="566640"/>
            <a:ext cx="4073400" cy="30560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26640" y="4381200"/>
            <a:ext cx="493884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ové pole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Skutečná cena VŘ po podpisu smlouvy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. Částka bude z pole u dodatku VŘ automaticky doplněna do nových polí, pokud bude u VŘ pouze jeden dodavatel. Pokud bude více dodavatelů, příjemce bude vyplňovat pole na záložce Detaily k VŘ ručně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90684-2C94-4A68-A6BA-681706187A3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794F8-6816-4162-85E8-9AFC3A154E4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07A8E-D70E-4D41-B253-F90A531500D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339920" y="547560"/>
            <a:ext cx="4108320" cy="3083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F0C56-1E04-4995-85F8-F0FCC735D05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339920" y="547560"/>
            <a:ext cx="4108320" cy="30830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0760" y="3673440"/>
            <a:ext cx="5435640" cy="55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F434F-0303-4DAA-82F7-882BA6AF3FE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355760" y="566640"/>
            <a:ext cx="4073400" cy="30560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26640" y="4381200"/>
            <a:ext cx="493884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5C8E-ABF2-45E5-9C3F-8D1170401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171E-5A82-4079-A681-76E241C36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71B5-B626-48E0-81A8-F34363954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105B-15DA-4ADC-8CC1-A0A8F22CE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F325-F140-47EA-A847-AFF00B706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BC4A-2C64-415C-AF63-3CC9A524B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8A73-502D-4B67-A45D-BBA208838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2A95-52AB-4B01-886B-CA66EF28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D424-0518-4E5B-8FF7-F3781D0C0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3953-8F5E-4844-80EA-6E1E9BF5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47AB-CFE1-4D3F-9ECA-CC85EFEC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52DA-1C5B-4D86-B2D5-85EDE78A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CB65A-B68E-4C3A-A344-638473EB5D6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www.eu-zadost.cz/zadost.aspx?zalozka=BN7SAB_RLZ_IP_188" TargetMode="External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-zadost.cz/" TargetMode="External"/><Relationship Id="rId2" Type="http://schemas.openxmlformats.org/officeDocument/2006/relationships/hyperlink" Target="http://www.eu-zadost.eu/" TargetMode="External"/><Relationship Id="rId3" Type="http://schemas.openxmlformats.org/officeDocument/2006/relationships/hyperlink" Target="mailto:benefit7@mpsv.cz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sfcr.cz/" TargetMode="External"/><Relationship Id="rId2" Type="http://schemas.openxmlformats.org/officeDocument/2006/relationships/hyperlink" Target="http://www.eu-zadost.cz/" TargetMode="Externa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47.pn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mailto:benefit7@mpsv.cz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772400" cy="20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2000"/>
            </a:b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Vyplňování monitorovací zprávy a žádosti o platbu v Benefit7</a:t>
            </a:r>
            <a:br>
              <a:rPr sz="36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technická část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o projektu a MZ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56000" y="1341360"/>
            <a:ext cx="4608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Tlačítko                                          slouží k načtení dílčích dat do MZ z IS Monit7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Je vhodné ho použít, </a:t>
            </a:r>
            <a:r>
              <a:rPr b="1" lang="cs-CZ" sz="1800" spc="-1" strike="noStrike" u="sng">
                <a:solidFill>
                  <a:srgbClr val="0d3673"/>
                </a:solidFill>
                <a:uFillTx/>
                <a:latin typeface="Arial"/>
              </a:rPr>
              <a:t>pokud došlo k opravě údajů v Monit7+ během psaní MZ</a:t>
            </a: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 (ze strany poskytovatele podpory/administrátora) a není potřeba načítat všechna data, ale pouze konkrétní záložku, na které byla provedena oprava / úpra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Konkrétní oblast dat vyberete pomocí zatržení checkboxu, a poté tlačítkem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Spustit</a:t>
            </a: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 provedete aktualizaci dat z Monit7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6699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66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2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2324160" cy="257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3" descr=""/>
          <p:cNvPicPr/>
          <p:nvPr/>
        </p:nvPicPr>
        <p:blipFill>
          <a:blip r:embed="rId2"/>
          <a:stretch/>
        </p:blipFill>
        <p:spPr>
          <a:xfrm>
            <a:off x="5734080" y="1397160"/>
            <a:ext cx="232416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Obdélník 1"/>
          <p:cNvSpPr/>
          <p:nvPr/>
        </p:nvSpPr>
        <p:spPr>
          <a:xfrm>
            <a:off x="539640" y="1268280"/>
            <a:ext cx="2324160" cy="316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5" descr=""/>
          <p:cNvPicPr/>
          <p:nvPr/>
        </p:nvPicPr>
        <p:blipFill>
          <a:blip r:embed="rId3"/>
          <a:stretch/>
        </p:blipFill>
        <p:spPr>
          <a:xfrm>
            <a:off x="530280" y="1654200"/>
            <a:ext cx="3305160" cy="4962600"/>
          </a:xfrm>
          <a:prstGeom prst="rect">
            <a:avLst/>
          </a:prstGeom>
          <a:ln w="0">
            <a:noFill/>
          </a:ln>
        </p:spPr>
      </p:pic>
      <p:cxnSp>
        <p:nvCxnSpPr>
          <p:cNvPr id="85" name="Přímá spojnice se šipkou 4"/>
          <p:cNvCxnSpPr>
            <a:stCxn id="86" idx="2"/>
          </p:cNvCxnSpPr>
          <p:nvPr/>
        </p:nvCxnSpPr>
        <p:spPr>
          <a:xfrm flipH="1">
            <a:off x="1186920" y="3357360"/>
            <a:ext cx="1945440" cy="2951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6" name="Obdélník 5"/>
          <p:cNvSpPr/>
          <p:nvPr/>
        </p:nvSpPr>
        <p:spPr>
          <a:xfrm>
            <a:off x="2987640" y="3068640"/>
            <a:ext cx="289080" cy="2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bdélník 11"/>
          <p:cNvSpPr/>
          <p:nvPr/>
        </p:nvSpPr>
        <p:spPr>
          <a:xfrm>
            <a:off x="530280" y="6308640"/>
            <a:ext cx="657000" cy="308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 o projektu a MZ (I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787640" y="980640"/>
            <a:ext cx="421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Dále vyplníte následující povinná pol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ředkládané datum předložení ŘO/ZS 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- vyplňte datum, kdy bude MZ podána </a:t>
            </a:r>
            <a:r>
              <a:rPr b="0" i="1" lang="cs-CZ" sz="1500" spc="-1" strike="noStrike">
                <a:solidFill>
                  <a:srgbClr val="143f7e"/>
                </a:solidFill>
                <a:latin typeface="Arial"/>
              </a:rPr>
              <a:t>(např. 29.02.2012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lán výdajů za příští období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uveďte předpokládanou částku výdajů na další monitorovací období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Skutečnost výdajů za uplynulé období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uveďte skutečně vynaložené celkové výdaje za poslední monitorovací období, kdy vyplňujete tuto monitorovací zprávu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Zatržením příslušného checkboxu se  zpřístupní k editaci odpovídající záložk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 případě, kdy příjemce bude potřebovat přepracovat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rozpočet projektu, harmonogram realizace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projektu nebo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realizační tým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, musí zatrhnout příslušný checkbox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 případě, že Vám bude MZ vrácena k přepracování/zamítnutá, v poli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 Důvody k vrácení/zamítnutí MZ/ výhrady ke schválení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nalezne příjemce zdůvodnění proč se tak stalo. Informace se načte z Monit7+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26600" y="2247840"/>
            <a:ext cx="397044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9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4537080" cy="3024000"/>
          </a:xfrm>
          <a:prstGeom prst="rect">
            <a:avLst/>
          </a:prstGeom>
          <a:ln w="0">
            <a:noFill/>
          </a:ln>
        </p:spPr>
      </p:pic>
      <p:sp>
        <p:nvSpPr>
          <p:cNvPr id="92" name="Obdélník 1"/>
          <p:cNvSpPr/>
          <p:nvPr/>
        </p:nvSpPr>
        <p:spPr>
          <a:xfrm>
            <a:off x="250920" y="1773360"/>
            <a:ext cx="180000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Zaoblený obdélník 2"/>
          <p:cNvSpPr/>
          <p:nvPr/>
        </p:nvSpPr>
        <p:spPr>
          <a:xfrm>
            <a:off x="250920" y="2708280"/>
            <a:ext cx="1800000" cy="865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bdélník 3"/>
          <p:cNvSpPr/>
          <p:nvPr/>
        </p:nvSpPr>
        <p:spPr>
          <a:xfrm>
            <a:off x="250920" y="3789360"/>
            <a:ext cx="4537080" cy="792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diká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0" y="1125360"/>
            <a:ext cx="4464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záložka slouží k průběžnému vykazování indikátorů v rámci realizovaných aktivit projekt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Dosažená hodnota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bude příjemce vyplňovat hodnoty, kterých bylo dosaženo v rámci realizace projektu v posledním monitorovacím (sledovaném) období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 vyplnění dosažené hodnoty se zpovinní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Datum dosažené hodnot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 Pole se vyplní automatick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oli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opis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popište dosažení indikátoru v daném sledovaném obdob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Hodnoty se uvádějí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KUMULATIVNĚ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tedy souhrnně za sledované období od počátku projektu do konce příslušného monitorovacího období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, že je v rámci projektu MI nerelevantní, zatrhněte checkbox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erelevantní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ro automatické doplnění pole Nerelevantní u nesledovaných indikátorů lze použít tlačítko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Zatrhni nerelevantní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2" descr=""/>
          <p:cNvPicPr/>
          <p:nvPr/>
        </p:nvPicPr>
        <p:blipFill>
          <a:blip r:embed="rId1"/>
          <a:stretch/>
        </p:blipFill>
        <p:spPr>
          <a:xfrm>
            <a:off x="108000" y="1052640"/>
            <a:ext cx="4498920" cy="5184720"/>
          </a:xfrm>
          <a:prstGeom prst="rect">
            <a:avLst/>
          </a:prstGeom>
          <a:ln w="0">
            <a:noFill/>
          </a:ln>
        </p:spPr>
      </p:pic>
      <p:sp>
        <p:nvSpPr>
          <p:cNvPr id="98" name="Obdélník 2"/>
          <p:cNvSpPr/>
          <p:nvPr/>
        </p:nvSpPr>
        <p:spPr>
          <a:xfrm>
            <a:off x="108000" y="1989000"/>
            <a:ext cx="4498920" cy="287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Přímá spojnice se šipkou 6"/>
          <p:cNvCxnSpPr/>
          <p:nvPr/>
        </p:nvCxnSpPr>
        <p:spPr>
          <a:xfrm flipH="1">
            <a:off x="2626920" y="2276640"/>
            <a:ext cx="289440" cy="2232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0" name="Obdélník 7"/>
          <p:cNvSpPr/>
          <p:nvPr/>
        </p:nvSpPr>
        <p:spPr>
          <a:xfrm>
            <a:off x="1835280" y="4508640"/>
            <a:ext cx="1224000" cy="288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bdélník 8"/>
          <p:cNvSpPr/>
          <p:nvPr/>
        </p:nvSpPr>
        <p:spPr>
          <a:xfrm>
            <a:off x="3419640" y="4797360"/>
            <a:ext cx="720720" cy="28728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bdélník 9"/>
          <p:cNvSpPr/>
          <p:nvPr/>
        </p:nvSpPr>
        <p:spPr>
          <a:xfrm>
            <a:off x="2448000" y="3500280"/>
            <a:ext cx="1116000" cy="28908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Přímá spojnice se šipkou 11"/>
          <p:cNvCxnSpPr/>
          <p:nvPr/>
        </p:nvCxnSpPr>
        <p:spPr>
          <a:xfrm flipH="1" flipV="1">
            <a:off x="3419280" y="3789360"/>
            <a:ext cx="1584720" cy="1440360"/>
          </a:xfrm>
          <a:prstGeom prst="straightConnector1">
            <a:avLst/>
          </a:prstGeom>
          <a:ln w="19080">
            <a:solidFill>
              <a:srgbClr val="92d05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ýběrová ří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00400" y="692280"/>
            <a:ext cx="41828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V případě, že příjemce v žádosti o finanční podporu uvedl, že plánuje, či již má vyhlášené výběrové řízení, se tato informace automaticky přenese do MZ na záložku </a:t>
            </a:r>
            <a:r>
              <a:rPr b="1" lang="cs-CZ" sz="1600" spc="-1" strike="noStrike">
                <a:solidFill>
                  <a:srgbClr val="144c7e"/>
                </a:solidFill>
                <a:latin typeface="Arial"/>
              </a:rPr>
              <a:t>Výběrová řízení</a:t>
            </a: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Příjemce doplní a popíše změnu v procesu vyhlášení nebo realizace VŘ za sledované obdob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Pro založení nového VŘ použijte tlačítko </a:t>
            </a:r>
            <a:r>
              <a:rPr b="1" lang="cs-CZ" sz="1600" spc="-1" strike="noStrike">
                <a:solidFill>
                  <a:srgbClr val="144c7e"/>
                </a:solidFill>
                <a:latin typeface="Arial"/>
              </a:rPr>
              <a:t>Nový záznam</a:t>
            </a: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U některých druhů VŘ se zpovinní pole a automaticky zatrhne checkbox Vybrá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Podrobný návod k vyplnění naleznete v Pokynech řídícího orgánu v Benefit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374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d3673"/>
                </a:solidFill>
                <a:latin typeface="Arial"/>
              </a:rPr>
              <a:t>Nové pole </a:t>
            </a:r>
            <a:r>
              <a:rPr b="1" lang="cs-CZ" sz="1500" spc="-1" strike="noStrike">
                <a:solidFill>
                  <a:srgbClr val="0d3673"/>
                </a:solidFill>
                <a:latin typeface="Arial"/>
              </a:rPr>
              <a:t>Skutečná cena VŘ po podpisu smlouvy</a:t>
            </a:r>
            <a:r>
              <a:rPr b="0" lang="cs-CZ" sz="1500" spc="-1" strike="noStrike">
                <a:solidFill>
                  <a:srgbClr val="0d3673"/>
                </a:solidFill>
                <a:latin typeface="Arial"/>
              </a:rPr>
              <a:t>. Částka bude z pole</a:t>
            </a:r>
            <a:r>
              <a:rPr b="0" lang="en-US" sz="15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0" lang="cs-CZ" sz="1500" spc="-1" strike="noStrike">
                <a:solidFill>
                  <a:srgbClr val="0d3673"/>
                </a:solidFill>
                <a:latin typeface="Arial"/>
              </a:rPr>
              <a:t>u dodatku VŘ automaticky doplněna, pokud bude u VŘ pouze jeden dodavatel. Pokud bude více dodavatelů, příjemce bude vyplňovat pole na záložce Detaily k VŘ ručně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9" descr=""/>
          <p:cNvPicPr/>
          <p:nvPr/>
        </p:nvPicPr>
        <p:blipFill>
          <a:blip r:embed="rId1"/>
          <a:stretch/>
        </p:blipFill>
        <p:spPr>
          <a:xfrm>
            <a:off x="108000" y="1341360"/>
            <a:ext cx="4824360" cy="4967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2"/>
          <a:stretch/>
        </p:blipFill>
        <p:spPr>
          <a:xfrm>
            <a:off x="135000" y="998640"/>
            <a:ext cx="2181240" cy="342720"/>
          </a:xfrm>
          <a:prstGeom prst="rect">
            <a:avLst/>
          </a:prstGeom>
          <a:ln w="0">
            <a:noFill/>
          </a:ln>
        </p:spPr>
      </p:pic>
      <p:sp>
        <p:nvSpPr>
          <p:cNvPr id="108" name="Obdélník 1"/>
          <p:cNvSpPr/>
          <p:nvPr/>
        </p:nvSpPr>
        <p:spPr>
          <a:xfrm>
            <a:off x="135000" y="1052640"/>
            <a:ext cx="720720" cy="171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odavatelé k V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64000" y="1196640"/>
            <a:ext cx="3600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a zál.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odavatelé k VŘ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 je třeba vybrat Stát dodavate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Zaktivní se pole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IČ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, provedete validaci IČ a údaje o Názvu dodavatele a HPF dodavatele se načtou z registru ROS, pole je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povinné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říjemce doplní a popíše změnu v procesu vyhlášení nebo realizace V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kud máte v ukončeném VŘ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více dodavatelů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, je potřeba postupně každého dodavatele založit pomocí tlačítka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Nový záznam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9" descr=""/>
          <p:cNvPicPr/>
          <p:nvPr/>
        </p:nvPicPr>
        <p:blipFill>
          <a:blip r:embed="rId2"/>
          <a:stretch/>
        </p:blipFill>
        <p:spPr>
          <a:xfrm>
            <a:off x="108000" y="851040"/>
            <a:ext cx="5124240" cy="3384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"/>
          <p:cNvPicPr/>
          <p:nvPr/>
        </p:nvPicPr>
        <p:blipFill>
          <a:blip r:embed="rId3"/>
          <a:stretch/>
        </p:blipFill>
        <p:spPr>
          <a:xfrm>
            <a:off x="136440" y="4219560"/>
            <a:ext cx="5343480" cy="2343240"/>
          </a:xfrm>
          <a:prstGeom prst="rect">
            <a:avLst/>
          </a:prstGeom>
          <a:ln w="0">
            <a:noFill/>
          </a:ln>
        </p:spPr>
      </p:pic>
      <p:sp>
        <p:nvSpPr>
          <p:cNvPr id="113" name="Obdélník 2"/>
          <p:cNvSpPr/>
          <p:nvPr/>
        </p:nvSpPr>
        <p:spPr>
          <a:xfrm>
            <a:off x="108000" y="3860640"/>
            <a:ext cx="2160360" cy="374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108000" y="4219560"/>
            <a:ext cx="2303280" cy="361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Přímá spojnice se šipkou 5"/>
          <p:cNvCxnSpPr>
            <a:stCxn id="114" idx="2"/>
          </p:cNvCxnSpPr>
          <p:nvPr/>
        </p:nvCxnSpPr>
        <p:spPr>
          <a:xfrm flipH="1">
            <a:off x="684000" y="4581360"/>
            <a:ext cx="575280" cy="9360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6" name="Obdélník 6"/>
          <p:cNvSpPr/>
          <p:nvPr/>
        </p:nvSpPr>
        <p:spPr>
          <a:xfrm>
            <a:off x="209520" y="5511960"/>
            <a:ext cx="104940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bdélník 7"/>
          <p:cNvSpPr/>
          <p:nvPr/>
        </p:nvSpPr>
        <p:spPr>
          <a:xfrm>
            <a:off x="108000" y="2637000"/>
            <a:ext cx="62712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Přímá spojnice se šipkou 9"/>
          <p:cNvCxnSpPr/>
          <p:nvPr/>
        </p:nvCxnSpPr>
        <p:spPr>
          <a:xfrm>
            <a:off x="539280" y="2923920"/>
            <a:ext cx="72360" cy="937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Adresa dodavatele V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47574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Nová záložka od 2. 7. 201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Pro </a:t>
            </a:r>
            <a:r>
              <a:rPr b="1" lang="cs-CZ" sz="1600" spc="-1" strike="noStrike">
                <a:solidFill>
                  <a:srgbClr val="0d3673"/>
                </a:solidFill>
                <a:latin typeface="Arial"/>
              </a:rPr>
              <a:t>zahraničního dodavatele </a:t>
            </a: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je nutné vyplnit jeho adres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1"/>
          <a:stretch/>
        </p:blipFill>
        <p:spPr>
          <a:xfrm>
            <a:off x="1135080" y="907920"/>
            <a:ext cx="667692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etaily k VŘ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292720" y="981000"/>
            <a:ext cx="35272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V rámci </a:t>
            </a:r>
            <a:r>
              <a:rPr b="1" lang="cs-CZ" sz="2000" spc="-1" strike="noStrike" u="sng">
                <a:solidFill>
                  <a:srgbClr val="144c7e"/>
                </a:solidFill>
                <a:uFillTx/>
                <a:latin typeface="Arial"/>
              </a:rPr>
              <a:t>ukončených a nenaplněných 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výběrových řízení je povinné vybrat jednoho nebo více dodavatelů a ke každému z nich uvést </a:t>
            </a:r>
            <a:r>
              <a:rPr b="1" lang="cs-CZ" sz="2000" spc="-1" strike="noStrike">
                <a:solidFill>
                  <a:srgbClr val="144c7e"/>
                </a:solidFill>
                <a:latin typeface="Arial"/>
              </a:rPr>
              <a:t>Nasmlouvanou cenu v Kč bez DPH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Dodavatele aktivujete kliknutím na vybranou organizaci myší a následně jej přesunete zleva doprava pomocí </a:t>
            </a:r>
            <a:r>
              <a:rPr b="1" lang="cs-CZ" sz="2000" spc="-1" strike="noStrike">
                <a:solidFill>
                  <a:srgbClr val="144c7e"/>
                </a:solidFill>
                <a:latin typeface="Arial"/>
              </a:rPr>
              <a:t>&gt;&gt; </a:t>
            </a:r>
            <a:r>
              <a:rPr b="0" i="1" lang="cs-CZ" sz="2000" spc="-1" strike="noStrike">
                <a:solidFill>
                  <a:srgbClr val="144c7e"/>
                </a:solidFill>
                <a:latin typeface="Arial"/>
              </a:rPr>
              <a:t>(dvojitých šipek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4" descr=""/>
          <p:cNvPicPr/>
          <p:nvPr/>
        </p:nvPicPr>
        <p:blipFill>
          <a:blip r:embed="rId1"/>
          <a:stretch/>
        </p:blipFill>
        <p:spPr>
          <a:xfrm>
            <a:off x="316080" y="4508640"/>
            <a:ext cx="4838400" cy="12189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5" descr=""/>
          <p:cNvPicPr/>
          <p:nvPr/>
        </p:nvPicPr>
        <p:blipFill>
          <a:blip r:embed="rId2"/>
          <a:stretch/>
        </p:blipFill>
        <p:spPr>
          <a:xfrm>
            <a:off x="179280" y="1125360"/>
            <a:ext cx="5119920" cy="1511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7" descr=""/>
          <p:cNvPicPr/>
          <p:nvPr/>
        </p:nvPicPr>
        <p:blipFill>
          <a:blip r:embed="rId3"/>
          <a:stretch/>
        </p:blipFill>
        <p:spPr>
          <a:xfrm>
            <a:off x="262080" y="2781360"/>
            <a:ext cx="5246640" cy="1511280"/>
          </a:xfrm>
          <a:prstGeom prst="rect">
            <a:avLst/>
          </a:prstGeom>
          <a:ln w="0">
            <a:noFill/>
          </a:ln>
        </p:spPr>
      </p:pic>
      <p:sp>
        <p:nvSpPr>
          <p:cNvPr id="127" name="Obdélník 3"/>
          <p:cNvSpPr/>
          <p:nvPr/>
        </p:nvSpPr>
        <p:spPr>
          <a:xfrm>
            <a:off x="262080" y="3645000"/>
            <a:ext cx="2622240" cy="288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bdélník 4"/>
          <p:cNvSpPr/>
          <p:nvPr/>
        </p:nvSpPr>
        <p:spPr>
          <a:xfrm>
            <a:off x="2738520" y="3284640"/>
            <a:ext cx="249120" cy="2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Přímá spojnice se šipkou 6"/>
          <p:cNvCxnSpPr/>
          <p:nvPr/>
        </p:nvCxnSpPr>
        <p:spPr>
          <a:xfrm>
            <a:off x="2987640" y="3537000"/>
            <a:ext cx="432720" cy="13327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0" name="Obdélník 7"/>
          <p:cNvSpPr/>
          <p:nvPr/>
        </p:nvSpPr>
        <p:spPr>
          <a:xfrm>
            <a:off x="2738520" y="4869000"/>
            <a:ext cx="2415960" cy="249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etaily k VŘ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858920" y="836280"/>
            <a:ext cx="403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524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144c7e"/>
                </a:solidFill>
                <a:latin typeface="Arial"/>
              </a:rPr>
              <a:t>Pokud jste na záložce Výběrová řízení zatrhli checkbox </a:t>
            </a:r>
            <a:r>
              <a:rPr b="1" lang="cs-CZ" sz="2100" spc="-1" strike="noStrike">
                <a:solidFill>
                  <a:srgbClr val="144c7e"/>
                </a:solidFill>
                <a:latin typeface="Arial"/>
              </a:rPr>
              <a:t>Byl podepsán dodatek s dodavatelem?, </a:t>
            </a:r>
            <a:r>
              <a:rPr b="0" lang="cs-CZ" sz="2100" spc="-1" strike="noStrike">
                <a:solidFill>
                  <a:srgbClr val="144c7e"/>
                </a:solidFill>
                <a:latin typeface="Arial"/>
              </a:rPr>
              <a:t>musíte na záložce Detaily k VŘ vyplnit následující informac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76"/>
              </a:spcBef>
              <a:buClr>
                <a:srgbClr val="144c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Datum podpisu dodatk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76"/>
              </a:spcBef>
              <a:buClr>
                <a:srgbClr val="144c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Skutečná cena VŘ po podpisu dodatku v Kč bez DP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76"/>
              </a:spcBef>
              <a:buClr>
                <a:srgbClr val="144c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Popis změn řešených dodavatelem</a:t>
            </a: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0" descr=""/>
          <p:cNvPicPr/>
          <p:nvPr/>
        </p:nvPicPr>
        <p:blipFill>
          <a:blip r:embed="rId1"/>
          <a:stretch/>
        </p:blipFill>
        <p:spPr>
          <a:xfrm>
            <a:off x="539640" y="1508040"/>
            <a:ext cx="4608720" cy="2667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"/>
          <p:cNvPicPr/>
          <p:nvPr/>
        </p:nvPicPr>
        <p:blipFill>
          <a:blip r:embed="rId2"/>
          <a:stretch/>
        </p:blipFill>
        <p:spPr>
          <a:xfrm>
            <a:off x="246240" y="1916280"/>
            <a:ext cx="5046480" cy="3490920"/>
          </a:xfrm>
          <a:prstGeom prst="rect">
            <a:avLst/>
          </a:prstGeom>
          <a:ln w="0">
            <a:noFill/>
          </a:ln>
        </p:spPr>
      </p:pic>
      <p:sp>
        <p:nvSpPr>
          <p:cNvPr id="136" name="Obdélník 2"/>
          <p:cNvSpPr/>
          <p:nvPr/>
        </p:nvSpPr>
        <p:spPr>
          <a:xfrm>
            <a:off x="246240" y="2205000"/>
            <a:ext cx="504648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Přímá spojnice se šipkou 5"/>
          <p:cNvCxnSpPr/>
          <p:nvPr/>
        </p:nvCxnSpPr>
        <p:spPr>
          <a:xfrm flipH="1">
            <a:off x="1834920" y="2420640"/>
            <a:ext cx="505440" cy="1872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8" name="Obdélník 6"/>
          <p:cNvSpPr/>
          <p:nvPr/>
        </p:nvSpPr>
        <p:spPr>
          <a:xfrm>
            <a:off x="1547640" y="4292640"/>
            <a:ext cx="54000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eřejná pod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00720" y="765000"/>
            <a:ext cx="44640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144c7e"/>
                </a:solidFill>
                <a:uFillTx/>
                <a:latin typeface="Arial"/>
              </a:rPr>
              <a:t>Pokud VP/de minimis v projektu nemáte, NEzakládejte nový záznam s kódem 01 „Není VP“, tzn. záložku vůbec nevyplňujt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a záložce Veřejná podpora příjemce vyplní poskytnutou i vyčerpanou veřejnou podporu  v průběhu posledního monitorovacího období, a to v rozdělení na jednotlivé ro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U podpory </a:t>
            </a:r>
            <a:r>
              <a:rPr b="1" lang="cs-CZ" sz="1800" spc="-1" strike="noStrike">
                <a:solidFill>
                  <a:srgbClr val="161645"/>
                </a:solidFill>
                <a:latin typeface="Arial"/>
              </a:rPr>
              <a:t>de minimis 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se v MZ vyplní poskytnutá podpora, vyčerpaná podpora se </a:t>
            </a:r>
            <a:r>
              <a:rPr b="1" lang="cs-CZ" sz="1800" spc="-1" strike="noStrike">
                <a:solidFill>
                  <a:srgbClr val="161645"/>
                </a:solidFill>
                <a:latin typeface="Arial"/>
              </a:rPr>
              <a:t>neuvádí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Jestliže je příjemcem VP/podpory de minimis </a:t>
            </a:r>
            <a:r>
              <a:rPr b="1" lang="cs-CZ" sz="1800" spc="-1" strike="noStrike" u="sng">
                <a:solidFill>
                  <a:srgbClr val="144c7e"/>
                </a:solidFill>
                <a:uFillTx/>
                <a:latin typeface="Arial"/>
              </a:rPr>
              <a:t>jiný (třetí) subjekt než příjemce/partner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, založte jej nejprve v seznamu uvedeném na obrázku.     </a:t>
            </a:r>
            <a:r>
              <a:rPr b="1" lang="cs-CZ" sz="1800" spc="-1" strike="noStrike" u="sng">
                <a:solidFill>
                  <a:srgbClr val="144c7e"/>
                </a:solidFill>
                <a:uFillTx/>
                <a:latin typeface="Arial"/>
              </a:rPr>
              <a:t>V žádném případě, nezakládejte znovu organizaci příjemce, či partnerů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0000"/>
                </a:solidFill>
                <a:uFillTx/>
                <a:latin typeface="Arial"/>
              </a:rPr>
              <a:t>Pozor neukládat prázdný řáde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Lze požádat o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vypnutí validace </a:t>
            </a: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z důvodu zániku/likvidace  podpořené </a:t>
            </a:r>
            <a:r>
              <a:rPr b="0" lang="cs-CZ" sz="1900" spc="-1" strike="noStrike">
                <a:solidFill>
                  <a:srgbClr val="0d3673"/>
                </a:solidFill>
                <a:latin typeface="Arial"/>
              </a:rPr>
              <a:t>organizac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8" descr=""/>
          <p:cNvPicPr/>
          <p:nvPr/>
        </p:nvPicPr>
        <p:blipFill>
          <a:blip r:embed="rId1"/>
          <a:stretch/>
        </p:blipFill>
        <p:spPr>
          <a:xfrm>
            <a:off x="179280" y="879480"/>
            <a:ext cx="4356360" cy="3102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"/>
          <p:cNvPicPr/>
          <p:nvPr/>
        </p:nvPicPr>
        <p:blipFill>
          <a:blip r:embed="rId2"/>
          <a:stretch/>
        </p:blipFill>
        <p:spPr>
          <a:xfrm>
            <a:off x="179280" y="3948120"/>
            <a:ext cx="4343400" cy="2144880"/>
          </a:xfrm>
          <a:prstGeom prst="rect">
            <a:avLst/>
          </a:prstGeom>
          <a:ln w="0">
            <a:noFill/>
          </a:ln>
        </p:spPr>
      </p:pic>
      <p:cxnSp>
        <p:nvCxnSpPr>
          <p:cNvPr id="143" name="Přímá spojnice se šipkou 3"/>
          <p:cNvCxnSpPr/>
          <p:nvPr/>
        </p:nvCxnSpPr>
        <p:spPr>
          <a:xfrm flipH="1">
            <a:off x="909720" y="3947760"/>
            <a:ext cx="3961080" cy="10659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4" name="Obdélník 4"/>
          <p:cNvSpPr/>
          <p:nvPr/>
        </p:nvSpPr>
        <p:spPr>
          <a:xfrm>
            <a:off x="250920" y="4941720"/>
            <a:ext cx="720720" cy="287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ublic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932000" y="1412640"/>
            <a:ext cx="38876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76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Zde příjemce nalezne načtené </a:t>
            </a: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Nástroje publicity</a:t>
            </a: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, které uvedl v žádosti o finanční podporu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76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Dle požadavku Řídícího orgánu OP LZZ nelze na této záložce ani přidávat, ani mazat </a:t>
            </a: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Nástroje publicity</a:t>
            </a: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, načtené z IS Monit7+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76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V povinném poli </a:t>
            </a: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Popis</a:t>
            </a: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 příjemce uvede, jak plnil publicitu projektu v rámci monitorovacího období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76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Vzorek propagačních aktivit přiloží příjemce k MZ (např. leták, inzerát, apod.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"/>
          <p:cNvPicPr/>
          <p:nvPr/>
        </p:nvPicPr>
        <p:blipFill>
          <a:blip r:embed="rId1"/>
          <a:stretch/>
        </p:blipFill>
        <p:spPr>
          <a:xfrm>
            <a:off x="108000" y="1773360"/>
            <a:ext cx="4825800" cy="2447640"/>
          </a:xfrm>
          <a:prstGeom prst="rect">
            <a:avLst/>
          </a:prstGeom>
          <a:ln w="0">
            <a:noFill/>
          </a:ln>
        </p:spPr>
      </p:pic>
      <p:sp>
        <p:nvSpPr>
          <p:cNvPr id="148" name="Obdélník 2"/>
          <p:cNvSpPr/>
          <p:nvPr/>
        </p:nvSpPr>
        <p:spPr>
          <a:xfrm>
            <a:off x="108000" y="2349360"/>
            <a:ext cx="4751280" cy="287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ákladní informace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o Benefit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0920" y="1304640"/>
            <a:ext cx="806436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Benefit7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- webová aplikace sloužící žadatelům pro předkládání žádostí o finanční podporu z OP LZZ, předkládání monitorovacích zpráv (dále jen „MZ“) a zjednodušených žádostí o platbu (dále jen „ZjŽoP“ nebo „ŽoP“) příjemci podp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de formulář pro vyplnění monitorovací zprávy a žádosti o platbu z OP LZZ nalezne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u-zadost.cz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nebo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u-zadost.eu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řípadě 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technických problémů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se obracejte na helpovou adresu řídícího orgánu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benefit7@mpsv.cz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a do 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předmětu e-mailu uvádějte </a:t>
            </a: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registrační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 </a:t>
            </a: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číslo projektu 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(např. 77.00021)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Realizační tý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0" y="1268280"/>
            <a:ext cx="4392720" cy="47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říjemce upravuje </a:t>
            </a:r>
            <a:r>
              <a:rPr b="1" lang="cs-CZ" sz="2000" spc="-1" strike="noStrike">
                <a:solidFill>
                  <a:srgbClr val="144c7e"/>
                </a:solidFill>
                <a:latin typeface="Arial"/>
              </a:rPr>
              <a:t>pouze v případě, že se jedná o nepodstatnou změnu obsazení realizačního týmu.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říjemce provede nepodstatnou změnu a záznam uloží. Údaje se poté zobrazí v souhrnné tabul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Každou další (novou) osobu do realizačního týmu lze zadat přes tlačítko Nový záznam, kde se příjemci otevře prázdný formulář. V případě nesprávného postupu se data navzájem přepisuj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Do rozpočtu projektu se změna obsazení realizačního týmu zadává ručně. Nelze načíst Realizační tým jako v žádos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7" descr=""/>
          <p:cNvPicPr/>
          <p:nvPr/>
        </p:nvPicPr>
        <p:blipFill>
          <a:blip r:embed="rId1"/>
          <a:stretch/>
        </p:blipFill>
        <p:spPr>
          <a:xfrm>
            <a:off x="360360" y="1268280"/>
            <a:ext cx="4178160" cy="1152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"/>
          <p:cNvPicPr/>
          <p:nvPr/>
        </p:nvPicPr>
        <p:blipFill>
          <a:blip r:embed="rId2"/>
          <a:stretch/>
        </p:blipFill>
        <p:spPr>
          <a:xfrm>
            <a:off x="372960" y="2852640"/>
            <a:ext cx="4124520" cy="2160720"/>
          </a:xfrm>
          <a:prstGeom prst="rect">
            <a:avLst/>
          </a:prstGeom>
          <a:ln w="0">
            <a:noFill/>
          </a:ln>
        </p:spPr>
      </p:pic>
      <p:sp>
        <p:nvSpPr>
          <p:cNvPr id="153" name="Obdélník 2"/>
          <p:cNvSpPr/>
          <p:nvPr/>
        </p:nvSpPr>
        <p:spPr>
          <a:xfrm>
            <a:off x="360360" y="2133720"/>
            <a:ext cx="539640" cy="21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Rozpočet projektu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2560" y="2707920"/>
            <a:ext cx="421308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okud příjemce nenačetl rozpočet z Monit7+ (tlačítko 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            ), záložka zůstane prázdná a příjemce musí rozpočet načíst a to i v případě, že nechce rozpočet vůbec editova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okud příjemce na záložce Informace o projektu a MZ zatrhl checkbox                       , záložka se zaktivní a rozpočet  </a:t>
            </a:r>
            <a:r>
              <a:rPr b="1" lang="cs-CZ" sz="2000" spc="-1" strike="noStrike" u="sng">
                <a:solidFill>
                  <a:srgbClr val="144c7e"/>
                </a:solidFill>
                <a:uFillTx/>
                <a:latin typeface="Arial"/>
              </a:rPr>
              <a:t>lze editovat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"/>
          <p:cNvPicPr/>
          <p:nvPr/>
        </p:nvPicPr>
        <p:blipFill>
          <a:blip r:embed="rId1"/>
          <a:stretch/>
        </p:blipFill>
        <p:spPr>
          <a:xfrm>
            <a:off x="1692360" y="5661000"/>
            <a:ext cx="1550880" cy="196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"/>
          <p:cNvPicPr/>
          <p:nvPr/>
        </p:nvPicPr>
        <p:blipFill>
          <a:blip r:embed="rId2"/>
          <a:stretch/>
        </p:blipFill>
        <p:spPr>
          <a:xfrm>
            <a:off x="4427640" y="917640"/>
            <a:ext cx="4537080" cy="5108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"/>
          <p:cNvPicPr/>
          <p:nvPr/>
        </p:nvPicPr>
        <p:blipFill>
          <a:blip r:embed="rId3"/>
          <a:stretch/>
        </p:blipFill>
        <p:spPr>
          <a:xfrm>
            <a:off x="407880" y="3471840"/>
            <a:ext cx="1596960" cy="190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"/>
          <p:cNvPicPr/>
          <p:nvPr/>
        </p:nvPicPr>
        <p:blipFill>
          <a:blip r:embed="rId4"/>
          <a:stretch/>
        </p:blipFill>
        <p:spPr>
          <a:xfrm>
            <a:off x="442800" y="1268280"/>
            <a:ext cx="3961080" cy="14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Rozpočet projektu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0" y="1196640"/>
            <a:ext cx="424800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ro editaci  jsou 2 možnost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4c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mocí tlačítka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Editovat vše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, pak opravy provádíte přímo v tabulce rozpočtu a editaci ukončíte zmáčknutí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4c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ebo kliknutím  na příslušný řádek v tabulce rozpočtu a dole pod tabulkou se zobrazí detail, který lze edi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Kliknutím na podskupinu a pomocí tlačítka Nový záznam, lze přidávat nové řádky, Postup vyplňování shodný s bodem 2. Nový řádek se očísluje automatic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Řádky načtené z Monit7+ nelze mazat, pouze přepisovat!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1" descr=""/>
          <p:cNvPicPr/>
          <p:nvPr/>
        </p:nvPicPr>
        <p:blipFill>
          <a:blip r:embed="rId1"/>
          <a:stretch/>
        </p:blipFill>
        <p:spPr>
          <a:xfrm>
            <a:off x="20520" y="1413000"/>
            <a:ext cx="4480200" cy="24476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" descr=""/>
          <p:cNvPicPr/>
          <p:nvPr/>
        </p:nvPicPr>
        <p:blipFill>
          <a:blip r:embed="rId2"/>
          <a:stretch/>
        </p:blipFill>
        <p:spPr>
          <a:xfrm>
            <a:off x="28440" y="3830760"/>
            <a:ext cx="4470480" cy="1830240"/>
          </a:xfrm>
          <a:prstGeom prst="rect">
            <a:avLst/>
          </a:prstGeom>
          <a:ln w="0">
            <a:noFill/>
          </a:ln>
        </p:spPr>
      </p:pic>
      <p:sp>
        <p:nvSpPr>
          <p:cNvPr id="164" name="Obdélník 1"/>
          <p:cNvSpPr/>
          <p:nvPr/>
        </p:nvSpPr>
        <p:spPr>
          <a:xfrm>
            <a:off x="1979640" y="3213000"/>
            <a:ext cx="720720" cy="21600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Přímá spojnice se šipkou 7"/>
          <p:cNvCxnSpPr/>
          <p:nvPr/>
        </p:nvCxnSpPr>
        <p:spPr>
          <a:xfrm flipH="1">
            <a:off x="2259720" y="3428640"/>
            <a:ext cx="80280" cy="1872360"/>
          </a:xfrm>
          <a:prstGeom prst="straightConnector1">
            <a:avLst/>
          </a:prstGeom>
          <a:ln w="1908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166" name="Obdélník 8"/>
          <p:cNvSpPr/>
          <p:nvPr/>
        </p:nvSpPr>
        <p:spPr>
          <a:xfrm>
            <a:off x="1692360" y="5373720"/>
            <a:ext cx="1150920" cy="28728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bdélník 9"/>
          <p:cNvSpPr/>
          <p:nvPr/>
        </p:nvSpPr>
        <p:spPr>
          <a:xfrm>
            <a:off x="28440" y="3429000"/>
            <a:ext cx="58284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1" descr=""/>
          <p:cNvPicPr/>
          <p:nvPr/>
        </p:nvPicPr>
        <p:blipFill>
          <a:blip r:embed="rId3"/>
          <a:stretch/>
        </p:blipFill>
        <p:spPr>
          <a:xfrm>
            <a:off x="6443640" y="2354400"/>
            <a:ext cx="762120" cy="333360"/>
          </a:xfrm>
          <a:prstGeom prst="rect">
            <a:avLst/>
          </a:prstGeom>
          <a:ln w="0">
            <a:noFill/>
          </a:ln>
        </p:spPr>
      </p:pic>
      <p:cxnSp>
        <p:nvCxnSpPr>
          <p:cNvPr id="169" name="Přímá spojnice se šipkou 3"/>
          <p:cNvCxnSpPr>
            <a:stCxn id="168" idx="1"/>
          </p:cNvCxnSpPr>
          <p:nvPr/>
        </p:nvCxnSpPr>
        <p:spPr>
          <a:xfrm flipH="1">
            <a:off x="2245680" y="2521080"/>
            <a:ext cx="4197960" cy="285336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d1131c"/>
                </a:solidFill>
                <a:latin typeface="Arial"/>
              </a:rPr>
              <a:t>Kontrola: Realizační tým &amp; Rozpoč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716360" y="1196640"/>
            <a:ext cx="417672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a obou uvedených záložkách musí sedět názvy pozic, jednotky, úvazky, celkové hodno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Dále musí sedět i mezery v názvech v rozpočtu projektu a RT. Řádně mezery zkontroluj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kud budete v rámci realizačního týmu (RT) rušit osoby, tak náklady načtené z Monit7+ není možné v Rozpočtu projektu maz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robný návod opět naleznete v Pokynech řídícího orgán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144c7e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3"/>
          <p:cNvSpPr/>
          <p:nvPr/>
        </p:nvSpPr>
        <p:spPr>
          <a:xfrm>
            <a:off x="395280" y="429264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stup je v tomto případě následujíc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Zrušené osoby musí zůstat jak v rozpočtu, tak v Realizačním týmu. Do názvu rušené osoby uveďte „ZRUŠENO“, opět na obou míste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V rozpočtu i v RT vynulujte částky, úvazky, prům. náklad zrušené osoby (+ vyplňte povinná pole v RT u zrušené osoby, pokud je nemáte). V rozpočtu je potřeba u zrušených osob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vymazat i režim podpory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9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451400" cy="2665440"/>
          </a:xfrm>
          <a:prstGeom prst="rect">
            <a:avLst/>
          </a:prstGeom>
          <a:ln w="0">
            <a:noFill/>
          </a:ln>
        </p:spPr>
      </p:pic>
      <p:sp>
        <p:nvSpPr>
          <p:cNvPr id="174" name="Obdélník 1"/>
          <p:cNvSpPr/>
          <p:nvPr/>
        </p:nvSpPr>
        <p:spPr>
          <a:xfrm>
            <a:off x="250920" y="1628640"/>
            <a:ext cx="93636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Přímá spojnice se šipkou 3"/>
          <p:cNvCxnSpPr>
            <a:stCxn id="174" idx="3"/>
          </p:cNvCxnSpPr>
          <p:nvPr/>
        </p:nvCxnSpPr>
        <p:spPr>
          <a:xfrm>
            <a:off x="1186920" y="1736280"/>
            <a:ext cx="577080" cy="1693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76" name="Obdélník 4"/>
          <p:cNvSpPr/>
          <p:nvPr/>
        </p:nvSpPr>
        <p:spPr>
          <a:xfrm>
            <a:off x="1763640" y="3357720"/>
            <a:ext cx="2016360" cy="21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droje financ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211280" y="1915920"/>
            <a:ext cx="460836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Míra spolufinancování z prostředků EU je v programovém období 2007 – 2013 vztahována pouze ke způsobilým veřejným výdajů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šechna pole se generují automaticky po zmáčknutí tlačítka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Rozpad financí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Rozpad financí se dá provést pouze v případě, že je vyplněn a načten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Rozpočet projek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bdélník 1"/>
          <p:cNvSpPr/>
          <p:nvPr/>
        </p:nvSpPr>
        <p:spPr>
          <a:xfrm>
            <a:off x="2340000" y="2492280"/>
            <a:ext cx="1079640" cy="2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8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4075200" cy="4248360"/>
          </a:xfrm>
          <a:prstGeom prst="rect">
            <a:avLst/>
          </a:prstGeom>
          <a:ln w="0">
            <a:noFill/>
          </a:ln>
        </p:spPr>
      </p:pic>
      <p:sp>
        <p:nvSpPr>
          <p:cNvPr id="182" name="Obdélník 2"/>
          <p:cNvSpPr/>
          <p:nvPr/>
        </p:nvSpPr>
        <p:spPr>
          <a:xfrm>
            <a:off x="2340000" y="2492280"/>
            <a:ext cx="1079640" cy="2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inanční pl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43280" y="765000"/>
            <a:ext cx="4321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Je potřeba vyplnit pole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vyúčtovaných prostředků celkem v Kč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 (sloupec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- celkem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) a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z toho investiční prostředky celkem v Kč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(sloupec 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– investiční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vyúčtovaných prostředků celkem v Kč -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odhadovaná výše vyúčtovaných způsobilých investičních a neinvestičních výdajů v dalších ŽoP (přímé + nepřímé, veřejné + soukromé). Vyplňte aktuální a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všechny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400" spc="-1" strike="noStrike" u="sng">
                <a:solidFill>
                  <a:srgbClr val="143f7e"/>
                </a:solidFill>
                <a:uFillTx/>
                <a:latin typeface="Arial"/>
              </a:rPr>
              <a:t>následujíc</a:t>
            </a:r>
            <a:r>
              <a:rPr b="0" lang="cs-CZ" sz="1400" spc="-1" strike="noStrike" u="sng">
                <a:solidFill>
                  <a:srgbClr val="143f7e"/>
                </a:solidFill>
                <a:uFillTx/>
                <a:latin typeface="Arial"/>
              </a:rPr>
              <a:t>í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 řádk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z toho investiční prostředky celkem v Kč -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odhadovaná výše vyúčtovaných způsobilých investičních výdajů v dalších ŽoP (přímé, veřejné + soukromé). Vyplňte aktuální a  </a:t>
            </a:r>
            <a:r>
              <a:rPr b="0" lang="cs-CZ" sz="1400" spc="-1" strike="noStrike" u="sng">
                <a:solidFill>
                  <a:srgbClr val="143f7e"/>
                </a:solidFill>
                <a:uFillTx/>
                <a:latin typeface="Arial"/>
              </a:rPr>
              <a:t>následující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řádk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143f7e"/>
                </a:solidFill>
                <a:latin typeface="Arial"/>
              </a:rPr>
              <a:t>Pozn.: Jedná se o část částky, kterou jste již předtím případně zahrnuli i do sloupce Odhad – celkem.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V případě, že částky nejsou v pořádku, obraťte se na poskytovatele podpory, aby plán opravil. Poté aktualizovaný plán načtete do MZ pomocí tlačítka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Aktualizovat finanční plán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2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4394160" cy="3456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4" descr=""/>
          <p:cNvPicPr/>
          <p:nvPr/>
        </p:nvPicPr>
        <p:blipFill>
          <a:blip r:embed="rId2"/>
          <a:stretch/>
        </p:blipFill>
        <p:spPr>
          <a:xfrm>
            <a:off x="250920" y="4581360"/>
            <a:ext cx="4394160" cy="854280"/>
          </a:xfrm>
          <a:prstGeom prst="rect">
            <a:avLst/>
          </a:prstGeom>
          <a:ln w="0">
            <a:noFill/>
          </a:ln>
        </p:spPr>
      </p:pic>
      <p:sp>
        <p:nvSpPr>
          <p:cNvPr id="187" name="Obdélník 6"/>
          <p:cNvSpPr/>
          <p:nvPr/>
        </p:nvSpPr>
        <p:spPr>
          <a:xfrm>
            <a:off x="250920" y="1413000"/>
            <a:ext cx="4394160" cy="21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Přímá spojnice se šipkou 8"/>
          <p:cNvCxnSpPr/>
          <p:nvPr/>
        </p:nvCxnSpPr>
        <p:spPr>
          <a:xfrm flipH="1">
            <a:off x="1115280" y="1628280"/>
            <a:ext cx="648360" cy="1729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89" name="Obdélník 9"/>
          <p:cNvSpPr/>
          <p:nvPr/>
        </p:nvSpPr>
        <p:spPr>
          <a:xfrm>
            <a:off x="250920" y="3141720"/>
            <a:ext cx="1189080" cy="934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bdélník 11"/>
          <p:cNvSpPr/>
          <p:nvPr/>
        </p:nvSpPr>
        <p:spPr>
          <a:xfrm>
            <a:off x="250920" y="4869000"/>
            <a:ext cx="4394160" cy="21564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ioritní té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392360" y="980640"/>
            <a:ext cx="4500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Částka ze zdrojů financování za prioritní tém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– povinné pole, do kterého se vyplňuje částka ze zál. Zdroje financování, z 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říspěvek ze strukturálních fondů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Aktuální stav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povinné pole, do kterého příjemce vyplní vyčerpanou částku za prioritní téma za sledované období (tj. 85% ze ZjŽoP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Skutečnost výdajů za uplynulé období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pole se automaticky vyplní částkou, kterou příjemce uvedl ve stejnojmenném poli na zál. Informace o projektu a MZ. Z tohoto pole příjemce vypočte 85% (příp. 95%) a částku doplní do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Aktuální stav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prioritního tématu, Číslo prioritního tématu a Stav před podáním monitorovací zprávy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se naplní automaticky z IS Monit7+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 přehledové tabulce příjemce nalezne prioritní témata (vždy minimálně jedno), ke kterým se zavázal v žádosti o finanční podpor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8" descr=""/>
          <p:cNvPicPr/>
          <p:nvPr/>
        </p:nvPicPr>
        <p:blipFill>
          <a:blip r:embed="rId1"/>
          <a:stretch/>
        </p:blipFill>
        <p:spPr>
          <a:xfrm>
            <a:off x="176040" y="1341360"/>
            <a:ext cx="4251600" cy="2882880"/>
          </a:xfrm>
          <a:prstGeom prst="rect">
            <a:avLst/>
          </a:prstGeom>
          <a:ln w="0">
            <a:noFill/>
          </a:ln>
        </p:spPr>
      </p:pic>
      <p:sp>
        <p:nvSpPr>
          <p:cNvPr id="194" name="Obdélník 2"/>
          <p:cNvSpPr/>
          <p:nvPr/>
        </p:nvSpPr>
        <p:spPr>
          <a:xfrm>
            <a:off x="2050920" y="3213000"/>
            <a:ext cx="1584360" cy="36036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Přímá spojnice se šipkou 4"/>
          <p:cNvCxnSpPr/>
          <p:nvPr/>
        </p:nvCxnSpPr>
        <p:spPr>
          <a:xfrm flipH="1">
            <a:off x="3634920" y="1484280"/>
            <a:ext cx="1153440" cy="1729440"/>
          </a:xfrm>
          <a:prstGeom prst="straightConnector1">
            <a:avLst/>
          </a:prstGeom>
          <a:ln w="936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196" name="Obdélník 5"/>
          <p:cNvSpPr/>
          <p:nvPr/>
        </p:nvSpPr>
        <p:spPr>
          <a:xfrm>
            <a:off x="2050920" y="3573360"/>
            <a:ext cx="1584360" cy="360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Přímá spojnice se šipkou 7"/>
          <p:cNvCxnSpPr>
            <a:endCxn id="196" idx="3"/>
          </p:cNvCxnSpPr>
          <p:nvPr/>
        </p:nvCxnSpPr>
        <p:spPr>
          <a:xfrm flipH="1">
            <a:off x="3634920" y="2205000"/>
            <a:ext cx="1153440" cy="1548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Harmonogram real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787640" y="1197000"/>
            <a:ext cx="4105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ata na záložc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Harmonogram realizac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jsou aktivní v případě, že příjemce na záložc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Informace o projektu a MZ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zatrhl checkbox                         . Pokud ne                                , záložka zůstane neaktivní, tzn. bez možnosti editace harmonogramu 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kud příjemce na záložc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Informace o projektu a MZ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tento checkbox zatrhl, záložka se zaktivní a lze ji editov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ovou klíčovou aktivitu zadat nel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6" descr=""/>
          <p:cNvPicPr/>
          <p:nvPr/>
        </p:nvPicPr>
        <p:blipFill>
          <a:blip r:embed="rId1"/>
          <a:stretch/>
        </p:blipFill>
        <p:spPr>
          <a:xfrm>
            <a:off x="7093080" y="2387520"/>
            <a:ext cx="1647720" cy="1904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"/>
          <p:cNvPicPr/>
          <p:nvPr/>
        </p:nvPicPr>
        <p:blipFill>
          <a:blip r:embed="rId2"/>
          <a:stretch/>
        </p:blipFill>
        <p:spPr>
          <a:xfrm>
            <a:off x="6515280" y="2685960"/>
            <a:ext cx="1714320" cy="162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266760" y="1119240"/>
            <a:ext cx="4854600" cy="2670120"/>
          </a:xfrm>
          <a:prstGeom prst="rect">
            <a:avLst/>
          </a:prstGeom>
          <a:ln w="0">
            <a:noFill/>
          </a:ln>
        </p:spPr>
      </p:pic>
      <p:sp>
        <p:nvSpPr>
          <p:cNvPr id="203" name="Line 10"/>
          <p:cNvSpPr/>
          <p:nvPr/>
        </p:nvSpPr>
        <p:spPr>
          <a:xfrm flipH="1" flipV="1">
            <a:off x="4752720" y="2666520"/>
            <a:ext cx="847800" cy="352440"/>
          </a:xfrm>
          <a:prstGeom prst="line">
            <a:avLst/>
          </a:prstGeom>
          <a:ln w="158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2484360" y="257328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99cc00"/>
                </a:solidFill>
                <a:latin typeface="Arial"/>
              </a:rPr>
              <a:t>NEAKTIV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13" descr=""/>
          <p:cNvPicPr/>
          <p:nvPr/>
        </p:nvPicPr>
        <p:blipFill>
          <a:blip r:embed="rId4"/>
          <a:stretch/>
        </p:blipFill>
        <p:spPr>
          <a:xfrm>
            <a:off x="266760" y="3645000"/>
            <a:ext cx="4854600" cy="266364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9"/>
          <p:cNvSpPr/>
          <p:nvPr/>
        </p:nvSpPr>
        <p:spPr>
          <a:xfrm>
            <a:off x="3276720" y="5135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99"/>
                </a:solidFill>
                <a:latin typeface="Arial"/>
              </a:rPr>
              <a:t>AKTIV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1"/>
          <p:cNvSpPr/>
          <p:nvPr/>
        </p:nvSpPr>
        <p:spPr>
          <a:xfrm flipH="1">
            <a:off x="4648320" y="4638600"/>
            <a:ext cx="952560" cy="496800"/>
          </a:xfrm>
          <a:prstGeom prst="line">
            <a:avLst/>
          </a:prstGeom>
          <a:ln w="1584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lo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924360" y="941040"/>
            <a:ext cx="4875120" cy="50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Všechny povinné přílohy jsou uvedeny v kapitole 9 PŘÍLOHY MONITOROVACÍ ZPRÁVY v příručce D10. Seznam těchto příloh naleznete v souhrnné tabulce, přímo na záložce </a:t>
            </a: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Přílohy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Přílohy monitorovací zprávy </a:t>
            </a:r>
            <a:r>
              <a:rPr b="1" lang="cs-CZ" sz="1700" spc="-1" strike="noStrike" u="sng">
                <a:solidFill>
                  <a:srgbClr val="143f7e"/>
                </a:solidFill>
                <a:uFillTx/>
                <a:latin typeface="Arial"/>
              </a:rPr>
              <a:t>není potřeba skenovat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s výjimkou příloh, u kterých je nezbytnou náležitostí podpis (příloha č. 1 Podpisové vzory, a hlavně prezenční listiny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Povinné přílohy, které nemají závazný vzor v elektronické podobě (kopie účetních dokladů, výpis z bankovního účtu), není nutné dokládat v elektronické podobě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Maximální</a:t>
            </a: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 velikost jedné přílohy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přiložené k MZ v elektronické podobě je </a:t>
            </a: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1MB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Maximální velikost celé MZ je 5MB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25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9" descr=""/>
          <p:cNvPicPr/>
          <p:nvPr/>
        </p:nvPicPr>
        <p:blipFill>
          <a:blip r:embed="rId1"/>
          <a:stretch/>
        </p:blipFill>
        <p:spPr>
          <a:xfrm>
            <a:off x="108000" y="1052640"/>
            <a:ext cx="3816360" cy="4895640"/>
          </a:xfrm>
          <a:prstGeom prst="rect">
            <a:avLst/>
          </a:prstGeom>
          <a:ln w="0">
            <a:noFill/>
          </a:ln>
        </p:spPr>
      </p:pic>
      <p:sp>
        <p:nvSpPr>
          <p:cNvPr id="212" name="Obdélník 1"/>
          <p:cNvSpPr/>
          <p:nvPr/>
        </p:nvSpPr>
        <p:spPr>
          <a:xfrm>
            <a:off x="108000" y="3357720"/>
            <a:ext cx="3816360" cy="21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Přímá spojnice se šipkou 3"/>
          <p:cNvCxnSpPr/>
          <p:nvPr/>
        </p:nvCxnSpPr>
        <p:spPr>
          <a:xfrm flipH="1">
            <a:off x="899640" y="3573000"/>
            <a:ext cx="504000" cy="2088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14" name="Obdélník 4"/>
          <p:cNvSpPr/>
          <p:nvPr/>
        </p:nvSpPr>
        <p:spPr>
          <a:xfrm>
            <a:off x="108000" y="5626080"/>
            <a:ext cx="1150920" cy="179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alší inform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55280" y="3644640"/>
            <a:ext cx="777708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této záložce může příjemce popsat doplňující informace k MZ a realizaci projektu, které neměl možnost uvést na jiných záložkách. Pole je nepovinné, takže jej příjemce vyplnit nemusí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6" descr=""/>
          <p:cNvPicPr/>
          <p:nvPr/>
        </p:nvPicPr>
        <p:blipFill>
          <a:blip r:embed="rId1"/>
          <a:stretch/>
        </p:blipFill>
        <p:spPr>
          <a:xfrm>
            <a:off x="1405080" y="1413000"/>
            <a:ext cx="633384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ůležité informace pro příje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22960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2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Odstávky aplika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-1728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lánované i mimořádné odstávky aplikace Benefit7 naleznete na internetových stránkách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sfcr.cz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, odkaz na V</a:t>
            </a:r>
            <a:r>
              <a:rPr b="0" i="1" lang="cs-CZ" sz="2000" spc="-1" strike="noStrike">
                <a:solidFill>
                  <a:srgbClr val="143f7e"/>
                </a:solidFill>
                <a:latin typeface="Arial"/>
              </a:rPr>
              <a:t>ýzvy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a rovněž na titulní straně aplikace Benefit7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u-zadost.cz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-1728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lánované odstávky jsou vždy 1. pracovní den v měsíci. V případě, že tento den připadne na pátek je odstávka a instalace nové verze Benefitu7 provedena až v ponděl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2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Arial"/>
              </a:rPr>
              <a:t>Nenechávejte si proto finalizaci a odevzdání MZ a ZjŽoP na poslední chvíli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Důležité dokumen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-1728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kyny pro vyplnění monitorovacích zpráv o realizaci projektu OP LZZ a jejich příloh (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10), revize 1.7 platná od 1.11.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143f7e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trola M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427280" y="980640"/>
            <a:ext cx="4537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 ukončení práce na MZ příjemce pomocí tlačítk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Kontrola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provede kontrolu vyplněných d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 případě, že nejsou vyplněné některé povinné údaje nebo systém při finalizaci zjistil nesoulad v zadaných údajích, objeví se na obrazovce 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Arial"/>
              </a:rPr>
              <a:t>červené hlášky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e seznamem chyb, které je nutné odstranit. U každé chyby je uvedeno, na které záložce je nutné provést oprav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Černé hláš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sou pouze informativ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Když je v MZ všechno v pořádku, Benefit7 ohlásí, že kontrola proběhla v pořádku. Příjemce může finalizovat M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Obrázek 1" descr=""/>
          <p:cNvPicPr/>
          <p:nvPr/>
        </p:nvPicPr>
        <p:blipFill>
          <a:blip r:embed="rId1"/>
          <a:stretch/>
        </p:blipFill>
        <p:spPr>
          <a:xfrm>
            <a:off x="179280" y="2084400"/>
            <a:ext cx="4321440" cy="453384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3"/>
          <p:cNvSpPr/>
          <p:nvPr/>
        </p:nvSpPr>
        <p:spPr>
          <a:xfrm>
            <a:off x="2514600" y="1604880"/>
            <a:ext cx="2075040" cy="11034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ff0000"/>
                </a:solidFill>
                <a:uFillTx/>
                <a:latin typeface="Arial"/>
              </a:rPr>
              <a:t>POZOR!!!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ff0000"/>
                </a:solidFill>
                <a:uFillTx/>
                <a:latin typeface="Arial"/>
              </a:rPr>
              <a:t>Červené hlášky jsou chyby, ty je nutné opravit. Bez opravy nebude možná finalizace!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4" name="Přímá spojnice se šipkou 13"/>
          <p:cNvCxnSpPr/>
          <p:nvPr/>
        </p:nvCxnSpPr>
        <p:spPr>
          <a:xfrm flipH="1">
            <a:off x="2987280" y="2707920"/>
            <a:ext cx="494640" cy="36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25" name="Text Box 4"/>
          <p:cNvSpPr/>
          <p:nvPr/>
        </p:nvSpPr>
        <p:spPr>
          <a:xfrm>
            <a:off x="2627280" y="5589720"/>
            <a:ext cx="2092320" cy="841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Černé hlášky jsou pouze informativní a nejedná se o chyby. Příjemce je může ignorovat a finalizovat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6" name="Přímá spojnice se šipkou 16"/>
          <p:cNvCxnSpPr/>
          <p:nvPr/>
        </p:nvCxnSpPr>
        <p:spPr>
          <a:xfrm flipH="1" flipV="1">
            <a:off x="1475640" y="5373000"/>
            <a:ext cx="1151640" cy="359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27" name="Picture 13" descr=""/>
          <p:cNvPicPr/>
          <p:nvPr/>
        </p:nvPicPr>
        <p:blipFill>
          <a:blip r:embed="rId2"/>
          <a:stretch/>
        </p:blipFill>
        <p:spPr>
          <a:xfrm>
            <a:off x="289080" y="590400"/>
            <a:ext cx="16189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inalizace M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333680" y="1033200"/>
            <a:ext cx="451476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Finalizaci MZ příjemce provede pomocí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Finalizace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Finálně uzavřená MZ má na záložc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Informace o projektu a MZ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(přehledová tabulka v dolní části obrazovky) stav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ředaný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pouze v případě, že proběhla i finalizace ZjŽoP). Automaticky pak dojde k zaregistrování MZ do IS Monit7+, což příjemce pozná podle stavu dle Monit7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 Zaregistrována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zápatí náhledu MZ je uveden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Unikátní klíč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12-ti místní kód), který je složen ze  čtyř částí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HHHHHH ... Hash projektu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M ... M (string pro identifikaci monitorovací zprávy). U ZjŽoP je identifikace označená „0“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aaa ... pořadové číslo monitorovací; zprávy, dotažené z M7+ doplněné zleva nulami do 3 pozi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BB ... verze monitorovací zprávy doplněná zleva nulou do 2 pozic, začínající od 0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6" descr=""/>
          <p:cNvPicPr/>
          <p:nvPr/>
        </p:nvPicPr>
        <p:blipFill>
          <a:blip r:embed="rId1"/>
          <a:stretch/>
        </p:blipFill>
        <p:spPr>
          <a:xfrm>
            <a:off x="514440" y="2627280"/>
            <a:ext cx="3019320" cy="97776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  <p:grpSp>
        <p:nvGrpSpPr>
          <p:cNvPr id="233" name="Group 10"/>
          <p:cNvGrpSpPr/>
          <p:nvPr/>
        </p:nvGrpSpPr>
        <p:grpSpPr>
          <a:xfrm>
            <a:off x="539640" y="5300640"/>
            <a:ext cx="7557840" cy="266760"/>
            <a:chOff x="539640" y="5300640"/>
            <a:chExt cx="7557840" cy="266760"/>
          </a:xfrm>
        </p:grpSpPr>
        <p:pic>
          <p:nvPicPr>
            <p:cNvPr id="234" name="Picture 11" descr=""/>
            <p:cNvPicPr/>
            <p:nvPr/>
          </p:nvPicPr>
          <p:blipFill>
            <a:blip r:embed="rId2"/>
            <a:stretch/>
          </p:blipFill>
          <p:spPr>
            <a:xfrm>
              <a:off x="580680" y="5300640"/>
              <a:ext cx="751680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Rectangle 12"/>
            <p:cNvSpPr/>
            <p:nvPr/>
          </p:nvSpPr>
          <p:spPr>
            <a:xfrm>
              <a:off x="539640" y="5321520"/>
              <a:ext cx="7385040" cy="2062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Text Box 17"/>
          <p:cNvSpPr/>
          <p:nvPr/>
        </p:nvSpPr>
        <p:spPr>
          <a:xfrm>
            <a:off x="114480" y="5524560"/>
            <a:ext cx="9029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Bude-li MZ vrácena k přepracování, objeví se na panelu ovládacích tlačítek příjemci tlačítko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Storno finalizace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.  Pomocí tohoto tlačítka příjemce otevře MZ, provede opravu, znovu finalizuje a opravené předloží poskytovateli podpor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19" descr=""/>
          <p:cNvPicPr/>
          <p:nvPr/>
        </p:nvPicPr>
        <p:blipFill>
          <a:blip r:embed="rId3"/>
          <a:stretch/>
        </p:blipFill>
        <p:spPr>
          <a:xfrm>
            <a:off x="539640" y="981000"/>
            <a:ext cx="1619280" cy="1428840"/>
          </a:xfrm>
          <a:prstGeom prst="rect">
            <a:avLst/>
          </a:prstGeom>
          <a:ln w="0">
            <a:noFill/>
          </a:ln>
        </p:spPr>
      </p:pic>
      <p:sp>
        <p:nvSpPr>
          <p:cNvPr id="238" name="Obdélník 2"/>
          <p:cNvSpPr/>
          <p:nvPr/>
        </p:nvSpPr>
        <p:spPr>
          <a:xfrm>
            <a:off x="539640" y="1773360"/>
            <a:ext cx="107964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Přímá spojnice se šipkou 5"/>
          <p:cNvCxnSpPr>
            <a:stCxn id="238" idx="2"/>
          </p:cNvCxnSpPr>
          <p:nvPr/>
        </p:nvCxnSpPr>
        <p:spPr>
          <a:xfrm>
            <a:off x="1079280" y="2060280"/>
            <a:ext cx="1080" cy="6166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240" name="Picture 20" descr=""/>
          <p:cNvPicPr/>
          <p:nvPr/>
        </p:nvPicPr>
        <p:blipFill>
          <a:blip r:embed="rId4"/>
          <a:stretch/>
        </p:blipFill>
        <p:spPr>
          <a:xfrm>
            <a:off x="441360" y="3933720"/>
            <a:ext cx="4278240" cy="1008000"/>
          </a:xfrm>
          <a:prstGeom prst="rect">
            <a:avLst/>
          </a:prstGeom>
          <a:ln w="0">
            <a:noFill/>
          </a:ln>
        </p:spPr>
      </p:pic>
      <p:sp>
        <p:nvSpPr>
          <p:cNvPr id="241" name="Line 18"/>
          <p:cNvSpPr/>
          <p:nvPr/>
        </p:nvSpPr>
        <p:spPr>
          <a:xfrm flipH="1">
            <a:off x="2895480" y="2676600"/>
            <a:ext cx="1866960" cy="161604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bdélník 6"/>
          <p:cNvSpPr/>
          <p:nvPr/>
        </p:nvSpPr>
        <p:spPr>
          <a:xfrm>
            <a:off x="2581200" y="4292640"/>
            <a:ext cx="62244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Tisk a předložení M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211280" y="1268280"/>
            <a:ext cx="47610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Tisk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příjemce FINALIZOVANOU MZ vytiskn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MZ včetně příloh předkládá příjemce poskytovateli podpory v listinné podobě v jednom vyhotovení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 u="sng">
                <a:solidFill>
                  <a:srgbClr val="143f7e"/>
                </a:solidFill>
                <a:uFillTx/>
                <a:latin typeface="Arial"/>
              </a:rPr>
              <a:t>Požadovaná forma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: pevně sešít listy 1. části (z Benefit7 v *.pdf) a 2. části MZ (ve wordu) a přelepit v levém horním rohu. ZjŽoP se předkládá samostatně!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Přílohy MZ musí být řádně označeny číslem MZ a přiloženy k 1. a 2. části MZ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 případě rozsáhlých projektů není nutné označit každou přílohu číslem monitorovací zprávy, je však nutné tímto číslem označit např. šanon, vázací desky apod., ve kterých budou přílohy k MZ přiloženy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Rozhodujícím datem pro splnění termínu předložení MZ je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datum doručení MZ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oskytovateli podpory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, nikoliv datum podání zásilky na poště, tzn. nejpozději do 30 dnů od skončení sledovaného období v případě průběžné monitorovací zprávy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Listinná podoba žádosti včetně příloh musí být doručena v zalepené obálce, označené dle stanovené struktury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11" descr=""/>
          <p:cNvPicPr/>
          <p:nvPr/>
        </p:nvPicPr>
        <p:blipFill>
          <a:blip r:embed="rId1"/>
          <a:stretch/>
        </p:blipFill>
        <p:spPr>
          <a:xfrm>
            <a:off x="250920" y="1130400"/>
            <a:ext cx="3836880" cy="525600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14"/>
          <p:cNvSpPr/>
          <p:nvPr/>
        </p:nvSpPr>
        <p:spPr>
          <a:xfrm>
            <a:off x="539640" y="6237360"/>
            <a:ext cx="2808360" cy="1443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0" descr=""/>
          <p:cNvPicPr/>
          <p:nvPr/>
        </p:nvPicPr>
        <p:blipFill>
          <a:blip r:embed="rId2"/>
          <a:stretch/>
        </p:blipFill>
        <p:spPr>
          <a:xfrm>
            <a:off x="108000" y="620640"/>
            <a:ext cx="1590480" cy="1476360"/>
          </a:xfrm>
          <a:prstGeom prst="rect">
            <a:avLst/>
          </a:prstGeom>
          <a:ln w="0">
            <a:noFill/>
          </a:ln>
        </p:spPr>
      </p:pic>
      <p:sp>
        <p:nvSpPr>
          <p:cNvPr id="248" name="Obdélník 3"/>
          <p:cNvSpPr/>
          <p:nvPr/>
        </p:nvSpPr>
        <p:spPr>
          <a:xfrm>
            <a:off x="108000" y="1844640"/>
            <a:ext cx="1224000" cy="2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523600"/>
            <a:ext cx="8229600" cy="15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Zjednodušená žádost o platb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ehled záložek ZjŽ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50920" y="4508640"/>
            <a:ext cx="840744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 Kontě žádostí si příjemce vybere záložku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Žádost o platb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stupně příjemce vyplní všechny povinné záložk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pis jednotlivých záložek a polí je uveden v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okynech pro vyplnění monitorovacích zpráv o realizaci projektu OP LZZ a jejich příloh (D1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0" descr=""/>
          <p:cNvPicPr/>
          <p:nvPr/>
        </p:nvPicPr>
        <p:blipFill>
          <a:blip r:embed="rId1"/>
          <a:stretch/>
        </p:blipFill>
        <p:spPr>
          <a:xfrm>
            <a:off x="255600" y="907920"/>
            <a:ext cx="8115120" cy="19051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9" descr=""/>
          <p:cNvPicPr/>
          <p:nvPr/>
        </p:nvPicPr>
        <p:blipFill>
          <a:blip r:embed="rId2"/>
          <a:stretch/>
        </p:blipFill>
        <p:spPr>
          <a:xfrm>
            <a:off x="404640" y="2619360"/>
            <a:ext cx="8334720" cy="1743120"/>
          </a:xfrm>
          <a:prstGeom prst="rect">
            <a:avLst/>
          </a:prstGeom>
          <a:ln w="0">
            <a:noFill/>
          </a:ln>
        </p:spPr>
      </p:pic>
      <p:sp>
        <p:nvSpPr>
          <p:cNvPr id="254" name="Obdélník 6"/>
          <p:cNvSpPr/>
          <p:nvPr/>
        </p:nvSpPr>
        <p:spPr>
          <a:xfrm>
            <a:off x="255600" y="1860480"/>
            <a:ext cx="1584360" cy="200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5" name="Přímá spojnice se šipkou 5"/>
          <p:cNvCxnSpPr/>
          <p:nvPr/>
        </p:nvCxnSpPr>
        <p:spPr>
          <a:xfrm>
            <a:off x="1047240" y="2060640"/>
            <a:ext cx="358200" cy="1340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56" name="Obdélník 2"/>
          <p:cNvSpPr/>
          <p:nvPr/>
        </p:nvSpPr>
        <p:spPr>
          <a:xfrm>
            <a:off x="434880" y="3400560"/>
            <a:ext cx="1616040" cy="244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Žádost o platbu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0" y="1052280"/>
            <a:ext cx="439272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této záložce příjemce nalezne všeobecné informace o projektu, příjemci a žádosti o platb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mocí tlačítka „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Načíst data z MONIT7+“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se na ŽoP načtou data do části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Informace o projektu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a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Informace o žádosti o platbu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oli Typ žádosti o platbu jsou na výběr dvě varianty: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ex-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             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ex-post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oli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Výběr účtu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příjemce vybere účet, na který mu bude zaslána schválená platba. Číslo účtu je stanoveno právním ak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Číslo monitorovací zprávy lze vybrat pouze, je-li MZ již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finalizová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5" descr=""/>
          <p:cNvPicPr/>
          <p:nvPr/>
        </p:nvPicPr>
        <p:blipFill>
          <a:blip r:embed="rId1"/>
          <a:stretch/>
        </p:blipFill>
        <p:spPr>
          <a:xfrm>
            <a:off x="108000" y="1341360"/>
            <a:ext cx="4459320" cy="3511800"/>
          </a:xfrm>
          <a:prstGeom prst="rect">
            <a:avLst/>
          </a:prstGeom>
          <a:ln w="0">
            <a:noFill/>
          </a:ln>
        </p:spPr>
      </p:pic>
      <p:sp>
        <p:nvSpPr>
          <p:cNvPr id="260" name="Obdélník 1"/>
          <p:cNvSpPr/>
          <p:nvPr/>
        </p:nvSpPr>
        <p:spPr>
          <a:xfrm>
            <a:off x="108000" y="1341360"/>
            <a:ext cx="136836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Žádost o platbu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478400" y="1341000"/>
            <a:ext cx="44863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Ve druhé části záložky ŽoP se vše odvíjí od volby </a:t>
            </a:r>
            <a:r>
              <a:rPr b="1" lang="cs-CZ" sz="1900" spc="-1" strike="noStrike">
                <a:solidFill>
                  <a:srgbClr val="143f7e"/>
                </a:solidFill>
                <a:latin typeface="Arial"/>
              </a:rPr>
              <a:t>Typu žádosti:</a:t>
            </a: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 EX-ANTE nebo EX-POS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Vyplňte všechna povinná pol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Do pole </a:t>
            </a:r>
            <a:r>
              <a:rPr b="1" lang="cs-CZ" sz="1900" spc="-1" strike="noStrike">
                <a:solidFill>
                  <a:srgbClr val="143f7e"/>
                </a:solidFill>
                <a:latin typeface="Arial"/>
              </a:rPr>
              <a:t>Zdůvodnění platby</a:t>
            </a: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 příjemce uvede popis použití vynaložených prostředků v rámci realizace projektu v daném monitorovacím období. Pole je povinné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V Pokynech ŘO v B7 naleznete podrobný návod, jak jednotlivá pole vyplnit, a to jak pro ŽoP typu EX-ANTE, tak EX-POS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6" descr=""/>
          <p:cNvPicPr/>
          <p:nvPr/>
        </p:nvPicPr>
        <p:blipFill>
          <a:blip r:embed="rId1"/>
          <a:stretch/>
        </p:blipFill>
        <p:spPr>
          <a:xfrm>
            <a:off x="108000" y="979560"/>
            <a:ext cx="440208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lohy žádosti o platb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8000" y="4508640"/>
            <a:ext cx="8280360" cy="144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skytovatelem podpory </a:t>
            </a: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nejso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stanoveny povinné přílohy k žádosti platb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Nový záznam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může příjemce založit nepovinnou přílohu k žádosti o platb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Maximální velikost jedné přílohy přiložené ke ZjŽoP v elektronické podobě je 1MB. Maximální velikost celé ZjŽoP je 5M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5" descr=""/>
          <p:cNvPicPr/>
          <p:nvPr/>
        </p:nvPicPr>
        <p:blipFill>
          <a:blip r:embed="rId1"/>
          <a:stretch/>
        </p:blipFill>
        <p:spPr>
          <a:xfrm>
            <a:off x="1692360" y="1125360"/>
            <a:ext cx="58021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Tisk a předložení ZjŽ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427640" y="2133720"/>
            <a:ext cx="4525920" cy="15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143f7e"/>
                </a:solidFill>
                <a:latin typeface="Arial"/>
              </a:rPr>
              <a:t>Kontrolu a finalizaci</a:t>
            </a: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 ZjŽoP provádí příjemce stejně, jako v případě MZ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900" spc="-1" strike="noStrike">
                <a:solidFill>
                  <a:srgbClr val="143f7e"/>
                </a:solidFill>
                <a:latin typeface="Arial"/>
              </a:rPr>
              <a:t>Tisk</a:t>
            </a: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 příjemce ZjŽoP vytiskne. V tomto případě je postup stejný jako u MZ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6" descr=""/>
          <p:cNvPicPr/>
          <p:nvPr/>
        </p:nvPicPr>
        <p:blipFill>
          <a:blip r:embed="rId1"/>
          <a:stretch/>
        </p:blipFill>
        <p:spPr>
          <a:xfrm>
            <a:off x="647640" y="2133720"/>
            <a:ext cx="4032360" cy="43052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7" descr=""/>
          <p:cNvPicPr/>
          <p:nvPr/>
        </p:nvPicPr>
        <p:blipFill>
          <a:blip r:embed="rId2"/>
          <a:stretch/>
        </p:blipFill>
        <p:spPr>
          <a:xfrm>
            <a:off x="228600" y="851040"/>
            <a:ext cx="1638360" cy="1666800"/>
          </a:xfrm>
          <a:prstGeom prst="rect">
            <a:avLst/>
          </a:prstGeom>
          <a:ln w="0">
            <a:noFill/>
          </a:ln>
        </p:spPr>
      </p:pic>
      <p:sp>
        <p:nvSpPr>
          <p:cNvPr id="271" name="Obdélník 1"/>
          <p:cNvSpPr/>
          <p:nvPr/>
        </p:nvSpPr>
        <p:spPr>
          <a:xfrm>
            <a:off x="324000" y="2298600"/>
            <a:ext cx="647640" cy="1936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avidla pro MZ a ŽoP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 případě, že se jedná o Monitorovací zprávu se ŽoP, musí provést příjemce finalizaci MZ, poté mu Benefit7 umožní finalizovat zjednodušenou žádost o platbu. Následně bude automaticky MZ a ŽoP zaregistrována v Monit7+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 případě, že příjemce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neprovede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finalizaci ZjŽoP v Benefit7, může ještě provést STORNO FINALIZACE MZ a opravit nedostatky. Obráceně to nefunguje! Aplikace Benefit7 upozorní příjemce na skutečnost, že nelze provést finalizaci ZjŽoP, pokud není finalizována MZ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stup je pro příjemce následujíc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finalizace M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finalizace ZjŽ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d1131c"/>
                </a:solidFill>
                <a:latin typeface="Arial"/>
              </a:rPr>
              <a:t>Nelze založit MZ/ZjŽoP v Benefit7 dříve, než bude předchozí MZ/ZjŽoP v Monit7+ administrována (schválena/zamítnutá)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23600"/>
            <a:ext cx="8229600" cy="15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Monitorovací zpráva a přílo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torno finalizace MZ a Ž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68360" y="1844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MZ se/bez ŽoP mohou být kontaktní osobou poskytovatele podpory vráceny k dopracová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kud jsou navázány MZ+ŽoP,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vždy musí poskytovatel podpory odeslat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obě, jak MZ, tak ŽoP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říjemce provede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Storno finalizace,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inak nelze MZ ani ŽoP upravov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 opravě a kontrole je nutné provést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Finalizaci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, HASH se zvýší     o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avidla pro MZ a ŽoP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1116000" y="1197000"/>
          <a:ext cx="6762600" cy="3535200"/>
        </p:xfrm>
        <a:graphic>
          <a:graphicData uri="http://schemas.openxmlformats.org/drawingml/2006/table">
            <a:tbl>
              <a:tblPr/>
              <a:tblGrid>
                <a:gridCol w="366840"/>
                <a:gridCol w="1771560"/>
                <a:gridCol w="1282680"/>
                <a:gridCol w="1604880"/>
                <a:gridCol w="1736640"/>
              </a:tblGrid>
              <a:tr h="13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binace MZ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ZjŽo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eslat do Benefit7 MZ i ZjŽoP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tné provedení STORNA FINALIZACE MZ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tné provede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ORNA FINALIZAC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jŽoP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8226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MZ je v pořádku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ZjŽoP není v pořádk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MZ je špatně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ZjŽoP je v pořádk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MZ je špatně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ZjŽoP je špatn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Text Box 35"/>
          <p:cNvSpPr/>
          <p:nvPr/>
        </p:nvSpPr>
        <p:spPr>
          <a:xfrm>
            <a:off x="619200" y="4429080"/>
            <a:ext cx="85248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kud jsou navázány MZ+ŽoP,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vždy musí poskytovatel podpory odeslat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obě, jak MZ, tak ZjŽoP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 Poté bude možné provést v Benefit7 odfinalizování (STORNO FINALIZACE) MZ, nebo jen ZjŽoP, nebo obou (podle potřeb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3808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143f7e"/>
                </a:solidFill>
                <a:latin typeface="Arial"/>
              </a:rPr>
              <a:t>Děkuji za pozornost </a:t>
            </a:r>
            <a:r>
              <a:rPr b="0" lang="cs-CZ" sz="3900" spc="-1" strike="noStrike">
                <a:solidFill>
                  <a:srgbClr val="143f7e"/>
                </a:solidFill>
                <a:latin typeface="Wingdings"/>
                <a:ea typeface="Wingdings"/>
              </a:rPr>
              <a:t>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Řídící orgán OP L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Oddělení monitorování a evalu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Odbor řízení pomoci z ES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Ministerstvo práce a sociálních věcí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Na Poříčním právu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128 01 Praha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enefit7@mpsv.cz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Titulní strana Benefit7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5157360"/>
            <a:ext cx="7848720" cy="84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a titulní straně Benefit7 se nacházejí a průběžně aktualizují důležitá sdělení a novinky (červeně) v rámci OP LZ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1258920" y="1125360"/>
            <a:ext cx="63007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to žádostí</a:t>
            </a: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4581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přehledu Vašich žádostí (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Konto žádostí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) klikněte na projekt, ke kterému chcete vyplňovat M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té vyberte ze seznamu Monitorovací zprávu nebo Žádost o platb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9" descr=""/>
          <p:cNvPicPr/>
          <p:nvPr/>
        </p:nvPicPr>
        <p:blipFill>
          <a:blip r:embed="rId1"/>
          <a:stretch/>
        </p:blipFill>
        <p:spPr>
          <a:xfrm>
            <a:off x="900000" y="890640"/>
            <a:ext cx="7704360" cy="2322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"/>
          <p:cNvPicPr/>
          <p:nvPr/>
        </p:nvPicPr>
        <p:blipFill>
          <a:blip r:embed="rId2"/>
          <a:stretch/>
        </p:blipFill>
        <p:spPr>
          <a:xfrm>
            <a:off x="1403280" y="2349360"/>
            <a:ext cx="6361200" cy="2052720"/>
          </a:xfrm>
          <a:prstGeom prst="rect">
            <a:avLst/>
          </a:prstGeom>
          <a:ln w="0">
            <a:noFill/>
          </a:ln>
        </p:spPr>
      </p:pic>
      <p:sp>
        <p:nvSpPr>
          <p:cNvPr id="61" name="Obdélník 1"/>
          <p:cNvSpPr/>
          <p:nvPr/>
        </p:nvSpPr>
        <p:spPr>
          <a:xfrm>
            <a:off x="2484360" y="1989000"/>
            <a:ext cx="597528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Přímá spojnice se šipkou 4"/>
          <p:cNvCxnSpPr/>
          <p:nvPr/>
        </p:nvCxnSpPr>
        <p:spPr>
          <a:xfrm flipH="1">
            <a:off x="2267640" y="2205000"/>
            <a:ext cx="1367640" cy="1008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3" name="Obdélník 5"/>
          <p:cNvSpPr/>
          <p:nvPr/>
        </p:nvSpPr>
        <p:spPr>
          <a:xfrm>
            <a:off x="1403280" y="3068640"/>
            <a:ext cx="129708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ýběr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monitorovací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prá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645000"/>
            <a:ext cx="8229600" cy="24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Z přehledové tabulky vyberte MZ nebo ŽoP, na které chcete pracov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kud Vám nejde nová MZ založit, obraťte se na svou kontaktní osobu, Benefit7 Vás na tuto skutečnost upozorní červenou hlášk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7258320" cy="1612800"/>
          </a:xfrm>
          <a:prstGeom prst="rect">
            <a:avLst/>
          </a:prstGeom>
          <a:ln w="0">
            <a:noFill/>
          </a:ln>
        </p:spPr>
      </p:pic>
      <p:sp>
        <p:nvSpPr>
          <p:cNvPr id="67" name="Obdélník 1"/>
          <p:cNvSpPr/>
          <p:nvPr/>
        </p:nvSpPr>
        <p:spPr>
          <a:xfrm>
            <a:off x="847800" y="2262240"/>
            <a:ext cx="136836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52280"/>
            <a:ext cx="822960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áložky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Monitorovací zprá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132000" y="1447920"/>
            <a:ext cx="5688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pis jednotlivých záložek a polí je uveden v 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okynech pro vyplnění monitorovacích zpráv o realizaci projektu OP LZZ a jejich příloh (D10)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Je nutné vyplňovat jednotlivé záložky a pole postupně. Jednotlivá data na sebe navazuj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vinná pole v Benefitu7 jsou podbarvena </a:t>
            </a:r>
            <a:r>
              <a:rPr b="0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žlutou barv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197172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 o projektu a MZ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2640" y="1196640"/>
            <a:ext cx="4464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 úspěšném načtení dat z MONIT7+ se automaticky vyplní část záložky -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Informace o projekt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Informace o monitorovací zprávě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a zaktivní se tlačítko „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Načíst rozpočet projektu z MONIT7+“.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eho zmáčknutím se automaticky načte na záložce Rozpočet projektu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aktuální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podob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rozpočt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 případě, že bude příjemce potřebovat změnit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Typ zprávy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musí požádat příslušného poskytovatele podpory, aby typ zprávy změnil v IS Monit7+. Pak musí příjemce původně </a:t>
            </a: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založenou MZ v B7 smazat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pomocí tlačítka Nový záznam vytvořit novou MZ, uložit a znovu načíst data z Monit7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392360" cy="5040360"/>
          </a:xfrm>
          <a:prstGeom prst="rect">
            <a:avLst/>
          </a:prstGeom>
          <a:ln w="0">
            <a:noFill/>
          </a:ln>
        </p:spPr>
      </p:pic>
      <p:sp>
        <p:nvSpPr>
          <p:cNvPr id="75" name="Obdélník 1"/>
          <p:cNvSpPr/>
          <p:nvPr/>
        </p:nvSpPr>
        <p:spPr>
          <a:xfrm>
            <a:off x="250920" y="1916280"/>
            <a:ext cx="1152360" cy="288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2"/>
          <p:cNvSpPr/>
          <p:nvPr/>
        </p:nvSpPr>
        <p:spPr>
          <a:xfrm>
            <a:off x="2556000" y="1916280"/>
            <a:ext cx="1368360" cy="28872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bdélník 3"/>
          <p:cNvSpPr/>
          <p:nvPr/>
        </p:nvSpPr>
        <p:spPr>
          <a:xfrm>
            <a:off x="395280" y="5805360"/>
            <a:ext cx="2736720" cy="432000"/>
          </a:xfrm>
          <a:prstGeom prst="rect">
            <a:avLst/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Přímá spojnice se šipkou 5"/>
          <p:cNvCxnSpPr/>
          <p:nvPr/>
        </p:nvCxnSpPr>
        <p:spPr>
          <a:xfrm flipH="1">
            <a:off x="3131640" y="4723920"/>
            <a:ext cx="1728000" cy="1081800"/>
          </a:xfrm>
          <a:prstGeom prst="straightConnector1">
            <a:avLst/>
          </a:prstGeom>
          <a:ln w="19080">
            <a:solidFill>
              <a:srgbClr val="00206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Bukovská Jiřina (MPSV)</cp:lastModifiedBy>
  <cp:lastPrinted>2012-04-23T10:38:10Z</cp:lastPrinted>
  <dcterms:modified xsi:type="dcterms:W3CDTF">2012-12-11T06:49:25Z</dcterms:modified>
  <cp:revision>441</cp:revision>
  <dc:subject/>
  <dc:title>Snímek 1</dc:title>
</cp:coreProperties>
</file>