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4160" cy="370188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3680"/>
            <a:ext cx="291924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3680"/>
            <a:ext cx="2919240" cy="492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cs-CZ" sz="1200" spc="-1" strike="noStrike">
                <a:solidFill>
                  <a:srgbClr val="000000"/>
                </a:solidFill>
                <a:latin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10C758B-2718-4B40-ABF7-41C69917EA9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3240" y="739800"/>
            <a:ext cx="4934160" cy="3701880"/>
          </a:xfrm>
          <a:prstGeom prst="rect">
            <a:avLst/>
          </a:prstGeom>
          <a:ln w="0">
            <a:noFill/>
          </a:ln>
        </p:spPr>
      </p:sp>
      <p:sp>
        <p:nvSpPr>
          <p:cNvPr id="14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5701293-04B5-48DA-AE37-07B3B57E381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3240" y="739800"/>
            <a:ext cx="4934160" cy="3701880"/>
          </a:xfrm>
          <a:prstGeom prst="rect">
            <a:avLst/>
          </a:prstGeom>
          <a:ln w="0">
            <a:noFill/>
          </a:ln>
        </p:spPr>
      </p:sp>
      <p:sp>
        <p:nvSpPr>
          <p:cNvPr id="1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173C1C9-687A-4C05-8EF4-CA41CC7CB15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3240" y="739800"/>
            <a:ext cx="4934160" cy="3701880"/>
          </a:xfrm>
          <a:prstGeom prst="rect">
            <a:avLst/>
          </a:prstGeom>
          <a:ln w="0">
            <a:noFill/>
          </a:ln>
        </p:spPr>
      </p:sp>
      <p:sp>
        <p:nvSpPr>
          <p:cNvPr id="1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CCEEC8C-E209-4A50-B385-7038A555520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3240" y="739800"/>
            <a:ext cx="4934160" cy="3701880"/>
          </a:xfrm>
          <a:prstGeom prst="rect">
            <a:avLst/>
          </a:prstGeom>
          <a:ln w="0">
            <a:noFill/>
          </a:ln>
        </p:spPr>
      </p:sp>
      <p:sp>
        <p:nvSpPr>
          <p:cNvPr id="1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02B13FA-6051-4BE2-AB11-EADB79B5B5F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3240" y="739800"/>
            <a:ext cx="4934160" cy="3701880"/>
          </a:xfrm>
          <a:prstGeom prst="rect">
            <a:avLst/>
          </a:prstGeom>
          <a:ln w="0">
            <a:noFill/>
          </a:ln>
        </p:spPr>
      </p:sp>
      <p:sp>
        <p:nvSpPr>
          <p:cNvPr id="1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307F951-34D3-428F-97C2-9E8DF544F87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3240" y="739800"/>
            <a:ext cx="4934160" cy="3701880"/>
          </a:xfrm>
          <a:prstGeom prst="rect">
            <a:avLst/>
          </a:prstGeom>
          <a:ln w="0">
            <a:noFill/>
          </a:ln>
        </p:spPr>
      </p:sp>
      <p:sp>
        <p:nvSpPr>
          <p:cNvPr id="1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1F41C3E-D56B-4628-9C2F-7D31FF2BEB5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3240" y="739800"/>
            <a:ext cx="4934160" cy="3701880"/>
          </a:xfrm>
          <a:prstGeom prst="rect">
            <a:avLst/>
          </a:prstGeom>
          <a:ln w="0">
            <a:noFill/>
          </a:ln>
        </p:spPr>
      </p:sp>
      <p:sp>
        <p:nvSpPr>
          <p:cNvPr id="17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33863D7-EBE6-4626-9575-64EB7BBC7BF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3240" y="739800"/>
            <a:ext cx="4934160" cy="3701880"/>
          </a:xfrm>
          <a:prstGeom prst="rect">
            <a:avLst/>
          </a:prstGeom>
          <a:ln w="0">
            <a:noFill/>
          </a:ln>
        </p:spPr>
      </p:sp>
      <p:sp>
        <p:nvSpPr>
          <p:cNvPr id="17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492C69A-D244-4077-B4C9-0D4D6B6A31B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3240" y="739800"/>
            <a:ext cx="4934160" cy="3701880"/>
          </a:xfrm>
          <a:prstGeom prst="rect">
            <a:avLst/>
          </a:prstGeom>
          <a:ln w="0">
            <a:noFill/>
          </a:ln>
        </p:spPr>
      </p:sp>
      <p:sp>
        <p:nvSpPr>
          <p:cNvPr id="17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5A2F983-2998-432B-BF48-4949CA55693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3240" y="739800"/>
            <a:ext cx="4934160" cy="3701880"/>
          </a:xfrm>
          <a:prstGeom prst="rect">
            <a:avLst/>
          </a:prstGeom>
          <a:ln w="0">
            <a:noFill/>
          </a:ln>
        </p:spPr>
      </p:sp>
      <p:sp>
        <p:nvSpPr>
          <p:cNvPr id="17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D8FEDAB-A90F-4805-952F-29B0A64284B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3240" y="739800"/>
            <a:ext cx="4934160" cy="3701880"/>
          </a:xfrm>
          <a:prstGeom prst="rect">
            <a:avLst/>
          </a:prstGeom>
          <a:ln w="0">
            <a:noFill/>
          </a:ln>
        </p:spPr>
      </p:sp>
      <p:sp>
        <p:nvSpPr>
          <p:cNvPr id="18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42B681B-4AE3-4D14-B66C-A6C9852FF86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3240" y="739800"/>
            <a:ext cx="4934160" cy="3701880"/>
          </a:xfrm>
          <a:prstGeom prst="rect">
            <a:avLst/>
          </a:prstGeom>
          <a:ln w="0">
            <a:noFill/>
          </a:ln>
        </p:spPr>
      </p:sp>
      <p:sp>
        <p:nvSpPr>
          <p:cNvPr id="18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828A531-20CA-4275-9EE8-5D7AA1580BA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240" y="739800"/>
            <a:ext cx="4934160" cy="3701880"/>
          </a:xfrm>
          <a:prstGeom prst="rect">
            <a:avLst/>
          </a:prstGeom>
          <a:ln w="0">
            <a:noFill/>
          </a:ln>
        </p:spPr>
      </p:sp>
      <p:sp>
        <p:nvSpPr>
          <p:cNvPr id="1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2398877-5B9F-4D0E-AEF0-714725A4EFB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3240" y="739800"/>
            <a:ext cx="4934160" cy="3701880"/>
          </a:xfrm>
          <a:prstGeom prst="rect">
            <a:avLst/>
          </a:prstGeom>
          <a:ln w="0">
            <a:noFill/>
          </a:ln>
        </p:spPr>
      </p:sp>
      <p:sp>
        <p:nvSpPr>
          <p:cNvPr id="1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013C66F-554E-4FAD-A3B4-C27AAEBE34E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B256FC4-7FA7-4EA8-8E0B-89D4D950584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03240" y="739800"/>
            <a:ext cx="4934160" cy="3701880"/>
          </a:xfrm>
          <a:prstGeom prst="rect">
            <a:avLst/>
          </a:prstGeom>
          <a:ln w="0">
            <a:noFill/>
          </a:ln>
        </p:spPr>
      </p:sp>
      <p:sp>
        <p:nvSpPr>
          <p:cNvPr id="19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39800"/>
            <a:ext cx="4934160" cy="3701880"/>
          </a:xfrm>
          <a:prstGeom prst="rect">
            <a:avLst/>
          </a:prstGeom>
          <a:ln w="0">
            <a:noFill/>
          </a:ln>
        </p:spPr>
      </p:sp>
      <p:sp>
        <p:nvSpPr>
          <p:cNvPr id="19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14 e zákona, sankce dle metodického pokynu kapitoly 4 se v případě, kdy Rozhodnutí stanoví jinak, se uplatní Rozhodnutí. U OSS u nových rozhodnutí procenta a odkaz na D9, ale kde odkaz není, budeme uplatňovat D 9 s argumentem na aktuální platnost příruček. </a:t>
            </a:r>
            <a:endParaRPr b="0" lang="en-US" sz="1200" spc="-1" strike="noStrike">
              <a:solidFill>
                <a:srgbClr val="000000"/>
              </a:solidFill>
              <a:latin typeface="Arial"/>
            </a:endParaRPr>
          </a:p>
        </p:txBody>
      </p:sp>
      <p:sp>
        <p:nvSpPr>
          <p:cNvPr id="19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8217C43-41C7-4072-BDAF-A58A86C6AAB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3240" y="739800"/>
            <a:ext cx="4934160" cy="370188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DDEBBF8-17F5-415D-9412-4E61E12C7E5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244FA-5720-4DB2-A9A9-1D8E1914D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8D751-6095-4AEE-9DD2-698BE98A5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7C0F0-5F51-413E-827A-04B2E5FCD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C1A59-4DEF-4632-84D3-6C1D5018A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61F64-66E6-45C8-807B-CF0F2C167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0DE34-7A7B-44EE-8190-7F8ECDCE5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1D6F5-C4F4-43AE-9779-7D32693FA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3358E-4982-46F3-901B-DE85FC3F3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90980-1B8A-4615-B8D2-47C75AA39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8F971-1C64-403A-9FC7-8D89D8261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B38AF-64D6-48A9-8D10-93D2BED03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A50A-68FF-43A9-ADDE-5FEC994B5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F344-B5E9-426F-BE3B-A8CDF9F201F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0"/>
            <a:ext cx="9144000" cy="6845400"/>
          </a:xfrm>
          <a:prstGeom prst="rect">
            <a:avLst/>
          </a:prstGeom>
          <a:ln w="0">
            <a:noFill/>
          </a:ln>
        </p:spPr>
      </p:pic>
      <p:sp>
        <p:nvSpPr>
          <p:cNvPr id="50" name="Obdélník 1"/>
          <p:cNvSpPr/>
          <p:nvPr/>
        </p:nvSpPr>
        <p:spPr>
          <a:xfrm>
            <a:off x="1763640" y="1916280"/>
            <a:ext cx="561672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3F9B-9C1C-476B-9738-BFEEEF5E9FD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36A4-D69A-449E-B82F-072860257D8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02D7-1D0B-4606-AE2A-4EE1AF5D532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1883-59FF-4A5E-90B3-2181A2BD058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1F36-1F7C-4F5F-B2EC-53B1B9216A8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20C8-FB0B-4AEF-899D-F6A8E350C77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6</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8</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0B66-8950-4B24-B399-D60B6DC9978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1.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Eliška</cp:lastModifiedBy>
  <cp:lastPrinted>2012-06-21T11:05:10Z</cp:lastPrinted>
  <dcterms:modified xsi:type="dcterms:W3CDTF">2012-12-07T09:16:52Z</dcterms:modified>
  <cp:revision>463</cp:revision>
  <dc:subject/>
  <dc:title>Snímek 1</dc:title>
</cp:coreProperties>
</file>