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600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03240" y="739440"/>
            <a:ext cx="4934160" cy="3701880"/>
          </a:xfrm>
          <a:prstGeom prst="rect">
            <a:avLst/>
          </a:prstGeom>
          <a:noFill/>
          <a:ln w="9360">
            <a:solidFill>
              <a:srgbClr val="000000"/>
            </a:solidFill>
            <a:miter/>
          </a:ln>
        </p:spPr>
        <p:txBody>
          <a:bodyPr lIns="89640" rIns="89640" tIns="44640" bIns="44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3680"/>
            <a:ext cx="291924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6000" y="9373680"/>
            <a:ext cx="2919240" cy="49212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cs-CZ" sz="1200" spc="-1" strike="noStrike">
                <a:solidFill>
                  <a:srgbClr val="000000"/>
                </a:solidFill>
                <a:latin typeface="Arial"/>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C703BD8-2A86-4FFB-9EF3-67A1107041B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3240" y="739800"/>
            <a:ext cx="4934160" cy="3701880"/>
          </a:xfrm>
          <a:prstGeom prst="rect">
            <a:avLst/>
          </a:prstGeom>
          <a:ln w="0">
            <a:noFill/>
          </a:ln>
        </p:spPr>
      </p:sp>
      <p:sp>
        <p:nvSpPr>
          <p:cNvPr id="149"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BF60E9D-C1FD-4611-9589-ACDD373CC59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3240" y="739800"/>
            <a:ext cx="4934160" cy="3701880"/>
          </a:xfrm>
          <a:prstGeom prst="rect">
            <a:avLst/>
          </a:prstGeom>
          <a:ln w="0">
            <a:noFill/>
          </a:ln>
        </p:spPr>
      </p:sp>
      <p:sp>
        <p:nvSpPr>
          <p:cNvPr id="15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621FB91-888F-4DA3-89DA-FB736CEDB37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03240" y="739800"/>
            <a:ext cx="4934160" cy="3701880"/>
          </a:xfrm>
          <a:prstGeom prst="rect">
            <a:avLst/>
          </a:prstGeom>
          <a:ln w="0">
            <a:noFill/>
          </a:ln>
        </p:spPr>
      </p:sp>
      <p:sp>
        <p:nvSpPr>
          <p:cNvPr id="158"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2A4747D-7E95-42AB-9EB2-1E25E8ED3DF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3240" y="739800"/>
            <a:ext cx="4934160" cy="3701880"/>
          </a:xfrm>
          <a:prstGeom prst="rect">
            <a:avLst/>
          </a:prstGeom>
          <a:ln w="0">
            <a:noFill/>
          </a:ln>
        </p:spPr>
      </p:sp>
      <p:sp>
        <p:nvSpPr>
          <p:cNvPr id="161"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236F5D4-5DDE-4A32-83BA-16894CC137E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03240" y="739800"/>
            <a:ext cx="4934160" cy="3701880"/>
          </a:xfrm>
          <a:prstGeom prst="rect">
            <a:avLst/>
          </a:prstGeom>
          <a:ln w="0">
            <a:noFill/>
          </a:ln>
        </p:spPr>
      </p:sp>
      <p:sp>
        <p:nvSpPr>
          <p:cNvPr id="164"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7C6CAF2-9DCA-492C-87B9-4110EF479D7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3240" y="739800"/>
            <a:ext cx="4934160" cy="3701880"/>
          </a:xfrm>
          <a:prstGeom prst="rect">
            <a:avLst/>
          </a:prstGeom>
          <a:ln w="0">
            <a:noFill/>
          </a:ln>
        </p:spPr>
      </p:sp>
      <p:sp>
        <p:nvSpPr>
          <p:cNvPr id="16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358EF49-6834-495C-AE65-0C31D93A8B8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03240" y="739800"/>
            <a:ext cx="4934160" cy="3701880"/>
          </a:xfrm>
          <a:prstGeom prst="rect">
            <a:avLst/>
          </a:prstGeom>
          <a:ln w="0">
            <a:noFill/>
          </a:ln>
        </p:spPr>
      </p:sp>
      <p:sp>
        <p:nvSpPr>
          <p:cNvPr id="170"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15FE3CD-13C3-40BB-AD90-47BF7348B37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3240" y="739800"/>
            <a:ext cx="4934160" cy="3701880"/>
          </a:xfrm>
          <a:prstGeom prst="rect">
            <a:avLst/>
          </a:prstGeom>
          <a:ln w="0">
            <a:noFill/>
          </a:ln>
        </p:spPr>
      </p:sp>
      <p:sp>
        <p:nvSpPr>
          <p:cNvPr id="173"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14F4E49-79B7-4121-A1B8-14A0391FE66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03240" y="739800"/>
            <a:ext cx="4934160" cy="3701880"/>
          </a:xfrm>
          <a:prstGeom prst="rect">
            <a:avLst/>
          </a:prstGeom>
          <a:ln w="0">
            <a:noFill/>
          </a:ln>
        </p:spPr>
      </p:sp>
      <p:sp>
        <p:nvSpPr>
          <p:cNvPr id="176"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88ED944-7940-4BFF-A3FD-45A0CDF800C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03240" y="739800"/>
            <a:ext cx="4934160" cy="3701880"/>
          </a:xfrm>
          <a:prstGeom prst="rect">
            <a:avLst/>
          </a:prstGeom>
          <a:ln w="0">
            <a:noFill/>
          </a:ln>
        </p:spPr>
      </p:sp>
      <p:sp>
        <p:nvSpPr>
          <p:cNvPr id="179"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57DC634-2B66-4DD1-B14B-24AB0A13E85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03240" y="739800"/>
            <a:ext cx="4934160" cy="3701880"/>
          </a:xfrm>
          <a:prstGeom prst="rect">
            <a:avLst/>
          </a:prstGeom>
          <a:ln w="0">
            <a:noFill/>
          </a:ln>
        </p:spPr>
      </p:sp>
      <p:sp>
        <p:nvSpPr>
          <p:cNvPr id="18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053B215-5DBF-47CD-9B48-839C1596758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3240" y="739800"/>
            <a:ext cx="4934160" cy="3701880"/>
          </a:xfrm>
          <a:prstGeom prst="rect">
            <a:avLst/>
          </a:prstGeom>
          <a:ln w="0">
            <a:noFill/>
          </a:ln>
        </p:spPr>
      </p:sp>
      <p:sp>
        <p:nvSpPr>
          <p:cNvPr id="18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6B1821C-6DD3-4AB7-955F-1CCF3F62BD4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3240" y="739800"/>
            <a:ext cx="4934160" cy="3701880"/>
          </a:xfrm>
          <a:prstGeom prst="rect">
            <a:avLst/>
          </a:prstGeom>
          <a:ln w="0">
            <a:noFill/>
          </a:ln>
        </p:spPr>
      </p:sp>
      <p:sp>
        <p:nvSpPr>
          <p:cNvPr id="188"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6846823-67F6-4D9E-8850-06CF5E8E97B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03240" y="739800"/>
            <a:ext cx="4934160" cy="3701880"/>
          </a:xfrm>
          <a:prstGeom prst="rect">
            <a:avLst/>
          </a:prstGeom>
          <a:ln w="0">
            <a:noFill/>
          </a:ln>
        </p:spPr>
      </p:sp>
      <p:sp>
        <p:nvSpPr>
          <p:cNvPr id="191"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9625881-98F7-48A8-B51B-AEC748F92FD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E7FBBEC-58FC-4353-88D0-DEEB3EC267E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03240" y="739800"/>
            <a:ext cx="4934160" cy="3701880"/>
          </a:xfrm>
          <a:prstGeom prst="rect">
            <a:avLst/>
          </a:prstGeom>
          <a:ln w="0">
            <a:noFill/>
          </a:ln>
        </p:spPr>
      </p:sp>
      <p:sp>
        <p:nvSpPr>
          <p:cNvPr id="19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03240" y="739800"/>
            <a:ext cx="4934160" cy="3701880"/>
          </a:xfrm>
          <a:prstGeom prst="rect">
            <a:avLst/>
          </a:prstGeom>
          <a:ln w="0">
            <a:noFill/>
          </a:ln>
        </p:spPr>
      </p:sp>
      <p:sp>
        <p:nvSpPr>
          <p:cNvPr id="19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14 e zákona, sankce dle metodického pokynu kapitoly 4 se v případě, kdy Rozhodnutí stanoví jinak, se uplatní Rozhodnutí. U OSS u nových rozhodnutí procenta a odkaz na D9, ale kde odkaz není, budeme uplatňovat D 9 s argumentem na aktuální platnost příruček. </a:t>
            </a:r>
            <a:endParaRPr b="0" lang="en-US" sz="1200" spc="-1" strike="noStrike">
              <a:solidFill>
                <a:srgbClr val="000000"/>
              </a:solidFill>
              <a:latin typeface="Arial"/>
            </a:endParaRPr>
          </a:p>
        </p:txBody>
      </p:sp>
      <p:sp>
        <p:nvSpPr>
          <p:cNvPr id="19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D72F798-C4FB-4920-AEC9-7445D261520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03240" y="739800"/>
            <a:ext cx="4934160" cy="3701880"/>
          </a:xfrm>
          <a:prstGeom prst="rect">
            <a:avLst/>
          </a:prstGeom>
          <a:ln w="0">
            <a:noFill/>
          </a:ln>
        </p:spPr>
      </p:sp>
      <p:sp>
        <p:nvSpPr>
          <p:cNvPr id="15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2259182-09CD-4DB7-B5AB-C438E562FFD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35CBE-F650-48D2-8D29-5F833EE9C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86E44-0522-4C79-92E3-9AB8A082A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A6A4E-ABD3-4CAA-AA27-6BC926421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73050-F72C-4D55-B916-B0F30043A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4BF33-5B98-4BF5-9F08-8CC0362E5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D22FE-4702-4090-9451-5B7119F2E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7EDF8-6716-42C3-B0A9-E56235387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4A0E6-50AA-4247-BB6A-9C9BA26F5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948AF-5B88-422A-8F3C-9BA20E894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47483-3770-4BD0-8C95-6DBB37AA0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94177-4178-43D4-9BC9-0BF9C3843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10400-F7D4-43F7-B6D1-4B40121C8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2735-2B3A-4340-9E6D-761655250B9C}"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0"/>
            <a:ext cx="9144000" cy="6845400"/>
          </a:xfrm>
          <a:prstGeom prst="rect">
            <a:avLst/>
          </a:prstGeom>
          <a:ln w="0">
            <a:noFill/>
          </a:ln>
        </p:spPr>
      </p:pic>
      <p:sp>
        <p:nvSpPr>
          <p:cNvPr id="50" name="Obdélník 1"/>
          <p:cNvSpPr/>
          <p:nvPr/>
        </p:nvSpPr>
        <p:spPr>
          <a:xfrm>
            <a:off x="1763640" y="1916280"/>
            <a:ext cx="561672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A5DF-B431-4E9D-B1C5-14F9C436A6B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970F-9618-4051-9F9F-1958F665DC48}"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4CAA-28C2-42DE-83F9-5DE4D9C84FE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41CF-BD9C-4173-B7C9-C300333EE38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2113-BB30-4A01-A074-49E28A79687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3BE9-2A86-4B99-89F3-5620A6C3317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6</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8</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5E6FC-B87A-401B-80F4-AC051197DDF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1.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Eliška</cp:lastModifiedBy>
  <cp:lastPrinted>2012-06-21T11:05:10Z</cp:lastPrinted>
  <dcterms:modified xsi:type="dcterms:W3CDTF">2012-12-07T09:16:52Z</dcterms:modified>
  <cp:revision>463</cp:revision>
  <dc:subject/>
  <dc:title>Snímek 1</dc:title>
</cp:coreProperties>
</file>