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2829-4031-4D5E-98B9-D2D1771AED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FB7F-456D-434F-99DE-281B2246B6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66BC-F22F-41C1-AE67-81AFA6C904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601F-42AF-4F27-B39A-DFA8142201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0CBF-C10A-49F1-8DEA-EC5CC73F96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4449-DD22-40F6-A70A-059635D13DF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858B-C135-4639-9D77-1B181FCE4F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F3EB-2FC2-4CF6-8028-8992ADECC6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5F6A-D490-4224-97C4-2050213AE1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AF3B-EEC1-4C91-A65A-98303E9FD7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E744-6AA4-4EBC-A68B-B53A7FC949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78AE-0AEB-4D70-B057-7F07952D4C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811F-BA95-4591-A07A-8519097AAB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AD6A-BB93-493D-8FE9-A3C5778D4E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9717-264B-4F82-A65B-7FF2860F7C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1C12-4229-4137-8AF4-15CA218477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FDC7-1EE3-4D42-B3AA-27F3540CD9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A29D-124D-4F14-9D17-4269199289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891D-AED2-47C1-BEED-A6F93258A3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710F-8634-45A3-94B7-279D469F5C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DFB1-E749-4DF0-9463-D5EF81C618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A04C-35D4-4F60-80F6-B5B3BC4C1D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602B-35BB-4D63-8077-ACFC44B111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7B49-5282-4564-8FA1-44B42F0076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1FD2-CF6B-4DBE-9DDE-86D2FAC1A5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9958-F1DE-490C-B14F-3EECF42B70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624-0737-4EC0-9725-43750A0A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1AFC-ACD2-48FB-9778-DC6B04BF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5A6-0CBE-4DF7-B289-F88A8280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FA2-4826-47A9-AB37-2114537F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CAA-E849-4872-A039-8DE3D870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64C-CE3B-4C73-AA4F-67B39891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F35-2CFD-476A-9A13-3B4570E6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1DD-33EE-4688-AFC2-6C514A10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39E-63C8-4792-8035-D8E01C53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FBC-9B14-4ECA-AEB3-5A9701FF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E89-8F33-4A5C-A70B-62654FEA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4C3-16C3-4C1D-9D33-E4BFB578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8710-C3CD-4B38-A33A-9B23296F8AA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77 a 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11. 12. 2012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6.   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projektu podle bodu 15 části II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Změny ve způsobu provádění klíčových aktivit a klíčových pozic realizačního týmu – v případě, že bod 15 části II Rozhodnutí se odkazuje na klíčové aktivity a realizační tý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197000"/>
          <a:ext cx="8207280" cy="507528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uditorská zpráva </a:t>
                      </a:r>
                      <a:r>
                        <a:rPr b="1" lang="cs-CZ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pouze pokud je povinnost provést audit stanovená v Rozhodnutí o poskytnutí dota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datem podpisu oprávněné osoby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auditora (v případě povinnosti provést a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, čase a odvětví obvyklých (dostupné na www.esfcr.cz, součástí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12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1:  (9:05 – 10:00 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(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2: (cca 10:10 – 12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 náklady, partnerst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ovací indiká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: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3:  ( cca 12:30 – 13:40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+ 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3:4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4: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(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ca od 13: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řejná podpora - de mini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92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Dva typy partners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s finančním příspěvke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přijímá prostřednictvím příjemce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část finanční podpory na realizaci věcných projektových aktiv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bez finančního příspěvku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se podílí na realizaci věcných aktivit projektu, např. formou konzultací, odborné garance apod., ale není mu poskytován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žádný finanční příspěvek za účast na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s českými partn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i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zahraničních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r je vždy partnerem bez finančního příspěv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ři si musí sami zajistit financování aktivit, k jejichž zajištění se zavazují v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ě o mezinárodní spoluprá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(kromě zdrojů z ESF i jiné zdroje financování, např. vlastní zdroje, národní financování nebo jiný druh financování z rozpočtu EU)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droje financování zahraniční partner už dále nedoklá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jimka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– způsobilými výdaji mohou být výdaje na cestovné, ubytování a stravu (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Per-diems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) v případě, že zahraniční partner např. prezentuje na mezinárodní konferenci v ČR nebo jiným způsobem předává zkušenosti partnerům v ČR, podrobněji viz Metodika způsobilých výdajů OP LZZ (D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Neplnění závazků /odstoupení zahraničního partnera u projektů v 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blasti podpory 5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statná změna projektu, musí být schvá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souzení další smysluplnosti a realizovatelnosti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stoupení zahraničního partnera = ukončen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smí být zaúčtovány společně s přímými ná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6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 – D2 (kapitola 14.) a D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5.3 části II Rozhodnutí o poskytnutí dotace a Příručkou pro příjemce (D2) a Pokyny pro vyplnění MZ (D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4 měsíců realizace projektu (1. – 4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1. – 3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2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dalších 3 měsíců realizace projektu (5. - 7. měsíc), předkládá se do 15-ti kalendářních dnů od ukončeného monitorovacího obdob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4. – 6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. měsíců realizace projektu, předkládá se do 30-ti kalendářních dnů od ukončeného monitorovacího období. V případě domluvy s kontaktní osobou je možné předložit </a:t>
            </a: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kratší sledované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onitorovací zprávy (průběžné, mimořádné závěrečná)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růběžná MZ, Mimořádná MZ a ZM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 el. Podobě v Benefit 7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řílohy nutné nahrát do Benefit 7+ k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zprávy poskytovateli podpory nikoliv datum odeslání zási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růběžná MZ, Mimořádná MZ a Z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1. a 2. část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Předchoz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ska.dobra</cp:lastModifiedBy>
  <dcterms:modified xsi:type="dcterms:W3CDTF">2012-12-19T09:13:43Z</dcterms:modified>
  <cp:revision>410</cp:revision>
  <dc:subject/>
  <dc:title>Snímek 1</dc:title>
</cp:coreProperties>
</file>