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28AB-AE8A-43C9-B10B-726249038C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9F40-CD20-4C80-BAAD-841E1EC6D6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A73C-B427-4B6E-9668-BEF32F0F74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3872-3156-40C9-AB63-D9F8C57E70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A925-E182-4D8C-A9A6-A6AEEAC7DE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DA72-7454-4811-B383-E669F22C7D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8109-C828-429F-A46E-E50DF4656A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94DA-42F0-46E1-8F81-C8C44D808C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82AE-146E-4456-96E9-D81D555271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6574-CD79-422A-A13F-F38538CB76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EF4B-5ABE-487C-858C-AFDC842891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2AE5-B22B-4306-BD59-88AD1386D6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6D73-1FEB-41AA-8461-4F903AFCAD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8750-E982-4A1D-9C54-82F24B5AB3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E97E-AED6-4E06-AA80-E72613820D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E156-63AD-4D40-988F-ED3D26B8D3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086C-6208-4825-975C-A3B08FF36A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EA48-585E-43E4-9CB7-CA0776C91E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B11-C9B0-4E65-A905-B393DC93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E64-EF78-4135-8CE9-7F7DCF9A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8B9-5E9B-4DDB-82B8-1EDE0D83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20F-AFB6-406F-904B-40517BA8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CB7-F330-4E39-9555-91EB5A93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5BC-CB01-48FF-B58B-FBC366D6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E3F-52B0-411F-AA3E-ABDDA262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8EA-76F4-4F2D-A3E0-C2950855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BF5-4F12-49F5-B385-48BBEDC4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B36-00A5-4882-AE9A-1D3DE11E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CBA-67D7-47CF-9CD6-F7FAD4A4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2AD-A8DA-4174-ADB0-419B978A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1354-AF8F-4535-8F27-E472D701E4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88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99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0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2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Calibri"/>
              </a:rPr>
              <a:t>Zaměření projektu na ženy v předdůchodovém vě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zda a v jaké míře 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jektem podpořeny ženy v předdůchodovém vě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ezi osoby předdůchodového věku se řadí lidé, kteří přesáhli věkovou hranici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50 le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do dosažení hranice odchodu do důcho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) Mezi cílovými skupinami projektu není zařazena cílová skupina ženy v předdůchodovém věk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) Cílová skupina ženy v předdůchodovém věku jsou jednou z několika cílových skupin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1 b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Cílová skupina ženy v předdůchodovém věku jsou jedinou cílovou skupinou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31720" y="1909800"/>
            <a:ext cx="681120" cy="369720"/>
          </a:xfrm>
          <a:prstGeom prst="rightArrow">
            <a:avLst>
              <a:gd name="adj1" fmla="val 50000"/>
              <a:gd name="adj2" fmla="val 49835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3"/>
          <p:cNvSpPr/>
          <p:nvPr/>
        </p:nvSpPr>
        <p:spPr>
          <a:xfrm>
            <a:off x="531720" y="246204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1 bod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7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1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2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3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4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88 by mělo být zlepšení situace  v prosazování rovných příležitostí žen a mužů na trhu práce a ve sladění pracovního a rodinného života. Zohlednění Evropského roku aktivního stárnutí a mezigenerační solidar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3-20T13:00:14Z</dcterms:modified>
  <cp:revision>1013</cp:revision>
  <dc:subject/>
  <dc:title>Snímek 1</dc:title>
</cp:coreProperties>
</file>