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071-ACD0-43DA-803B-BDAA86C7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1AC-8AC6-475C-85A5-16862854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15E-6CD5-483E-9DF4-6889B05A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6D1-1254-412E-9084-FF6EE14D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CFD1-2495-42D7-B707-75A67512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C325-68C1-4855-AFEC-C100B260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E9E4-19C3-4D3C-BA43-AD2BCFAA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99EA-C4A8-4994-8E21-36FEB625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02C7-3E8F-464A-9C64-7EA4759C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39C5-B1E4-4A19-B1F4-9A563792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2E71-C8CE-4BB4-BA28-7F83479E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69E-CC24-4043-BD02-FBA4B7A1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FA09-779A-41F5-AAC2-A05BCEA8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7D63-E9B4-499F-AF14-019BC01E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DA07-A4F8-4197-8227-F1C65CDB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8782-4427-4CE6-A633-64C18A54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E294-4124-40DC-BBFE-D0875327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726-E11D-4B7C-BA01-BE55806D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98E-1F03-48A0-8003-98346429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576-0B51-4CEC-A626-D054B5BB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40C-C490-4413-B100-D4F1429D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457-D5FF-4105-A583-286D4BF9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2CB-57C6-4C55-A9E4-740B3595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AE2-B15C-4908-BEA9-D310FEA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A36E-7C3D-400A-8B92-89553B74C47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4381-1FB2-4156-9777-8BBC1D3C63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rategie EU pro rovnost žen a mužů 2010 – 2015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výšit počet žen na trhu práce, a pomoci tak při dosahování cílové míry zaměstnanosti stanovené ve strategii Evropa 2020 (tj. 75 % celkově pro muže i ženy), zvýšit počet žen na vysokých pozicích, podpořit podnikání žen, zavést rovnost v odměňování (ženy vydělávají v průměru o zhruba 18 % méně než jejich mužští kolegové), spolupracovat se všemi členskými státy při potírání násilí na že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ost dodržovat rovné příležitosti vyplývá pro Českou republiku z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řízení Rady (ES) č. 1083 / 2006 / čl. 16 / Rovné příležitosti žen a mužů a zákaz diskrimin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„Členské státy a Komise zajistí podporu rovnosti žen a mužů a začlenění hlediska rovnosti pohlaví během jednotlivých fází provádění pomoci z fondů. Členské státy a Komise přijmou vhodná opatření, aby v jednotlivých fázích provádění fondů, a zejména při přístupu k nim, nedocházelo k diskriminaci na základě pohlaví, rasy nebo etnického původu, náboženského vyznání nebo světového názoru, zdravotního postižení, věku nebo sexuální orientace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rojekty Evropského sociálního fond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y měly jít v tomto ohledu ostatním příkladem. Měly by prokázat, že dodržováním principů a zásad horizontálních témat nedochází pouze k plnění administrativních požadavků (spojených s využíváním finančních prostředků Evropského sociálního fondu), ale především k přínosnému a prospěšnému kroku pro všech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ŘO, aby v rámci horizontálního tématu rovné příležitosti nedocházelo pouze k formálnímu napl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lánované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měny při aplikaci horizontálního tématu rovné příležitosti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rámci OP LZZ v příštím programovacím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ilotní otestování plánovaných změn v rámci výzvy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á příloha výzvy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hodnocení rovnosti žen a mužů v projektových žádoste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 budoucnu by měla být přímo součástí projektové žád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nahradit tak stávající otázky na záložce Horizontální téma rovné příležitosti v aplikaci Benefit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ůrný dokument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okyny pro vyplnění přílohy Zhodnocení rovnosti žen </a:t>
            </a:r>
            <a:br>
              <a:rPr sz="1800"/>
            </a:b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 mužů v projektových žádostech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návod a pomůcka, jak správně zapracovat hledisko rovnosti žen a mužů do žádosti o finanční podporu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 budoucnu přispět k posílení horizontálního tématu rovné příležitosti v celém OP LZZ. Naleznete zde vysvětlení, co by měly obsahovat odpovědi na jednotlivé otázky Zhodnocení rovnosti žen a mužů v projektových žádos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2-03-19T11:32:39Z</dcterms:modified>
  <cp:revision>576</cp:revision>
  <dc:subject/>
  <dc:title>Snímek 1</dc:title>
</cp:coreProperties>
</file>