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6480" y="740880"/>
            <a:ext cx="49291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979F-110E-4451-B34F-875076F0C42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A8E4-1B72-480A-A227-E7DDB5C2C3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imárně na webu, tištěně jen ně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4D29-04D4-4450-BED0-1EBAF8DF86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97D8-A724-44C9-94C3-A3AF154E64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BBFF-033B-46D8-BD09-A625018DA2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943B-5ADB-49A5-91D7-080DA18653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14F-9D31-47CB-9018-F0283478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02A-1F30-492E-BE23-36B219A9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C68-35B7-41ED-8DF7-62C9037F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9F1-05EC-484F-8150-E4759E02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A82-0807-4FCF-B8EE-FF79FA0B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BBF-7C10-46A0-9A44-4039236A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0FD-C4CD-4B44-99FE-469AC2CB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CCC-1260-414E-9A4B-907E862C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03D4-4703-401E-86A4-97A09F51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0ECA-F8BB-48C7-A8AC-DADEA87D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9F4-06CA-48A0-876E-C607B6A4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20FE-5F0C-4206-8009-A6954FA7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CF62-1FA6-4073-9C8A-8E488B33B01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 OP LZZ – Rovné příležitosti 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žen a muž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ha/Brno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Možno čerpat mzdové příspěvky na prac. místa pro osoby vracející se na trh práce po RD nebo po péči o záv. člena r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lexibilní forma organizace prá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z dom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krácený pracovní ú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lačený pracovní tý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dílené pracovní mí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na dohodu o pracovní činnosti nebo o provedení práce, pokud nebyla na pracovišti zave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 této výzvě za flexibilní režim není považována pružná pracovní d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B) Podpora a rozvoj samostatné výdělečn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yužití inovativních metod, zapojení doprovodných opatření a nástrojů slaďování pracovního a rodinného života (služby péče o děti) pro ženy začínající podnikat a vykonávající samostatně výdělečnou čin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ako doplňková aktivita mohou být součástí projektu rekvalifikace (zejména pro ženy jenž se v rámci projektu rozhodnout nezačít podnikat). Rekvalifikace musí zohledňovat možnosti uplatnění osob na lokálním trhu práce a neměly by podporovat genderové stereoty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vorba pracovních míst pro osoby znevýhodněné na trhu práce (cílové skupiny osob ) za účelem umístění na trhu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C) Místní partnerství a tematick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stní partnerství - řešení specifických problémů dané lokality, služby péče o děti jako součást komplexní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sazování změn a systémov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pojování občanů a firem do plánování a realizace lokál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matické sítě - výměna zkušeností a přenos dobré praxe mezi zahraničním partnerem a subjektem z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běžn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30. dub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uzávěrka pro příjem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31. srp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vyhláš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5 dnů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od poskytnutí podkladů od žadatele – uzavření právního aktu </a:t>
            </a:r>
            <a:br>
              <a:rPr sz="3200"/>
            </a:b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 poskytnutí podp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právnění žad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územní samosprávné cel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školy a školská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ociální partne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hospodářská ko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 této výzvě nejsou oprávněnými žadateli ani partnery organizační složky státu a jimi zřizované organiz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jednotlivc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soby pečující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nci/ky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ohrožené na trhu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dlouhodobě nezaměstnané ž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ženy ohrožené nezaměstna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ženy vracející se po rodičovské dovolené nebo péči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uži v obdobné situaci jako ženy s malými dě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se základním vzděláním nebo s nízkou úrovní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v předdůchodovém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začínající podnikání a vykonávající samostatně výdělečnou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organiz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Instituce služeb zaměstnanosti a jejich pracovníc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dborové organizace a sociální partne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rgány státní správy a jimi zřizovan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áce České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zemní samosprávné celky a úřady samosprávných celků, jejich orgány a jimi zřízené nebo založené organizace a jejich zaměstanci/ky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podmínky vý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Šíření výstupů projektu a osvěta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ování širší veřejnosti a dotčených subjektů o výstupech projektu a problematice rovných příležitostí žen a mužů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aktivity nad rámec povinného publicitního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Monitoring a evaluace projektu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ace jak  budou  v projektu  nastaveny,  sledovány,  měřeny a hodnoceny reálné dopady projektu na rovnost žen a mužů (příloha č. 5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ice expert/ka na rovné příležitosti žen a mužů v realizačním týmu,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samostatné příloze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usí být prokázáno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zdělání nebo praxe experta/ky nebo publikační činnost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dané oblasti/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Školení a volnočasové aktivity -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edložené projektové žádosti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esmí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bsahovat pouze školení bez návaznosti na jiné aktivity a jakékoliv volnočas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"/>
          <p:cNvSpPr/>
          <p:nvPr/>
        </p:nvSpPr>
        <p:spPr>
          <a:xfrm>
            <a:off x="1676520" y="5562720"/>
            <a:ext cx="198108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esatero OP LZZ, platné od 15. 3. 2012: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ttp://www.esfcr.cz/folder/476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kumenty ke staž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hodnocení specifických kritér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Tabul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 -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mzdy a pl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c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zor potvrzení o zařazení do IP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ESF fórum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tvrzení o převzetí žá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1)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ioritní osa 3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Sociální integrace 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last podpory 3. 4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Rovné příležitosti žen a mužů na trhu práce a slaďování pracovního rodinného života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ašovatel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MPSV, Ř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ášení výzvy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1. březn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Uzávěrka pro příjem žádostí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30. dubna 2012,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jem výzvy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425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Kontakt na vyhlašovatele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http://forum.esfcr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finančním příspěvkem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typ partnera přijímá prostřednictvím příjemce část finanční podpory na realizaci věcných projektových akti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bez finančního příspěvku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ílí se na realizaci věcných aktivit projektu (např. formou konzultací, odborné garance apod.) a není mu poskytován žádný finanční příspěvek za účast na realizac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jekt může mít i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ahraničního partner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členského státu EU!! Zahraniční partner je vždy partnerem bez finančního příspěvku. Jeho právní forma není nijak omezená (fyzická osoba/právnická oso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ůležité!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Český partner s finančním příspěvkem i bez finančního příspěvku musí patřit mezi oprávněné žadatele v této výzvě. Výjimku tvoří Úřad práce České republiky, který může být partnerem bez finančního příspěvku. Ostatní organizační složky státu a jimi zřizované organizace mohou být pouze spolupracujícími organizacemi, nikoli partn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realizace projektu s partnery je žadatel povinen zajistit, aby vztahy mezi ním a jeho partnery odpovídaly podmínkám a principům partnerství uvedeným v Příručce pro žadatele z OP LZZ, dostupné ke stažení na webových stránkách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www.esfcr.cz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ole partnera, včetně jeho podílu na konkrétních aktivitách projektu, popř. části prostředků finanční podpory, musí být popsána žadatelem již v Žád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 finanční podporu z OP LZZ, konkrétně v části Způsob zapojení partnerů do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, že příjemce dotace předpokládá poukázat část poskytnuté finanční podpory partnerům, musí být v rámci rozpočtu projektu jasně vymezeny náklady jednotlivých partnerů na realizaci projektu. To znamená, že položky rozpočtu, které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áleží partnerovi, musí být označeny názvem partnera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, aby bylo jasně dohledatelné partnerovo financov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vinné přílohy žád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Doklad o právní subjektivitě v odpovídající formě, odlišné podle právní formy žadatele – viz Příručka pro žadatele, kapitola Přílohy žád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hodnocení rovnosti žen a mužů v projektových žádos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tvrzení o zařazení do IPRM (pouze pokud je relevant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zul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Pro Vaše dotazy a podněty: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http://forum.esfcr.cz</a:t>
            </a:r>
            <a:r>
              <a:rPr b="0" lang="cs-CZ" sz="3200" spc="-1" strike="noStrike">
                <a:solidFill>
                  <a:srgbClr val="4597a0"/>
                </a:solidFill>
                <a:latin typeface="Arial"/>
                <a:ea typeface="Times New Roman"/>
              </a:rPr>
              <a:t>,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 u="sng">
                <a:solidFill>
                  <a:srgbClr val="4597a0"/>
                </a:solidFill>
                <a:uFillTx/>
                <a:latin typeface="Arial"/>
              </a:rPr>
              <a:t>podpora34-51@ea-oplz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sobní konzultace: Praha, Brno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rmíny konzultací jsou zveřejněny na stránkách www.es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Předložení žádosti o finanční podp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a hodnocení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z OP LZZ je žadatelem vypracována on-line v aplikaci Benefit7 (elektronická žádost) na www.eu-zadost.cz nebo www.eu-zadost.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OZOR!: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musí být založena ve správné výzvě (č. 8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se předkládá v tištěné podobě v 1 vyhotovení (originál) a podepsaná na příslušném místě statutárním zástupcem + 1 výtisk (originál nebo ověřená kopie) povinný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á z příloh musí být označena pořadovým číslem podle jejího označení v seznamu příloh v aplikaci Benefit7 a podepsaná statutárním zástupcem žad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uváděný do seznamu příloh musí odpovídat skutečně počtu listů, nikoli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en žadatel může předložit maximáln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3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epsaná žádost musí být sešita a přelepena páskou v levém horním rohu (na přední i zadní straně) nebo jiným obdobným způsobem </a:t>
            </a:r>
            <a:br>
              <a:rPr sz="2400"/>
            </a:b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a podepsána z obou stran (případně orazítková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robné informace pro vyplnění žádosti o finanční podporu z OP LZZ naleznete v Průvodci vyplněním projektové žádosti OP LZZ (D6), která je součástí desatera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žadovaná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obálce musí být uvedeny následující informace – adresa vyhlašovatele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zev operačního program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číslo prioritní os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oblasti podpor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globálního grant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v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žádosti o finanční podpor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značení věcného zaměření projektu viz bod 3.1 výzvy (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, B nebo C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le převažujícího typu činností)</a:t>
            </a: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ný název a adresa žadatele, heslo „NEOTVÍRAT“ (levý horní r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av žádosti lze po celou dobu procesu hodnocení sledovat v IS Benefit7 (záložka Konto žád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vinnosti žadatele jsou blíže specifikovány v příloze Desatera OP LZZ č. D1 -Příručka pro žad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hodnocení a 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ovádí se podle checklistu, který obsahuje jednotlivá formální kritéria a kritéria přijatelnosti formou odpovědi ANO/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Checklist je součástí projektové žádosti v systému Benefit –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„Kontrola žád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Možnost zkontrolovat si žádost dle stejných kritérií, podle kterých žádost kontroluje Ř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ormální hodnocení a hodnocení přijatelnosti probíhá do 30 dnů od uzávěrky příjmu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Globální cíl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: Prosazování cílených opatření pro plnění principu rovných příležitostí žen a mužů na trhu práce a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in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1,5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ax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8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Max délka trvání projektu</a:t>
            </a:r>
            <a:r>
              <a:rPr b="0" lang="en-GB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OR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Realizace projektů této výzvy musí být zahájena v rozmezí od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1.11.2012 až 1.12.2012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iný začátek realizace projektu není v rámci této výzvy možný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krité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dodána v tištěné podobě – 1 originál, unikátní kód tištěné verze musí souhlasit s kódem finálně uzavřené žádosti v Benefit7, na obálce jsou všechny požadované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bsahuje všechny stránky, číslování je kontin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sou přiloženy všechny požadované přílohy – doklad o právní subjektivitě, zhodnocení rovnosti žen a mužů, životopis experta/ky, potvrzení o zařazení do IP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e projekt zařazen do IPRM, je přiloženo potvrzení obce o tomto zařazení (vzor je přílohou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příloh odpovídá počtu uvedenému v Seznamu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, seznam příloh a jednotlivé přílohy jsou podepsány statutárním zástup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v Benefitu7 finálně uložena a tištěná verze je shodná s elektronickou (viz formální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adatel je oprávněným žadatelem v dané výzvě a sídlo má na území ČR (validace v 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artner patří mezi oprávněné žadatele s výjimkou Úřad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ílové skupiny jsou v souladu s textem výzvy, v případě zařazení jakékoliv jiné cílové skupiny bude projekt vyřazen, území dopadu nesmí být hl.m.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pokládaná doba realizace projektu nepřesahuje maximální dobu stanovenou výzvou – max. 2 roky, začátek 1.11.2012 nebo 1.12. 20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6. Požadovaný objem finanční podpory je v rozmezí daném výzvou, tj. min. 1,5 mil – max. 8 mil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7. Plánované aktivity jsou v souladu s výzvou, jso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splněny specifické podmínky dané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8. Vyčíslení nepřímých nákladů odpovídá podílu stanovenému výzvou -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rocento nepřímých nákladů vyplňuje v aplikaci Benefit 7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ručně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9. Rozpočet projektu respektuje stanovené limity pro jednotlivé kapitoly/skupiny výdajů stanovené obecnými pravidly OPLZZ a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10.Požadovaná veřejná podpora a podpora de minimis respektuje stanovené limity (obecně se VP nepředpokládá, výjimku tvoří projekty, jejichž součástí jsou služby péče o děti, podpora podnikatelských aktivit cílové skupiny a poskytování mzdových příspěv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dostatky žád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Formální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pravitelné jsou 2 chyby ve formálních kritériích. Pokud žadatel udělá v žádosti o finanční podporu 3 a více chyb, které jsou hodnocené ve formálních kritériích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odnocení přijate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ritéria přijatelnosti jsou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opravitelná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 Pokud žadatel udělá v žádosti o finanční podporu chybu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náležitostech, které jsou hodnocené v kritériích přijatelnosti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žadavek na opravu / Vyrozumění o vyřa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dvou chyb ve formálních kritériích je zaslána zprávou z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Monit do Benefit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a obsahující informaci na doplnění chybějících náležitostí – zpravidla během 14 dní. Lhůta na dodání chybějících náležitostí je 10 d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více chyb ve formálních kritériích a chybě v kritériích přijatelnosti je opět zprávou z Monit do Benefit zasláno Vyrozumění o vyřazení z dalšího procesu hodnocení (do 30 dní od uzavření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právy budou zasílány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ou z Monit do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Kontrolujte pravidelně Benefit zda zde nemáte zprávu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ukončení formálního hodnocení a hodnocení přijatelnosti budou projekty rozděleny podle uvedeného zaměření do okruhů A – C. Projekty budou hodnoceny a soutěženy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v rámci jednotlivých okru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ěcné hodnocení se skládá ze 2 individuálních hodnocení              (v případě velkého bodového rozdílu a ANO/NE – 3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ý projekt hodnotí alespoň 2 hodnotitelé, individuální hodnocení je podkladem pro jednání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asedání výběrové komise jsou projednávány projekty, které ve věcném hodnocení získaly minimálně 6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projednává projekty postupně, podle nejvyššího počtu bodů, až do vyčerpání finanční alo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může projekt doporučit k financování za podmínek např. krácení rozpočtu, úpravy či doplnění klíčové aktivity,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mínky, za kterých je projekt doporučen k financování výběrovou komisí jsou závazné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běrová komise má práv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mítnout projek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který prošel věcným hodnocením z následujících důvo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více projektů zaměřených na stejnou cílovou skupinu nad absorpční schopnosti region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xistují vážné a odůvodněné obavy o schopnosti žadatele projekt zdárně realizov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ová žádost je nedostatečně zpracována a neposkytuje dostatečnou záruku pro úspěšnou realizaci proje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edkladatel projektu prokazatelně neplnil své povinnosti v jiném projektu u administrátora GG (špatné zkušenosti z minul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bývající prostředky podpory neumožní projekt podpořit v dostatečném rozsah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 je z hlediska rozvoje lidských zdrojů na území daného regionu méně potřebn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uveřejněné výzvě jsou uvedeny další limity (např. podíl financí určený pro jednu skupinu subjektů) či další podmínky podpo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hodnotitel v rámci hodnocení označil u eliminačních kritérií jejich nesplnění a VK došla ke stejnému závěru (v takovém případě musí projekt vždy nedoporučit k podpoř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došlo k nesplnění formálních náležitostí a kritérií přijatelnosti, které nebylo rozpoznáno v odpovídající části hodnotícího procesu (tzv. sporné případ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výběru projektů výzvy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outěž mezi jednotlivými projekty bude probíhat v rámci jednotlivých okruhů A až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bude projednávat projekty v pořadí podle počtu bodů z věcného hodnocení nejprve v okruhu A až do výše alokace na tento okr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sledně proběhne stejným způsobem výběr projektů v okruhu aktivit B 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každého okruhu bude schválen stejný počet projektů do společného zásobníků, již bez tematického rozděl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vyčerpání alokace některého z okruhů aktivit budou zbylé prostředky použity na podporu projektu ze zásobníku podle nejvyššího počtu bodů z věcného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cento nepřímých nákladů vyplňuje v aplikaci Benefit 7 ručně 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dhodnocené výdaje, zejména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klíčových aktivit – rozpočtu – harmon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hybně vyplněné údaje (špatné zařazení položek rozpočtu – viz D5 Metodika způsobilých výdajů OP LZZ 1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ílová 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vymezení cílové skupiny, bez kvan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dostatečný popis práce s cílovou skup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dopady projektu na cílovou skup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(ukaz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mezi deklarovanými výsledky – hodnotami ukaz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ý způsob naplňování ukazatelů, chybné vy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úplné vyplnění ukazatelů (některé chybí úpl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líčové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ručný a obecný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líčové aktivity nejsou provázány s položkami v rozpočtu, nejsou uvedeny výstupy z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elková úroveň zpracová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Nákup služeb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6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římá podpora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 (bez mzdových příspěv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dové příspěvky v rámci přímé podpor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: v projektu lze nárokovat až 100% mzdových nákladů na pracovní místo, nejvýše však trojnásobek minimální mzdy, tj. 24 000 Kč včetně povinných odv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Omezení jednotkových cen v kapitole osobní náklady </a:t>
            </a:r>
            <a:br>
              <a:rPr sz="2400"/>
            </a:b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 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viz příloha č. 6 výzvy „Obvyklé mzdy a platy“ a příloha č.7 výzvy „Obvyklé cen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Monitoring a financování projek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 Žádosti o plat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vní zálohová platba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podpisu Rozhodnutí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Druhá zálohová platba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schválení předložené Zprávy o zahájení realizace projektu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ůběžné a závěrečná plat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lší  části dotace budou příjemci propláceny na základě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chválených Žádostí o platb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(vyúčtování poskytnutých záloh) předložených v termínech uvedených v příručce pro příjemce a ve výši stanovené Rozhodnutím, přičemž budou vždy snížen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 nevyčerpanou část již poskytnuté dot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Hlavní cí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žné sledování, sběr dat a informací o projekte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Dohled nad finančními prostředky a jejich efektivním využití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h realizace projektů, identifikace možných ri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ovinnost příjemců informovat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o průběhu celého projektu tzv.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Monitorovacími zprávami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(nejdůležitější ukazatel je naplňování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monitorovacích indiká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práva o zahájení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ez ŽoP (bez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žádosti o platbu)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za první dva měsíce realizace projektu v termínu do 15 dnů třetího měsíce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acovává se ve formátu .doc (vzor je dán příručkou D10 Desatera), příjemce je k opravě/doplnění nedostatků zpravidla vyzýván pouze jedn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zpráva nebude schválena (příjemce ji neopraví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žadovaném termínu), nebude vyplacena druhá zálohová platba a příjemce pak předkládá až průběžnou MZ s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ontrola ZZRP je provedena zpravidla do 40 pracovních dnů od jejího přijetí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ůběžná monitorovací zpráva (MZ)</a:t>
            </a:r>
            <a:r>
              <a:rPr b="0" lang="pl-PL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 bez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pokud nebyly realizovány žádn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do 30ti dnů od skončení monitorovacího období (standardně za každých 6 měsíců realizace projekt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Harmonogram předkládání MZ lze případně upravit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vní část MZ se předkládá prostřednictvím aplikace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á část MZ je předkládána ve formátu .doc (vzor je dán přílohou D10 Desa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dostatků jak v MZ tak v ŽoP je příjemce vyzván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 opravě/doplnění. Opět zpravidla jedenkrát. V případě nedostatečného doplnění, nebo marného uplynutí lhůty ze strany příjemce jsou případně adekvátně kráceny dotčené výdaje předložené v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131c"/>
                </a:solidFill>
                <a:latin typeface="Arial"/>
              </a:rPr>
              <a:t>Mimořádná monitorovací zpráva (MMZ)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Mimořádnou MZ se ŽoP příjemce předkládá zpravidla v případě, kdy ví, že poskytnutá dotace nevystačí na realizaci projektu do dalšího předpokládaného termínu vyplacení další části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- O úmyslu předložit MMZ musí příjemce informovat v dostatečné časovém předstuhu poskytovatele dotace z důvodu nutných úprav harmonogramů a finančních plánů v IS MONIT7+ a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ávěrečná monitorovací zpráva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Závěrečná MZ se předkládá nejpozději do 2 měsíců od ukončení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rola MZ, MMZ a závěrečné MZ je zpravidla do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40 pracovních dnů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d1131c"/>
                </a:solidFill>
                <a:uFillTx/>
                <a:latin typeface="Arial"/>
              </a:rPr>
              <a:t>http://forum.esfcr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řížové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objem prostředků v rámci výzvy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9% alokace výzvy, tj. 38 25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Garantovaný minimální podíl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3% z přímých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podíl :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ax. 40% přímých způsobilých výdajů s tím, že v souhrnu nesmí prostředky křížového financování překročit 9% alokace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1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) Prosazování rovných příležitostí žen a mužů a slaďování pracovního a rodinného života v zaměstnavatelské sfé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A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B) Tvorba a realizace komplexních programů na podporu zahájení a rozvoj samostatně výdělečn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Arial"/>
              </a:rPr>
              <a:t>B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C) Místní partnerství a tematické s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C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85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2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ktivity jednotlivých podporovaných okruhů lze v projektu kombinovat, ale projekt je možné podat pouze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v rámci jednoho z okruhů aktivit (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Okruh aktivit, v rámci kterého bude projekt podán, by měl odpovídat převažujícímu typu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lužby péče o dět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Služby péče o děti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jsou podporovány v rámci všech tří okruhů aktivit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ouze jako součást komplexního řešení - kombinace více aktivit ve prospěch cílové skupiny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(doplňková aktivi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lužby lze provozovat na základě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latné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legislativy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v době realizace projektu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např. v případě schválení návrhu zákona o službách péče o děti bude pak možno tyto služby provozovat podlé této právní úpr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) Prosazování rovných příležitostí a slaďování rodinného a pracovního života v zaměstnavatelské sfé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Rovné příležitosti v organizaci žadatele a jeho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Motivace zaměstnavatelů k uskutečňování politiky přátelské k rodině a rovným příležito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genderové a rodinné audi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nikové plány rovnosti žen a muž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vádění principů diversity managemen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gramy pro rodiče na rodičovské dovolen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světové, vzdělávací, poradenské a motivační ak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dvokační služby pro pomoc obětem diskriminac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4-02T12:45:10Z</dcterms:modified>
  <cp:revision>432</cp:revision>
  <dc:subject/>
  <dc:title>Snímek 1</dc:title>
</cp:coreProperties>
</file>