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316-B2D0-4361-847E-72942FDE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E97F-3DD6-40E0-9FA5-9179BD5D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08C-E2FE-4D6D-9635-6E0AD65C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699-AD97-4223-A10F-30611B34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F0B-1952-499B-8DD2-90843ED2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863-C4F4-4CE1-B29A-3D773739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8FB-868F-4356-87B6-1C236F11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78E-5173-491E-BD13-493345A0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DF42-0697-48D1-9B85-38B128D9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1C9D-7E32-43DC-860C-FD9A73AC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555-16BD-4442-8141-2D9F7705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69B-2115-415C-A76A-180BCE04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A7D9-3D74-4B41-839D-8336A0034EC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mpet.cz/" TargetMode="External"/><Relationship Id="rId2" Type="http://schemas.openxmlformats.org/officeDocument/2006/relationships/hyperlink" Target="http://ec.europa.eu/comm/competition/index_cs.html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Základní informace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k veřejné podpoře v OP LZZ</a:t>
            </a:r>
            <a:br>
              <a:rPr sz="3600"/>
            </a:br>
            <a:br>
              <a:rPr sz="36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á podpora by se naopak neměla vztahovat na zařízení pro širokou veřejnost nebo podnikových zařízení provozovaných kraji, obcemi či veřejnými vysokými škol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adatel je povinen v rozpočtu projektu vyznačit náklady na aktivity spojené se službou péče o děti režimem de minim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dpora podnikatelských aktivit cílové skupi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ou zařazeny aktivity směřované k podpoře samostatné výdělečné činnosti již podnikajících ž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podpory žen, které podnikání teprve plánují, se o veřejnou podporu nejedn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 kombinace aktivit pro ženy ještě nepodnikající a ženy vykonávající samostatnou výdělečnou činnost je žadatel povinen v projektové žádosti tyto aktivity oddělit do samostatných modu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eny s pozastaveným ŽL evidované na úřadu práce, jsou mimo veřejnou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ké v rozpočtu musí být uvedeny zvlášť a označeny příslušným typem podpory (Není VP/de minim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je podpora klientky financována v režimu „není VP“ a tato klientka během projektu zahájí samostatnou výdělečnou činnost, nemůže být dále financována mimo režim veřejné podp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skytování mzdových příspěv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e rovněž spadat poskytování mzdových příspěvků na realizaci flexibilních pracovních úvazků (vyjma úřadů samosprávy a veřejných vysokých šk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 z okruhu A realizované ve prospěch konkrétních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př. návod na zpracování plánu rovnosti žen a mužů ve firmě určený pro široké spektrum podniků není VP X aktivity „šité na míru“ konkrétním podnikům (např. personální strategie) spadají do režim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kombinace opět nutné oddělit v rozpoč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59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ákladním pramenem práva upravujícího nakládání s veřejnou podporou je Smlouva o ES (dále jen „Smlouva“). Úpravu veřejné podpory obsahují zejména čl. 87 a násl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efinice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čl. 87 odst. 1 Smlouv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dpora poskytovaná v jakékoli formě státy nebo z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tátních prostředků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která narušuje nebo hrozí narušit soutěž tím, 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3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zvýhodňuje určité podniky nebo určitá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větví výroby, jso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4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kud ovlivňují obchod mezi členskými státy, neslučitelné s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polečným trhem, nestanoví-li tato smlouva ji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veřejné podpory na národní úrov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215/2004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úpravě některých vztahů v oblasti veřejné podpory a o změně zákona o podpoře výzkumu a vý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319/2006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některých opatřeních ke zprůhlednění finančních vztahů v oblasti veřejné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40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mínky poskytování podpory dle pravidla de minimis stanovuje nařízení komise (ES) č.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1998/2006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použití článků 87 a 88 Smlouvy na podpor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skytovaná podle pravidla de minimis nesmí u jednoho subjektu za tři po sobě následující účetní období přesáhnout hodnotu 200 000 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 když se jí svým charakterem blíží, ne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 veřejnou podporou, neboť z důvodu své bagatelní výše nemůže ovlivnit obchod mezi členskými státy a  ani narušit hospodářskou soutěž, a nesplňuje tak všechny čtyři znaky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né v čl. 87 odst. 1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de je možné získat informace k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86000"/>
            <a:ext cx="8212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Legislativa, judikatura a in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o ochranu hospodářské soutěž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Legislativa E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eur-lex.europ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Generální ředitelství pro hosp. soutě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comm/competition/index_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udikatura ES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curia.europa.eu/c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OP LZZ pro poskytování veřejné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kytování veřejné podpory v projektech OP LZZ je upraveno příručkou D7 „Veřejná podpora a podpora de minimis v OP LZZ“ dostupné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sfcr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57000"/>
            <a:ext cx="8439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e výzvě 88 je možné čerpat veřejnou podporu pouze </a:t>
            </a:r>
            <a:br>
              <a:rPr sz="2400"/>
            </a:b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 režimu de min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maximálně 200 000 EUR pro jeden podnik za poslední tři účetní období (100 000 EUR pro podniky působící v silniční dopra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tace až do výše 100% způsobil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údaj o velikosti podpory de minimis poskytnuté příjemci a jeho případným partnerům získá příjemce z přílohy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„Rozpočet zapojené subjekty VP“, který bude uveřejněn u výzvy č. 7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439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V aplikaci Benefit7+ v kapitole 18 Veřejná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Podpora de minimis generována v tabulce bez nepřímých nákladů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. Projekt celý v režimu podpory de minim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Celkové způsobilé náklady projektu - 4 856 315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- 682 827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4 856 315,84 Kč mínus 682 827,84 Kč je 4 173 488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nutno brát v potaz při stanovení limitu čerpání 200 tis. EUR na jeden subjekt/IČ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5" descr=""/>
          <p:cNvPicPr/>
          <p:nvPr/>
        </p:nvPicPr>
        <p:blipFill>
          <a:blip r:embed="rId1"/>
          <a:srcRect l="28946" t="10420" r="27115" b="78515"/>
          <a:stretch/>
        </p:blipFill>
        <p:spPr>
          <a:xfrm>
            <a:off x="395280" y="4653000"/>
            <a:ext cx="8424720" cy="1425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poru de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lze poskytnou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v oblastech uvedených v čl. 1 odst. 1 nařízení Komise (ES) č. 1998/2006, kterými jso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odvětví rybolovu a akvakul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vovýroba zemědělských výrobků uvedených v příloze č. 1 Smlo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ěkteré podpory poskytnuté podnikům činným v odvětví zpracování a uvádění zemědělských produktů uvedených v příloze č. 1 Smlouvy na 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ři vývo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vázaná na přednostní používání domácího zboží na úkor zboží dováže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činným v odvětví uhelného průmy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na nabývání vozidel pro silniční nákladní dopravu poskytované podnikům provozujícím silniční nákladní dopravu pro cizí potř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v obtíž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kladatel projektu musí zajistit, aby plánovaná podpora aktivit projektu nenaplňovala znaky veřejné podpory podle čl. 107 Smlouvy o fungování 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Výjimku tvoří projekty, jejichž součástí js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užby péče o d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zdové příspě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směřované k podpoře již podnikajících ž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z okruhu A realizované ve prospěch konkrétního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: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ude zvažována podpora v režimu de minimis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. Pokud firma zřídí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provozuje z veřejných prostředků školku pro děti svých zaměstnanců, jedná se o její zvýhodnění před ostatními soukromými subjek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cp:lastPrinted>2012-03-21T06:30:49Z</cp:lastPrinted>
  <dcterms:modified xsi:type="dcterms:W3CDTF">2012-03-21T06:31:06Z</dcterms:modified>
  <cp:revision>294</cp:revision>
  <dc:subject/>
  <dc:title>Snímek 1</dc:title>
</cp:coreProperties>
</file>