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119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112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5128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57400" y="0"/>
            <a:ext cx="295092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23400" y="746280"/>
            <a:ext cx="496908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5128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57400" y="9443520"/>
            <a:ext cx="295092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C5974-D6E3-4F60-89E4-FFBDFA0BAA8A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9A066-D5FD-4EE2-A363-C1C3B7E667F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516E7-3282-4FFA-A3A9-0CA7AD065484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EA208-3FD0-4E57-83B6-75765A9AC291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6DF1E-F5BC-4D8B-8846-085AD0EC96C5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03A78-1908-43DC-99ED-6D86AD18CC2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A17C9-960E-47EB-B55E-4774D62268E7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47FBA-529F-4DFA-9E36-77FF4BB9B44E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6A2BE-1D11-40AA-AB94-F128CC4D8032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  <a:ea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E2CD9-890F-4317-8B2B-AC417EAA4D99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011E9-744D-478E-8D3D-26AB0493390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50B00-E2C0-493C-AAC5-87005BF91D66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923760" y="746280"/>
            <a:ext cx="4969080" cy="372744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678960" y="4722480"/>
            <a:ext cx="5451480" cy="44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ákon o účetnictv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nebo neprůkazné vedení účetnictv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rušování zásady věcné a časové souvislosti při účtování o náklade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náležitosti účetního dokladu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opravy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ní účtováno o pohledávkách a závazcích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existence, neúplnost nebo neaktuálnost vnitřních předpisů stanovených zákonem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é zajištění archivace účetních dokladů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lad není označen zkratkou či jiným interním označením, že jde o výdaj z daného projektu, který čerpá z 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faktury neoznačeny číslem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souvisí přímo se z. o účtu, ale je povinnou náležitostí u účetních dokladů z ESF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Ověření hospodárnosti, efektivnosti a účelnosti výdajů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cen a mezd v místě obvyklých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ření dodatku smlouvy o zvýšení ceny bez dalších podmín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Sjednání nestandardních nebo jednostranně výhodných podmínek (nepřiměřeně vysoký úrok z prodlení)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chnické zhodnocení najaté nemovitosti bez protiplnění pronajímatele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7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boží nebo služba jsou dodávány přes několik mezičlánků</a:t>
            </a: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ákup vybavení před závěrem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racovněprávní vztah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úplné pracovní smlouvy/DPČ/DPP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tanovení rozsahu práce n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ého rozsahu pracovní doby, příp. nesprávné stanovení rozsahu pracovní doby v PS/DPČ/DPP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řekrývání pracovních úvazků na projektech ES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Cestovní náhrad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jasná kritéria pro určení dopravního prostředku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poskytnutí vyšších náhrad, než stanovuje právní úprava, příp. vnitřní předp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krácení stravného v případě poskytnutí stravová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vyplacení cestovní náhrady neoprávněné osobě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držení lhůt při proplacení cestovních náhrad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termín pracovní cesty překrývá aktivity projektu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Dodržování schváleného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oznámené změny v 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překročení částek v odsouhlaseném  rozpočtu nad rámec povoleného %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amovolné přesuny financí mezi kapitolami rozpoč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nedodržení pravidel uznatelnosti výdajů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Zadávací řízení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při přípravě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zvolení nesprávného postupu pro výběr dodavatele/dělení zakáz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diskriminační kvalifikačn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dostatečně/netransparentně stanovená hodnotící kritéri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hodnotící kritéria použita jako kvalifikační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300" spc="-1" strike="noStrike">
                <a:solidFill>
                  <a:srgbClr val="000000"/>
                </a:solidFill>
                <a:latin typeface="Arial"/>
              </a:rPr>
              <a:t>v průběhu ZŘ: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stanovených lhůt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oslovení dostatečného počtu dodavatelů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ý způsob zveřejnění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vyloučení uchazeče nesplňujícího kvalifikační kritéria, nejasné hodnocení nabídek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ravidel při složení hodnotící komise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(např. doklady o doručení písemností (dodejky, doručenky z el. komunik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nedostatečně a nejasně popsaný průběh hodnocení v zápisu z hodnocení</a:t>
            </a: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bez dostatku jiné (pomocné) evidence – hodnotící tabulky apod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uzavírání neopodstatněných dodatků ke smlouvě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chybějící dokumentace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ěcné plnění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docházky na kurzy, semináře, osnovy kurzů (přednášek), chybí kopie poskytnutých učebních pomůcek pro příjemce (skripta, učebni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ějící hmotné i nehmotné výstupy z projektu (analýzy, propagační předměty, publikace atd.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chybí souhlasy účastníků projektu se zpracováním osobních údaj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osvědčení, certifikáty – nesplňují pravidla publicity, chybí jejich kopie v archivovaných dokumentech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nesledovaní, nevykazovaní indikátorů – chybí průběžná kontrola dosahování indikátorů a metody nápravy v případě, že nebudou dosažen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ublicita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–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špatné barevné provedení log, špatné umístění nebo pořadí log nebo jejich úplné vynechání na materiálech vytvářených v rámci projektu,  neinformování o poskytnutém příspěvku z ESF v průběhu pořádaných akcí, chybějící informace o projektu na webových stránkách příjemců, neoznačení vybavení pořízeného z projektu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Veřejná podpor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správné uvedení informací v čestném prohlášení k čerpání podpory de minimis,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Nerespektování podmínek, za kterých byla veřejná podpora poskytnut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Jiné nedostatk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p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říjemce není na kontrolu připraven – na místě nejsou k dispozici požadované originály dokladů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nejsou přítomny osoby zapojené do realizace projektu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dokumenty nejsou řádně archivovány – nepřehledné, nesystematické: nevyzná se v nich ani příjemce (zejm. případě účasti více osob na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 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rojektu)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</a:rPr>
              <a:t>, popřípadě je u větších organizací problémem neustálé „přebíhání„ např. z jedné budovy do druhé atd., časové prostoj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 </a:t>
            </a:r>
            <a:r>
              <a:rPr b="0" i="1" lang="cs-CZ" sz="11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příjemce nepředává informace od poskytovatele dalším partnerům (je-li relevantní a projekt má partnera/y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Zástupný symbol pro číslo snímku 3"/>
          <p:cNvSpPr/>
          <p:nvPr/>
        </p:nvSpPr>
        <p:spPr>
          <a:xfrm>
            <a:off x="3857760" y="9443880"/>
            <a:ext cx="29509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CED29-76C8-492E-9E34-CFE9E0E18640}" type="slidenum">
              <a:rPr b="0" lang="cs-CZ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88E1E-EE67-4F33-8CFF-CF5ED64F85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F5A8-12AC-432A-BA68-3F15F30A19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2DBA-8835-4B2B-B8BE-23BB38D244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A18C6-3329-42F5-8AE8-501B87298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93E1-D638-4C78-9D70-10A439C7C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DBD6A-D154-4C4B-A019-D445F76FC6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369-3E61-4850-8030-5E7412287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36C9-6395-4586-8645-282847F70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2B505-CEED-476F-BFAA-F5BB9318C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1496-6D31-408E-AEEF-73669768C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BCF9-A6C8-4E60-80C5-38B58370B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ED94F-9262-43A6-B35F-EEE9301D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78C10-94FE-4819-9530-E4366276C775}" type="slidenum">
              <a:rPr b="0" lang="cs-CZ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mailto:podpora34-51@ea-oplzz.cz" TargetMode="External"/><Relationship Id="rId2" Type="http://schemas.openxmlformats.org/officeDocument/2006/relationships/hyperlink" Target="mailto:podpora34-51@ea-oplzz.cz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285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y na místě a nesrovnalosti</a:t>
            </a:r>
            <a:br>
              <a:rPr sz="1800"/>
            </a:br>
            <a:r>
              <a:rPr b="1" lang="cs-CZ" sz="1800" spc="-1" strike="noStrike">
                <a:solidFill>
                  <a:srgbClr val="d1131c"/>
                </a:solidFill>
                <a:latin typeface="Arial"/>
              </a:rPr>
              <a:t>u projektů realizovaných v rámci OP LZ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1028" descr="logo_a_cb"/>
          <p:cNvPicPr/>
          <p:nvPr/>
        </p:nvPicPr>
        <p:blipFill>
          <a:blip r:embed="rId1"/>
          <a:stretch/>
        </p:blipFill>
        <p:spPr>
          <a:xfrm>
            <a:off x="7308720" y="476280"/>
            <a:ext cx="11430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ůbě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ahájení kontroly na míst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ložení pověření k provedení kontrol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ávy a povinnostmi 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eznámení kontrolované osoby s průběhe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ved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lastní kontrola vytypovaných oblastí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ýzva k odstranění nedostatků, které lze odstranit ještě před uzavřením kontro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Ukončení kontro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dání protokolu z kontroly, jeho podpis oběma stran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ání námitek – vypořádání námitkového říz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podezření na porušení rozpočtové kázně či trestný čin –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hlášení podezření na nesrovnalost Řídícímu orgán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d3673"/>
                </a:solidFill>
                <a:latin typeface="Arial"/>
              </a:rPr>
              <a:t>V případě neposkytnutí součinnosti může kontrolní orgán uložit pořádkovou pokutu až do výše 50 000 Kč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417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tokol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98100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vypracovává vedoucí kontrolní skupiny ve spolupráci se všemi kontrolními pracovníky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a předává nebo zasílá jej kontrolované osobě k podpisu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obsahuje seznam zjištění, které nebylo možno odstranit během trvání kontroly a seznam uložených nápravných opatření, vč. lhůty k jejich odstraně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zjištění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1) zjištění ze kterých plyne podezření na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    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2) zjištění, ze kterých neplyne podezření na nesrovnalos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(pouze ukládají doporučení k nápravě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řevzetí protokolu z kontroly stvrzuje statutární zástupce kontrolované osoby nebo jím pověřená osoba svým podpis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 případě odmítnutí podpisu protokolu při převzetí je kontrolovaná osoba poučena o tom, že tím ztrácí možnost podat námitky proti protokol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ámitky proti protokolu z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ožnost podat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písemné a zdůvodněné námitky, a to ve lhůtě 5 kalendářních dnů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ode dne seznámení s protokolem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, není-li stanoveno jinak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řádně podaných námitkách rozhoduje vedoucí kontrolního orgán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vydané rozhodnutí o námitkách je součástí protokolu z kontroly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d367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p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roti rozhodnutí o námitkách není opravný prostředek přípustný</a:t>
            </a:r>
            <a:r>
              <a:rPr b="1" lang="cs-CZ" sz="22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87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Nesrovnalost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= porušení právních předpisů ES nebo českých předpisů, včetně podmínek stanovených příjemci právním aktem o poskytnutí podp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ypy nesrovnalostí: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porušení rozpočtové kázně ve smyslu zákona č. 218/2000 Sb. o rozpočtových pravidlech, tj. neoprávněné použití prostředků, poskytnutých ze státního rozpoč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trestný č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systémová nesrovnalo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d3673"/>
                </a:solidFill>
                <a:latin typeface="Arial"/>
              </a:rPr>
              <a:t>Vznikne-li v průběhu kontroly (či v jiném případě) podezření na nesrovnalost, je povinností kontrolora tuto skutečnost nahlásit pověřenému pracovníku Řídícího orgánu. Ten posoudí opodstatněnost podezření a v případě jeho potvrzení skutečnost nahlásí příslušnému orgánu (místně příslušný finanční úřad v případě porušení rozpočtové kázně, v ostatních případech např. orgán činný v trestním řízení apod.), který o případu pravomocně rozhod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c00000"/>
                </a:solidFill>
                <a:latin typeface="Arial"/>
              </a:rPr>
              <a:t>Děkujeme za pozorn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xterní administrá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email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: </a:t>
            </a:r>
            <a:r>
              <a:rPr b="0" lang="cs-CZ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podpora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@ea-oplzz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2d2d8a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tel.: +420 225 044 111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Doručovací adresa: P.O.BOX 98, 151 34 Praha 5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d3673"/>
                </a:solidFill>
                <a:latin typeface="Arial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dící orgán OP LZ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Ministerstvo práce a sociálních věcí Č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Odbor řízení pomoci z ESF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Na Poříčním právu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	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200" spc="-1" strike="noStrike">
                <a:solidFill>
                  <a:srgbClr val="0d3673"/>
                </a:solidFill>
                <a:latin typeface="Arial"/>
              </a:rPr>
              <a:t>128 01 Praha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Cíle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ověřit, zda uplatňované výdaje byly skutečně vynaloženy, a to v souladu s rozhodnutím o poskytnutí dotace, s vnitrostátními pravidly a pravidly Společens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ředejí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vzniku vá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ých problémů pomocí v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asné identifikace nedostatk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, které by mohly ovlivnit úsp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ě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šnou realizaci projekt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jistit zpětnou vazbu poskytovateli prostředků v průběhu realizace program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d1131c"/>
                </a:solidFill>
                <a:latin typeface="Arial"/>
              </a:rPr>
              <a:t>Legislativní rámec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lánek 13 nařízení Evropské komise č. 1828/200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ákon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č. 320/2001 Sb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o finanční kontrole ve veřejné správ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ákon č. 552/1991 Sb. o státní kontrole</a:t>
            </a: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 kontroly na místě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rocedurální kontro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obsahové části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Finanční kontro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Kontrola výběrových řízen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Procedurál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Správnost a úplnost vedení dokumentace k proje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rchivace projektové dokument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Řízení projekt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Vztahy s partne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održování podmínek právního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Obsahová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Plnění indikátorů stanovených v právním ak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Úplnost dokumentace k prováděným kurzům nebo seminářů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k vyvíjeným modulům, metodikám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dokumentace k poradenství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Úplnost dokumentace 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  <a:ea typeface="Times New Roman"/>
              </a:rPr>
              <a:t>k vytvořeným pracovním místům</a:t>
            </a:r>
            <a:r>
              <a:rPr b="1" lang="cs-CZ" sz="2400" spc="-1" strike="noStrike" u="sng">
                <a:solidFill>
                  <a:srgbClr val="0d3673"/>
                </a:solidFill>
                <a:uFillTx/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t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Finanční část kontroly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systému finanční kontroly projektu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Aplikace nepřímých náklad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Způsobilost náklad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ddělené účetnictv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ulad čerpání s rozpočt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zorku účetních dokladů z každé kapitoly rozpočt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Kontrola vykazování DP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Evidence projektových příjm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d1131c"/>
                </a:solidFill>
                <a:latin typeface="Arial"/>
              </a:rPr>
              <a:t>Kontrola výběrových řízení</a:t>
            </a: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Dle typu a výše zakázky, kontroluje s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typ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procedur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 závislosti na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finanční hodnotě zakázky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održení 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áležitost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 zveřejněn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stavení výběrových kritérií</a:t>
            </a: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odpovídající složení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zápis hodnotící komis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nabídky jednotlivých uchazeč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  <a:ea typeface="Times New Roman"/>
              </a:rPr>
              <a:t>smluvní dokument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c00000"/>
                </a:solidFill>
                <a:latin typeface="Arial"/>
                <a:ea typeface="Times New Roman"/>
              </a:rPr>
              <a:t>Problematické oblasti kontrol</a:t>
            </a:r>
            <a:r>
              <a:rPr b="1" lang="cs-CZ" sz="2800" spc="-1" strike="noStrike">
                <a:solidFill>
                  <a:srgbClr val="c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, stanovených zákonem o ú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č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etnictví</a:t>
            </a:r>
            <a:r>
              <a:rPr b="1" lang="cs-CZ" sz="3200" spc="-1" strike="noStrike">
                <a:solidFill>
                  <a:srgbClr val="0d3673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vedení účetnictv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uchovávání doklad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daňová evid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zp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sobilosti výdaj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hospodárnost, efektivnost a účelnost výdajů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Clr>
                <a:srgbClr val="0d367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Dodr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ž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ování podmínek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  <a:ea typeface="Times New Roman"/>
              </a:rPr>
              <a:t>z hlediska </a:t>
            </a:r>
            <a:r>
              <a:rPr b="1" lang="cs-CZ" sz="2400" spc="-1" strike="noStrike">
                <a:solidFill>
                  <a:srgbClr val="0d3673"/>
                </a:solidFill>
                <a:latin typeface="Arial"/>
              </a:rPr>
              <a:t>ostatních zákonných nor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pracovně právní vztah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cestovní náhrad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d3673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d3673"/>
                </a:solidFill>
                <a:latin typeface="Arial"/>
              </a:rPr>
              <a:t>zadávání veřejných zakáze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3T14:53:55Z</dcterms:created>
  <dc:creator>Slavek Hamadak</dc:creator>
  <dc:description/>
  <dc:language>en-US</dc:language>
  <cp:lastModifiedBy>Pavelková Marcela, Mgr. (MPSV)</cp:lastModifiedBy>
  <dcterms:modified xsi:type="dcterms:W3CDTF">2013-10-03T07:48:23Z</dcterms:modified>
  <cp:revision>278</cp:revision>
  <dc:subject/>
  <dc:title>Snímek 1</dc:title>
</cp:coreProperties>
</file>