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4A5A3C-F92C-4E57-981B-2531F25CDBE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79584-E13F-46C4-8873-31A7E1C23D5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F5E67-353D-4C68-AAD6-1ACE3839038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950A9-0894-4467-8703-7BE1AD488A0B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73D49-32B6-46EA-B43D-024929BD8C2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B628C6-D5CB-4E0F-80C0-6C465064038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BC377-9DA5-4AE4-BDC2-1AC223FD9E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0EEE0-779A-4F2D-BEFA-9415E52BB09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CD99A-C6FE-44F2-BBC7-244A604E741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6B073-82E6-4643-9C4E-21BEF392E5F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8357-EAE0-431A-82B8-93483240828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71573-354D-4AD5-93E8-25CF15BD23D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8C828-731E-43EE-A9BC-4990E357C57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0AF39-32D1-4FE1-A4ED-8DC042B561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37225-72B1-4C20-93A2-06F5CAD6897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5C1C-04D1-4D88-98EB-D1A8D3FBDB0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1B09-F0CF-46D9-BEA6-0A58D93862F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3E81-701D-4B74-9C5E-66580864BC23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5D26F-45E4-4726-BF1B-8EE2EE580A6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DE409-5857-4E3F-B49B-4F24BB56C0C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říjemci podpory jsou povinni v rámci pravidelných monitorovacích zpráv informovat poskytovatele podpory o průběhu celého projekt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Rozlišujeme několik typů MZ, které mají stejný, resp. podobný formát; liší se v rozsahu požadovaných informac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Projekty výzvy 94 nebudou předkládat Zprávu o zahájení realizace projektu, ale rovnou 1. průběžnou MZ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A7771-2583-4E99-A9EF-39921DBA01D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E4F3-F48C-4753-B276-40083C06377F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33D3F-10F8-4DF7-9106-3FD126B8C46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6CD07-4B18-42AC-8D24-0CD43E2EBD8D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782B6-D5A1-4FCB-8800-BFA2176831A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D6D-CF1F-459D-88FE-A914E87093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EAEE0-7C11-43B8-8C73-C17CF2537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F1A8-0C95-4536-B362-1604619ED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3516-63FE-43B3-A03D-2B4EAE8DF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389D1-DB12-4BA9-8C58-41C3152A1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45FB-B32A-4FD9-8F96-A4B421839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29BB-8FBE-4FE9-A161-8BFE91A35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DD82D-04C8-4EB5-81D3-D85CBFACD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BE49-4924-48CF-BD74-DF2F4C33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5B94A-61A6-4654-9FF8-BB29777B9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5DC0-54B8-4FEB-9DD6-84694BE6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38362-3C3E-4F78-A56E-82520968F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89B1E-5A02-431F-A1DA-CD389A000DCD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sfcr.cz/" TargetMode="External"/><Relationship Id="rId3" Type="http://schemas.openxmlformats.org/officeDocument/2006/relationships/hyperlink" Target="http://www.esfcr.cz/" TargetMode="External"/><Relationship Id="rId4" Type="http://schemas.openxmlformats.org/officeDocument/2006/relationships/hyperlink" Target="http://www.esfcr.cz/" TargetMode="External"/><Relationship Id="rId5" Type="http://schemas.openxmlformats.org/officeDocument/2006/relationships/hyperlink" Target="http://www.esfcr.cz/" TargetMode="External"/><Relationship Id="rId6" Type="http://schemas.openxmlformats.org/officeDocument/2006/relationships/hyperlink" Target="http://www.esfcr.cz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sfcr.cz/file/8003" TargetMode="External"/><Relationship Id="rId2" Type="http://schemas.openxmlformats.org/officeDocument/2006/relationships/hyperlink" Target="http://www.esfcr.cz/file/8003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esfcr.cz/file/7741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Seminář pro příjemce OP LZZ</a:t>
            </a:r>
            <a:br>
              <a:rPr sz="3600"/>
            </a:br>
            <a:r>
              <a:rPr b="1" lang="cs-CZ" sz="3600" spc="-1" strike="noStrike">
                <a:solidFill>
                  <a:srgbClr val="0d3673"/>
                </a:solidFill>
                <a:latin typeface="Arial"/>
              </a:rPr>
              <a:t>Výzva č. 9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</a:rPr>
              <a:t>6. 5. 2013 Prah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42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rojektu a monitorovací z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Registrační číslo a název projektu, číslo MZ, datum jejího vypracování, Hash MZ v Benefit7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300"/>
              </a:spcBef>
              <a:buClr>
                <a:srgbClr val="0d3673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Údaje o příjemci a zhotoviteli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zev Příjemce, IČ, statutární zástupce, jméno, příjmení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a kontaktní údaje zhotovitele zpráv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d3673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Realizované klíčové aktivity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Číslo, název, období realizace klíčové aktivity</a:t>
            </a:r>
            <a:br>
              <a:rPr sz="2200"/>
            </a:b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popis realizované klíčové aktivity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4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blémy při realizaci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roblémů při realizaci projektu a jejich řešení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5.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Nepodstatné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Popis případných formálních a věcných změn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a změn v rozpočtu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spcBef>
                <a:spcPts val="55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2. část monitorovací zprávy (3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7. Podstatné změny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případných podstatných změn ve sledovaném období, zda byly odsouhlaseny a čeho se týka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8. Další informace o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yplňuje se pouze v případě, že byla provedena kontrola na Vašem projektu 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  <a:ea typeface="Arial"/>
              </a:rPr>
              <a:t>jiným subjektem, než poskytovatelem podpory (např. NKÚ, EK, FÚ, atd.)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podp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  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dpis statutárního zástupce nebo oprávněné oso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2712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Object 5"/>
          <p:cNvGraphicFramePr/>
          <p:nvPr/>
        </p:nvGraphicFramePr>
        <p:xfrm>
          <a:off x="250920" y="5805360"/>
          <a:ext cx="582480" cy="871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5805360"/>
                    <a:ext cx="582480" cy="87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ejčastější chyby ve 2.části MZ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upravení nadpisu „VZOR FORMULÁŘE…“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opravy neaktualizováno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atum vypracování zpráv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Období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odpovídá aktuálnímu harmonogram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is realizace klíčové aktivity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dostatečně podrobný a nevztahuje se na dané monitorovací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opsané nepodstatné změny projektu nejsou promítnuty do první části MZ (např. rozpočet, harmonogram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Do bodu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9. Kontroly na místě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jsou uvedeny kontroly MPSV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části </a:t>
            </a:r>
            <a:r>
              <a:rPr b="1" i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B2 Čestné prohlášení příjemce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ení vybráno plátcovství příjemce ( výběr jednoho z bodů 17 či 18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ílohy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68360" y="1197000"/>
          <a:ext cx="8207280" cy="4800600"/>
        </p:xfrm>
        <a:graphic>
          <a:graphicData uri="http://schemas.openxmlformats.org/drawingml/2006/table">
            <a:tbl>
              <a:tblPr/>
              <a:tblGrid>
                <a:gridCol w="574560"/>
                <a:gridCol w="4321080"/>
                <a:gridCol w="1656000"/>
                <a:gridCol w="1655640"/>
              </a:tblGrid>
              <a:tr h="377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o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okumen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čt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odpisové vzor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1"/>
                        </a:rPr>
                        <a:t>www.esfcr.cz</a:t>
                      </a: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2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Soupiska účetních do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2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7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Kopie účetních dokladů nad 10 tis. K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racovní výkaz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3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mzdových nákladů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4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Rozpis cestovních náhr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5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Odpisy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ea typeface="Arial"/>
                          <a:hlinkClick r:id="rId6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1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Výpisy z bank. účtu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kopi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64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Přehled čerpání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www.esfcr.c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52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Další přílohy – např. prezenční listiny, přílohy ke specifické skupině 50+, programy akcí, letáky, inzeráty, tisk. zprávy, publikace a jiné výstupy projekt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1 x originál nebo kopi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0d3673"/>
                          </a:solidFill>
                          <a:latin typeface="Arial"/>
                          <a:ea typeface="Arial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Výzva 94 – specifické kritériu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říloha MZ věnovaná práci s CS osob nad 50 let bude obsahovat tyto náležitosti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 výsledku práce s CS osob 50+ za sledované období (cca 150 slov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fotodokumentace práce s CS (cca 4 fotografie, u nichž má příjemce písemný souhlas vyobrazených osob k uveřejnění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popis, jak projekt pomohl jednomu konkrétnímu účastníkovi (v případě že to dosavadní vývoj aktivit v projektu umožňuje) – cca 150 slo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d3673"/>
                </a:solidFill>
                <a:latin typeface="Arial"/>
              </a:rPr>
              <a:t>K ZMZ navíc přiložíte zhodnocení celkového přínosu pro CS osob 50+ (cca 200 slov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1026"/>
          <p:cNvSpPr/>
          <p:nvPr/>
        </p:nvSpPr>
        <p:spPr>
          <a:xfrm>
            <a:off x="539640" y="2421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Změny v projekte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Druhy změn v 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46836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v nejbližší M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od jejího vznik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901"/>
              </a:spcAft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říklady těchto změn v Příručce pro příjemce (D2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Oznámení změny: žádostí o podstatnou změnu v tištěné a elektronické podobě (formulář ke stažení na www.esfcr.cz/file/7588 )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Účinnost změny: schválením této žádosti, tj. </a:t>
            </a:r>
            <a:r>
              <a:rPr b="1" lang="pl-PL" sz="2200" spc="-1" strike="noStrike">
                <a:solidFill>
                  <a:srgbClr val="14407e"/>
                </a:solidFill>
                <a:latin typeface="Arial"/>
              </a:rPr>
              <a:t>datem podpisu  poskytovatele podpory na Rozhodnutí o změně rozhodnut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2400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3"/>
          <p:cNvSpPr/>
          <p:nvPr/>
        </p:nvSpPr>
        <p:spPr>
          <a:xfrm>
            <a:off x="457200" y="1125360"/>
            <a:ext cx="8229600" cy="507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Ne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nutné informovat poskytovatele v nejbližší monitorovací zprávě o provedených změnách včetně řádného zdůvodně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formálního a věcného charakteru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ch údaj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), sídla a statutárního zástupce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jemce podpor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 kontaktní osoby projektu (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informovat neprodleně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harmonogramu realizace, která neovlivní spl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í cíl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ani monitorovacích indikáto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projektu – doložit v 1.části MZ přepracovaný harmono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uza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a zm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y (formálního charakteru) smluv s partne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3"/>
          <p:cNvSpPr/>
          <p:nvPr/>
        </p:nvSpPr>
        <p:spPr>
          <a:xfrm>
            <a:off x="457200" y="13716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měny rozpočtu: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ytv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nové pol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ky v rozpo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u / 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íp. její vynulování za podmínky,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 neznamená za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átek nové aktivity, resp. zruš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i ukon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ní stávající kl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vé aktiv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výšení jednotkových cen (změna musí být hospodárná, efektivní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řesun pr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ř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ed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mezi jednotlivými kapitolami do výše 15 % objemu původního rozpočtu kapitoly, z níž jsou finanční prostředky přesouván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Veškeré změny nutné zohlednit ve všech částech MZ a jejích přílohác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Taktéž je nutné se řídit cenami v místě a čase obvyklými (dostupné na www.esfcr.cz, součástí výzvy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54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Program seminář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0" y="260280"/>
            <a:ext cx="7770960" cy="623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ahájení semináře (9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1: (cca 9:05 – 10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becné informace k MZ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,  metodická část (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měny, nepřímé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náklady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partnerství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 (cca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: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0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cca 10 minut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2: (10:15 – 11: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yplňování MZ a ŽoP v Benefit 7+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na oběd (cca 1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: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20 - 3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3:  (cca 12:00 – 13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Finanční část MZ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Přestávka (cca 1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3:05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, cc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10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 minut</a:t>
            </a:r>
            <a:r>
              <a:rPr b="1" i="1" lang="en-U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Blok 4: (cca od 13: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Zadávání zakázek </a:t>
            </a: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+ dotaz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Publicita- a 50+specifik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Kontroly na místě -dotaz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Závěr semináře (cca 16: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413000"/>
            <a:ext cx="82296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buClr>
                <a:srgbClr val="1440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   </a:t>
            </a: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Změny klíčových aktiv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elze schvalovat změny odborného vzdělávání na klíčové dovedno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e způsobu provádění klíčových aktivit a jejich obsahu, která nemá negativní dopad na plnění cílů projektu (např. úprava počtu účastníků, počtu hodin, frekvence kurzů ) – nutné popsat v MZ = nepodstatná změ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14407e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3"/>
          <p:cNvSpPr/>
          <p:nvPr/>
        </p:nvSpPr>
        <p:spPr>
          <a:xfrm>
            <a:off x="838080" y="981000"/>
            <a:ext cx="7772400" cy="51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z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ny, které ovlivní cíle, obsah nebo za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ěř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ení projektu</a:t>
            </a: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 zakládají změnu právního aktu, tudíž je potřeba podat žádost o změ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formulář žádosti na www.esfcr.cz/file/7588 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lze předložit nejpozději 30 dnů před ukončením realizace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podstatné změny nelze provést před odsouhlasením poskytovatele podpo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550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14407e"/>
                </a:solidFill>
                <a:latin typeface="Arial"/>
              </a:rPr>
              <a:t>žádost zaslat v listinné i elektronické podobě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8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762120" y="2362320"/>
            <a:ext cx="6324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1" lang="cs-CZ" sz="14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5"/>
          <p:cNvSpPr/>
          <p:nvPr/>
        </p:nvSpPr>
        <p:spPr>
          <a:xfrm>
            <a:off x="4952880" y="22096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395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</a:rPr>
              <a:t>Změny v projektec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3"/>
          <p:cNvSpPr/>
          <p:nvPr/>
        </p:nvSpPr>
        <p:spPr>
          <a:xfrm>
            <a:off x="457200" y="1125360"/>
            <a:ext cx="8229600" cy="500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407e"/>
                </a:solidFill>
                <a:latin typeface="Arial"/>
              </a:rPr>
              <a:t>Podstatné změ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14407e"/>
                </a:solidFill>
                <a:latin typeface="Arial"/>
              </a:rPr>
              <a:t>       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pokud si příjemce není jistý, zda jeho zamýšlená změna je podstatná, doporučujeme konzultovat s poskytovatel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data ukončení projektu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týkající se monitorovacích indikátorů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artne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bankovního účtu organiza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kapitolami vyšší než 15 %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bjemu původního rozpočtu kapitoly, z níž jsou finanční prostředky přesouvány</a:t>
            </a: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Přesun mezi položkami na neinvestiční a investiční výdaj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Navýšení či snížení kapitoly křížové financován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právní formy příjemce, sloučení s jinou právnickou osob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1440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407e"/>
                </a:solidFill>
                <a:latin typeface="Arial"/>
              </a:rPr>
              <a:t>Změna v obsahu klíčových aktivit, pokud bude zachován účel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781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131c"/>
                </a:solidFill>
                <a:latin typeface="Arial"/>
                <a:ea typeface="Arial"/>
              </a:rPr>
              <a:t>Partnerství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68360" y="1483920"/>
            <a:ext cx="8229600" cy="459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artneři projekt společně vytvářejí – podílejí se na zpracování projektové žádosti, a následně na realizaci věcných projektových aktivit. Jsou to takové aktivity, bez jejichž realizace by nebylo možné zajistit řádné fungování a naplňování cíle projektu, proto je spoluúčast všech </a:t>
            </a:r>
            <a:r>
              <a:rPr b="1" lang="pl-PL" sz="2400" spc="-1" strike="noStrike">
                <a:solidFill>
                  <a:srgbClr val="143f7e"/>
                </a:solidFill>
                <a:latin typeface="Arial"/>
              </a:rPr>
              <a:t>partnerů na projektu podstatná a nezastupitelná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vaha právních vztahů mezi žadatelem a jeho partnery nesmí být založena na poskytování služeb, dodávce zboží atd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Partnerství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360" y="981000"/>
            <a:ext cx="822960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mlouva o partnerství musí být předložena nejpozději s 1. průběžnou monitorovací zpráv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Smlouva o partnerství může být uzavřena pouze s partnery, kteří jsou uvedeni v příloze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ředmětem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smlouv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je úprava postavení příjemce a jeho českých partnerů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vymezení aktivit, jimiž se podílejí na projektu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úprava jejich vzájemných práv a povinností při naplňování účelu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odpovědnost za porušení této smlouvy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způsob ukončení spoluprá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rozpočet  (rozdělení </a:t>
            </a:r>
            <a:r>
              <a:rPr b="1" lang="pl-PL" sz="1600" spc="-1" strike="noStrike">
                <a:solidFill>
                  <a:srgbClr val="143f7e"/>
                </a:solidFill>
                <a:latin typeface="Arial"/>
              </a:rPr>
              <a:t>nákladů připadají na příjemce podpory a jaké na jednotlivé partnery) apo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Vzor smlouvy </a:t>
            </a:r>
            <a:r>
              <a:rPr b="1" lang="cs-CZ" sz="1700" spc="-1" strike="noStrike" u="sng">
                <a:solidFill>
                  <a:srgbClr val="000000"/>
                </a:solidFill>
                <a:uFillTx/>
                <a:latin typeface="Arial"/>
              </a:rPr>
              <a:t>http://www.esfcr.cz/07-13/oplzz/dokumenty-1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V případě více českých partnerů je smlouva o partnerství smlouvou vícestrannou </a:t>
            </a:r>
            <a:r>
              <a:rPr b="1" lang="pl-PL" sz="1700" spc="-1" strike="noStrike">
                <a:solidFill>
                  <a:srgbClr val="143f7e"/>
                </a:solidFill>
                <a:latin typeface="Arial"/>
              </a:rPr>
              <a:t>mezi příjemcem podpory a všemi jeho partnery – je možné uzavřít pouze jednu smlouvu, pokud je to možné dle zákon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68360" y="2420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Náklady, které  nejsou nebo nemohou být přímo spojené s konkrétní aktivitou daného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Zahrnují náklady spojené s administrací projektu či vznikající při běžné činnosti organizace při práci s cílovou skupinou příjemce nebo českého partner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Sazba nepřímých nákladů je vyjádřena % jehož výši naleznete v Rozhodnutí o poskytnutí dotace v Část II Povinnosti příjemce dotace bod 5.2.2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Proplaceny postupně ve výši % podílu ze skutečně vynaložených a prokázaných přímých nákladů projektu</a:t>
            </a:r>
            <a:r>
              <a:rPr b="0" lang="cs-CZ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spcBef>
                <a:spcPts val="55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Arial"/>
              </a:rPr>
              <a:t>v případě přesunu mezi kapitolami může dojí k navýšení kapitoly služeb nad 60% a tedy k snížení podílu nepřímých náklad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Nepřímé náklady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mezení nepřímých nákladů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(metodika D5 bod 2.7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edení účetnictví vč. mezd pracovník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opírování, tis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prava a údržba zařízení a vybavení a nemovitost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ajištění publicity pomoci z ESF (povinné minimum publicity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Nákup spotřebního a kancelářského materiál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Bankovní poplatk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Energie, vodné, stočné v prostorech kanceláře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Ostraha a  pojištění majetku využívaného k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Cestovní náhrady spojené s vnitrostátními pracovními cestam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5"/>
          <p:cNvSpPr/>
          <p:nvPr/>
        </p:nvSpPr>
        <p:spPr>
          <a:xfrm>
            <a:off x="1403280" y="2276640"/>
            <a:ext cx="7048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  <a:ea typeface="Arial"/>
              </a:rPr>
              <a:t>Monitorovací indikátory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20500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d1131c"/>
                </a:solidFill>
                <a:latin typeface="Arial"/>
                <a:ea typeface="Arial"/>
              </a:rPr>
              <a:t>Obecné informace k MZ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15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3"/>
          <p:cNvSpPr/>
          <p:nvPr/>
        </p:nvSpPr>
        <p:spPr>
          <a:xfrm>
            <a:off x="324000" y="1341360"/>
            <a:ext cx="8642160" cy="454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ledují sociodemografické údaje o cílové skupin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Monitorovací indikátory definovány v metodice D8 - Metodika monitorovacích indikátor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Závazné indikátory a jejich cílové hodnoty (které jste si stanovili v žádosti o poskytnutí podpory) jsou součástí Rozhodnutí o poskytnutí dota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plňování závazných indikátorů je sledováno a vykazováno v monitorovacích zprávách projektu a hodnoty těchto závazných indikátorů musí být </a:t>
            </a:r>
            <a:r>
              <a:rPr b="1" lang="cs-CZ" sz="2000" spc="-1" strike="noStrike">
                <a:solidFill>
                  <a:srgbClr val="ff0000"/>
                </a:solidFill>
                <a:latin typeface="Arial"/>
              </a:rPr>
              <a:t>prokazatelné a ověřitelné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ípadnou kontrol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„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Dosažení cílových hodnot je nutnou (avšak </a:t>
            </a:r>
            <a:r>
              <a:rPr b="0" i="1" lang="cs-CZ" sz="2000" spc="-1" strike="noStrike" u="sng">
                <a:solidFill>
                  <a:srgbClr val="14407e"/>
                </a:solidFill>
                <a:uFillTx/>
                <a:latin typeface="Arial"/>
              </a:rPr>
              <a:t>nikoliv postačující</a:t>
            </a:r>
            <a:r>
              <a:rPr b="0" i="1" lang="cs-CZ" sz="2000" spc="-1" strike="noStrike">
                <a:solidFill>
                  <a:srgbClr val="14407e"/>
                </a:solidFill>
                <a:latin typeface="Arial"/>
              </a:rPr>
              <a:t>) podmínkou pro dosažení cílů projektu.</a:t>
            </a:r>
            <a:r>
              <a:rPr b="0" lang="cs-CZ" sz="2000" spc="-1" strike="noStrike">
                <a:solidFill>
                  <a:srgbClr val="14407e"/>
                </a:solidFill>
                <a:latin typeface="Arial"/>
              </a:rPr>
              <a:t>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539640" y="1773360"/>
          <a:ext cx="8229600" cy="2590560"/>
        </p:xfrm>
        <a:graphic>
          <a:graphicData uri="http://schemas.openxmlformats.org/drawingml/2006/table">
            <a:tbl>
              <a:tblPr/>
              <a:tblGrid>
                <a:gridCol w="1440000"/>
                <a:gridCol w="2016000"/>
                <a:gridCol w="477360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uh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ód národního číselník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ázev indikátoru</a:t>
                      </a: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tup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1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sob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5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podpořených organizací -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57.00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nových/inovovaných produktů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sledky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7.46.13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očet úspěšných absolventů kurzů celkem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1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395280" y="1658880"/>
            <a:ext cx="8229600" cy="461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1.00 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Počet podpořených osob – celk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aždá osoba je v rámci projektu započítávána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pouze jednou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, bez ohledu na to, kolik podpor obdržel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Členové projektového týmu nejsou podpořené osoby, zařazeni by zde mohli být pouze v případě, kdyby oni sami byli kromě projektového týmu zároveň také cílovou skupino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5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podpořených organizací – cel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Do hodnoty tohoto indikátoru se zahrnuje 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organizace příjemce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+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 organizace českých partnerů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 uvedených v Rozhodnutí o poskytnutí dot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odnota musí být </a:t>
            </a:r>
            <a:r>
              <a:rPr b="1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větší nebo rovna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2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395280" y="1268280"/>
            <a:ext cx="8229600" cy="474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57.00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 Počet nových/inovovaných produktů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Nový produkt =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formy a nástroje, kterými je poskytována podpora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c00000"/>
                </a:solidFill>
                <a:latin typeface="Arial"/>
              </a:rPr>
              <a:t>Inovovaný produkt = 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namená takový produkt, kde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změny v jeho cílech, obsahu, metodách nebo formách významně zvýšily jeho kvalitu a účinnost při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Např. vzdělávací program, kurz, metodika, osnovy, školní vzdělávací program, e-learningový produkt, webový portál, rekvalifikační modul, integrační postupy, vzdělávací pomůcka apo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Produkt musí bý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samostatně použitelný pro poskytování podpory cílovým skupinám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. Soubor několika předmětů či materiálů, které musí být použity společně, tak představuje jediný produk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Započítává se počet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různých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produktů, nikoliv počet kusů, kopií či shodných opaková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Přehled MI (3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395280" y="1658880"/>
            <a:ext cx="8229600" cy="308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d2d8a"/>
                </a:solidFill>
                <a:latin typeface="Arial"/>
              </a:rPr>
              <a:t>07.46.13 </a:t>
            </a:r>
            <a:r>
              <a:rPr b="1" lang="cs-CZ" sz="2400" spc="-1" strike="noStrike">
                <a:solidFill>
                  <a:srgbClr val="d1131c"/>
                </a:solidFill>
                <a:latin typeface="Arial"/>
              </a:rPr>
              <a:t>Počet úspěšných absolventů kurzů celkem</a:t>
            </a: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Jedná se o </a:t>
            </a:r>
            <a:r>
              <a:rPr b="1" lang="cs-CZ" sz="1800" spc="-1" strike="noStrike">
                <a:solidFill>
                  <a:srgbClr val="14407e"/>
                </a:solidFill>
                <a:latin typeface="Arial"/>
              </a:rPr>
              <a:t>osoby, které ukončily kurz/zúčastnily se vzdělávacích aktivit v rámci podpořených projektů a ukončily způsobem stanoveným poskytovatelem kurzu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 (např. získaly certifikát, osvědčení, úspěšně absolvovaly závěrečný test).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Konkrétní účastník (úspěšný absolvent kurzu) je započten tolikrát, kolik kurzů úspěšně dokončil předepsaným způsobe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Opět musí být </a:t>
            </a:r>
            <a:r>
              <a:rPr b="0" lang="cs-CZ" sz="1800" spc="-1" strike="noStrike" u="sng">
                <a:solidFill>
                  <a:srgbClr val="14407e"/>
                </a:solidFill>
                <a:uFillTx/>
                <a:latin typeface="Arial"/>
              </a:rPr>
              <a:t>průkazné</a:t>
            </a:r>
            <a:r>
              <a:rPr b="0" lang="cs-CZ" sz="1800" spc="-1" strike="noStrike">
                <a:solidFill>
                  <a:srgbClr val="14407e"/>
                </a:solidFill>
                <a:latin typeface="Arial"/>
              </a:rPr>
              <a:t>, že konkrétní osoba splnila podmínky úspěšného absolvování kurz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Monitorovací indikáto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"/>
          <p:cNvSpPr/>
          <p:nvPr/>
        </p:nvSpPr>
        <p:spPr>
          <a:xfrm>
            <a:off x="395280" y="1557360"/>
            <a:ext cx="8229600" cy="439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nedosáhnu cílové hodnoty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ak hrozí sankce (povinnost vrátit část dotace) ve výši závislé na míře nenaplnění cílov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krétní způsob vyčíslení sankce je uveden v Rozhodnutí o poskytnutí dotace v Části IV Sankce v bodech 2.4 a 2.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c00000"/>
                </a:solidFill>
                <a:latin typeface="Arial"/>
              </a:rPr>
              <a:t>Co když překročím cílovou hodnotu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91960" indent="-29196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ři překročení plánované hodnoty indikátorů je při výpočtu dosažených hodnot ukazatelů navýšení u jednotlivých indikátorů započítáno maximálně ve výši 120% původně plánované hodno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c00000"/>
                </a:solidFill>
                <a:latin typeface="Arial"/>
              </a:rPr>
              <a:t>Detailní členění hlavních indikátor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3"/>
          <p:cNvSpPr/>
          <p:nvPr/>
        </p:nvSpPr>
        <p:spPr>
          <a:xfrm>
            <a:off x="755640" y="1197000"/>
            <a:ext cx="7437600" cy="453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Je-li u daného indikátoru stanoveno jeho detailní členění,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musí příjemce indikátor sledovat a vykazovat i v tomto detailním členě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(např. podle pohlaví, podle postavení na trhu práce apod.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U těchto indikátorů není stanovená cílová hodnota a nehrozí zde žádná sank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detailní členění j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ouze indikativní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a je vykazováno na základě získaných údajů ve své evidenci (presenční listiny atd.) nebo, tam, kde evidence není možná, účelná nebo kde by přinesla neúměrně vysoké náklady, na základě vlastního kvalifikovaného odhadu.“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třebné pro vyhodnocení účinků OP LZZ, reportování vládě, Evropské komis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c00000"/>
                </a:solidFill>
                <a:latin typeface="Arial"/>
              </a:rPr>
              <a:t>Indikátory – další inform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3"/>
          <p:cNvSpPr/>
          <p:nvPr/>
        </p:nvSpPr>
        <p:spPr>
          <a:xfrm>
            <a:off x="181080" y="1658880"/>
            <a:ext cx="8783640" cy="45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D8 – Metodika monitorovacích indikátor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http://www.esfcr.cz/file/8258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	</a:t>
            </a:r>
            <a:r>
              <a:rPr b="0" lang="cs-CZ" sz="2200" spc="-1" strike="noStrike">
                <a:solidFill>
                  <a:srgbClr val="14407e"/>
                </a:solidFill>
                <a:latin typeface="Arial"/>
              </a:rPr>
              <a:t>(Cesta: </a:t>
            </a:r>
            <a:r>
              <a:rPr b="0" i="1" lang="cs-CZ" sz="2200" spc="-1" strike="noStrike">
                <a:solidFill>
                  <a:srgbClr val="000000"/>
                </a:solidFill>
                <a:latin typeface="Arial"/>
              </a:rPr>
              <a:t>www.esfcr.cz → „Dokumenty“→ „Příručky“→ „Desatero OP LZZ“→ „D8 Metodika monitorovacích indikátorů“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ESF Forum – Diskusní klub „</a:t>
            </a:r>
            <a:r>
              <a:rPr b="1" lang="en-GB" sz="2400" spc="-1" strike="noStrike">
                <a:solidFill>
                  <a:srgbClr val="143f7e"/>
                </a:solidFill>
                <a:latin typeface="Arial"/>
              </a:rPr>
              <a:t>Monitorování a informační systémy; indikátory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https://forum.esfcr.cz/node/discussion.htm?ident=114&amp;1285767538</a:t>
            </a:r>
            <a:r>
              <a:rPr b="0" lang="cs-CZ" sz="2800" spc="-1" strike="noStrike">
                <a:solidFill>
                  <a:srgbClr val="14407e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14407e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400" spc="-1" strike="noStrike">
                <a:solidFill>
                  <a:srgbClr val="d1131c"/>
                </a:solidFill>
                <a:latin typeface="Arial"/>
              </a:rPr>
              <a:t>Děkuji Vám za pozornost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Odbor řízení pomoci z ES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Ministerstvo práce a sociálních věcí Č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www.esfcr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14407e"/>
                </a:solidFill>
                <a:latin typeface="Arial"/>
              </a:rPr>
              <a:t>esf@mpsv.c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Typy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305920" cy="37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Průběžná monitorovací zpráva (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Mimořádná monitorovací zpráva (M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10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d3673"/>
                </a:solidFill>
                <a:latin typeface="Arial"/>
                <a:ea typeface="Arial"/>
              </a:rPr>
              <a:t>Závěrečná monitorovací zpráva (ZMZ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odrobnější informace o monitorovacích zprávách naleznete v příručkách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10 Pokyny pro vyplnění monitorovacích zpráv o realizaci projektu a jejich přílo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d3673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D2 Příručka pro příjemce (kapitola 14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Předkládání monitorovacích zpráv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539280" y="1125360"/>
            <a:ext cx="828036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Předkládání MZ je dáno bodem 6.2 části II Rozhodnutí o poskytnutí dotace a Příručkou pro příjemce (D2) a Pokyny pro vyplnění MZ (D1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1. Průběžná monitorovací zpráv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termíny i délku období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stanovuje Rozhodnutí bod 6.2.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, některé projekty předkládají za období prvních 3 měsíců realizace projektu  (odevzdání do 15-ti kalendářních dnů od ukončeného monitorovacího období), některé za období prvních 6 měsíců (odevzdání do 30-ti kal. dnů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Další průběžné monitorovací zprávy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nejméně jednou za každých 6 měsíců realizace projektu, předkládá se do 30-ti kalendářních dnů od ukončeného monitorovacího období. V případě domluvy s kontaktní osobou je možné předložit </a:t>
            </a: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„mimořádnou monitorovací zprávu“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(za kratší i delší sledované obdob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0000"/>
                </a:solidFill>
                <a:latin typeface="Arial"/>
                <a:ea typeface="Arial"/>
              </a:rPr>
              <a:t>Závěrečná monitorovací zpráva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– předkládá se do 2 měsíců po ukončení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1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MZ se skládají ze 2 částí + příloh k M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1. část v Benefit 7+ a 2. část MZ ve Wordu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 algn="just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přílohy k finanční čás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2. část MZ a přílohy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older/4968/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2"/>
              </a:rPr>
              <a:t>Ž</a:t>
            </a:r>
            <a:r>
              <a:rPr b="0" lang="cs-CZ" sz="2400" spc="-1" strike="noStrike" u="sng">
                <a:solidFill>
                  <a:srgbClr val="0d3673"/>
                </a:solidFill>
                <a:uFillTx/>
                <a:latin typeface="Arial"/>
                <a:ea typeface="Arial"/>
              </a:rPr>
              <a:t>ádost o platbu musí být předložena vždy, pokud v daném monitorovacím období realizoval příjemce způsobilé výdaj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Žádost o platbu nelze předložit samostatně bez monitorovací zpráv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 algn="just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vinnost archivace MZ a žádostí o platbu příjemc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Náležitosti monitorovacích zpráv (2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5280" y="1341360"/>
            <a:ext cx="83059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Každá monitorovací zpráva musí být doložena jak v listinné tak v elektronické podob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v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 el. podobě v Benefit7+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přílohy </a:t>
            </a:r>
            <a:r>
              <a:rPr b="1" lang="en-US" sz="1800" spc="-1" strike="noStrike">
                <a:solidFill>
                  <a:srgbClr val="0d3673"/>
                </a:solidFill>
                <a:latin typeface="Arial"/>
                <a:ea typeface="Arial"/>
              </a:rPr>
              <a:t>je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nutné nahrát do Benefit7+ k monitorovací zpráv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 algn="just">
              <a:spcBef>
                <a:spcPts val="451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Arial"/>
              </a:rPr>
              <a:t>v listinné podobě se MZ zasílá na kontaktní osobu (adresa pro doručení bude zveřejněna na esfcr.cz a příjemcům bude zaslána prostřednictvím zprávy Monit - Benefi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 algn="just"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ff0000"/>
                </a:solidFill>
                <a:latin typeface="Arial"/>
                <a:ea typeface="Arial"/>
              </a:rPr>
              <a:t>Rozhodující je datum doruč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zprávy poskytovateli podpory nikoliv datum odeslání zásilk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Možnost požádat o prodloužení kontaktní osobu – pouze v odůvodněných případech (vzor žádosti je ke stažení na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ea typeface="Arial"/>
                <a:hlinkClick r:id="rId1"/>
              </a:rPr>
              <a:t>http://www.esfcr.cz/file/7741/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 algn="just"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Arial"/>
              </a:rPr>
              <a:t>Výzvy k opravě/oznámení o schválení MZ jsou zasílány prostřednictvím zprávy Monit – Benefi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683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ff0000"/>
                </a:solidFill>
                <a:latin typeface="Arial"/>
                <a:ea typeface="Arial"/>
              </a:rPr>
              <a:t>Obsahuje následující údaj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formace o projektu a MZ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Indikátory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ýběrová řízení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ublicita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Rozpočet projektu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Zdroje financování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Finanční plán,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rioritní téma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Harmonogram realizace,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-434160">
              <a:spcBef>
                <a:spcPts val="476"/>
              </a:spcBef>
              <a:spcAft>
                <a:spcPts val="601"/>
              </a:spcAft>
              <a:buClr>
                <a:srgbClr val="0d3673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řílohy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683280" indent="0"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0d3673"/>
                </a:solidFill>
                <a:latin typeface="Arial"/>
                <a:ea typeface="Arial"/>
              </a:rPr>
              <a:t>Podrobně viz. následující prezentace Benefit 7+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  <a:ea typeface="Arial"/>
              </a:rPr>
              <a:t>1 .část Monitorovací zpráv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Arial"/>
              </a:rPr>
              <a:t>Veřejná podpora (V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d3673"/>
                </a:solidFill>
                <a:latin typeface="Arial"/>
                <a:ea typeface="Arial"/>
              </a:rPr>
              <a:t>Pos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ytnutá V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z Rozhodnutí o poskytnutí dotace ČÁST I bod 2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yčerpaná VP (nevyplňuje se u de minim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ze Soupisek účetních do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uze z položek uhrazených v daném r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výpočet včetně 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Arial"/>
              </a:rPr>
              <a:t>pozor z křížového financování se NN nevypočítávaj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8:05:16Z</dcterms:modified>
  <cp:revision>546</cp:revision>
  <dc:subject/>
  <dc:title>Snímek 1</dc:title>
</cp:coreProperties>
</file>