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6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58.png" ContentType="image/png"/>
  <Override PartName="/ppt/media/image22.png" ContentType="image/png"/>
  <Override PartName="/ppt/media/image59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14.png" ContentType="image/png"/>
  <Override PartName="/ppt/media/image2.png" ContentType="image/png"/>
  <Override PartName="/ppt/media/image33.png" ContentType="image/png"/>
  <Override PartName="/ppt/media/image15.png" ContentType="image/png"/>
  <Override PartName="/ppt/media/image3.png" ContentType="image/png"/>
  <Override PartName="/ppt/media/image70.png" ContentType="image/png"/>
  <Override PartName="/ppt/media/image28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64.png" ContentType="image/png"/>
  <Override PartName="/ppt/media/image26.png" ContentType="image/png"/>
  <Override PartName="/ppt/media/image63.png" ContentType="image/png"/>
  <Override PartName="/ppt/media/image25.png" ContentType="image/png"/>
  <Override PartName="/ppt/media/image62.png" ContentType="image/png"/>
  <Override PartName="/ppt/media/image24.png" ContentType="image/png"/>
  <Override PartName="/ppt/media/image61.png" ContentType="image/png"/>
  <Override PartName="/ppt/media/image23.png" ContentType="image/png"/>
  <Override PartName="/ppt/media/image60.png" ContentType="image/png"/>
  <Override PartName="/ppt/media/image27.png" ContentType="image/png"/>
  <Override PartName="/ppt/media/image16.png" ContentType="image/png"/>
  <Override PartName="/ppt/media/image4.png" ContentType="image/png"/>
  <Override PartName="/ppt/media/image34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48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8.png" ContentType="image/png"/>
  <Override PartName="/ppt/media/image3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40.png" ContentType="image/png"/>
  <Override PartName="/ppt/media/image4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-36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1960" y="746280"/>
            <a:ext cx="4971960" cy="372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2080"/>
            <a:ext cx="2950920" cy="498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5B99-4104-4228-9BC1-3D52E30AAFA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C1C39-CA2F-44C1-809A-6AAC6BEB3644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Nové pole </a:t>
            </a:r>
            <a:r>
              <a:rPr b="1" lang="cs-CZ" sz="1200" spc="-1" strike="noStrike">
                <a:solidFill>
                  <a:srgbClr val="000000"/>
                </a:solidFill>
                <a:latin typeface="Arial"/>
              </a:rPr>
              <a:t>Skutečná cena VŘ po podpisu smlouvy</a:t>
            </a:r>
            <a:r>
              <a:rPr b="0" lang="cs-CZ" sz="1200" spc="-1" strike="noStrike">
                <a:solidFill>
                  <a:srgbClr val="000000"/>
                </a:solidFill>
                <a:latin typeface="Arial"/>
              </a:rPr>
              <a:t>. Částka bude z pole u dodatku VŘ automaticky doplněna do nových polí, pokud bude u VŘ pouze jeden dodavatel. Pokud bude více dodavatelů, příjemce bude vyplňovat pole na záložce Detaily k VŘ ručně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3A19B-E15C-4837-AC35-0C388C48D4EC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2A2EB-F32B-40AF-9B34-15C3317E4857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922320" y="746280"/>
            <a:ext cx="4971960" cy="37288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681120" y="4722480"/>
            <a:ext cx="544824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Zástupný symbol pro číslo snímku 3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7951A-D96F-4610-B862-25210EAF6D68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20F11-C416-43FE-9F74-458F0A1E67CD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43160" y="549360"/>
            <a:ext cx="4114800" cy="308772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2560" y="3679920"/>
            <a:ext cx="5445360" cy="551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57760" y="9442440"/>
            <a:ext cx="295092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2B99-8738-4876-A926-0FB97536F06E}" type="slidenum">
              <a:rPr b="0" lang="cs-CZ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59000" y="568440"/>
            <a:ext cx="4079880" cy="306072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28440" y="4387680"/>
            <a:ext cx="4948200" cy="477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5F08D-2AAA-4A31-9F26-9DD29C980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CDE68-5FC3-40EC-8658-C51CD7D4B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4AE82-0B6B-4126-9165-FDBE4BEDC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FE395-3286-45CC-8230-972E313C4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1915C-440B-43DF-A421-A09CDED53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2CA76-ED73-4FA6-BA51-B935C50B6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A1CB-BAB9-4524-9F81-BFF14BF66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1D531-82DF-4B1F-A6F6-493B88AEF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768B-CC40-402D-889A-5999BDE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3DA4-B908-4C38-966C-C4A1BBDE2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50B02-2D20-4D33-B682-F4DED2724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E5FD-31D6-49DE-87D1-290EB179B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76D4A-EE88-4035-BED1-5641D4AD6A18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s://www.eu-zadost.cz/zadost.aspx?zalozka=BN7SAB_RLZ_IP_188" TargetMode="External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eu-zadost.cz/" TargetMode="External"/><Relationship Id="rId2" Type="http://schemas.openxmlformats.org/officeDocument/2006/relationships/hyperlink" Target="http://www.eu-zadost.eu/" TargetMode="External"/><Relationship Id="rId3" Type="http://schemas.openxmlformats.org/officeDocument/2006/relationships/hyperlink" Target="mailto:benefit7@mpsv.cz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sfcr.cz/" TargetMode="External"/><Relationship Id="rId2" Type="http://schemas.openxmlformats.org/officeDocument/2006/relationships/hyperlink" Target="http://www.eu-zadost.cz/" TargetMode="External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4.png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65.png"/><Relationship Id="rId2" Type="http://schemas.openxmlformats.org/officeDocument/2006/relationships/image" Target="../media/image6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68.pn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hyperlink" Target="mailto:benefit7@mpsv.cz" TargetMode="Externa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4360" y="1413000"/>
            <a:ext cx="7772400" cy="207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2000"/>
            </a:b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Vyplňování monitorovací zprávy a žádosti o platbu v Benefit7</a:t>
            </a:r>
            <a:br>
              <a:rPr sz="3600"/>
            </a:b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technická část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002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Načíst data z MONIT7+“ budete informováni o zahájení načítání dat na MZ následujícím informačním hlášením. MZ je v tuto dobu neaktivní, nelze ji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návrat na úvodní stránku stiskněte tlačítko „Zpět“. V případě tohoto kroku budete upozorněni o načítání dat hlášením: „Akce je spuštěna na pozadí. Do jejího vypořádání bude MZ zobrazena pro čtení. Jakmile akce na pozadí skončí, bude možné MZ opět editovat. O výsledku akce budete informování hlášením, se kterým je třeba se seznámit.“ Vyčkejte, prosím, na dokončení operace. Informační hlášení je možné skrýt použitím žluté šipky v pravé části informačního hláše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39720" y="2565360"/>
            <a:ext cx="7648560" cy="1584360"/>
          </a:xfrm>
          <a:prstGeom prst="rect">
            <a:avLst/>
          </a:prstGeom>
          <a:ln w="0">
            <a:noFill/>
          </a:ln>
        </p:spPr>
      </p:pic>
      <p:sp>
        <p:nvSpPr>
          <p:cNvPr id="84" name="Obdélník 5"/>
          <p:cNvSpPr/>
          <p:nvPr/>
        </p:nvSpPr>
        <p:spPr>
          <a:xfrm>
            <a:off x="2124000" y="2997360"/>
            <a:ext cx="331164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"/>
          <p:cNvPicPr/>
          <p:nvPr/>
        </p:nvPicPr>
        <p:blipFill>
          <a:blip r:embed="rId1"/>
          <a:stretch/>
        </p:blipFill>
        <p:spPr>
          <a:xfrm>
            <a:off x="30240" y="1220760"/>
            <a:ext cx="5790960" cy="2543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5821200" y="1557360"/>
            <a:ext cx="314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končení operace, úspěšně provedené nebo nikoli, je uživatel informován zobrazením zprávy v zeleném pruh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ro přečtení výsledku operace je nutné kliknutí na odkaz, následně se zobrazí protoko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stisknutí tlačítka „Označit jako přečtené“ je načtení dat ukončeno a protokol vymazán. V opačném případě bude aplikace upozorňovat na nepřečtení v cykle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bdélník 5"/>
          <p:cNvSpPr/>
          <p:nvPr/>
        </p:nvSpPr>
        <p:spPr>
          <a:xfrm>
            <a:off x="1692360" y="1484280"/>
            <a:ext cx="223200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"/>
          <p:cNvPicPr/>
          <p:nvPr/>
        </p:nvPicPr>
        <p:blipFill>
          <a:blip r:embed="rId2"/>
          <a:stretch/>
        </p:blipFill>
        <p:spPr>
          <a:xfrm>
            <a:off x="30240" y="3763800"/>
            <a:ext cx="4916520" cy="3094200"/>
          </a:xfrm>
          <a:prstGeom prst="rect">
            <a:avLst/>
          </a:prstGeom>
          <a:ln w="0">
            <a:noFill/>
          </a:ln>
        </p:spPr>
      </p:pic>
      <p:sp>
        <p:nvSpPr>
          <p:cNvPr id="90" name="Obdélník 8"/>
          <p:cNvSpPr/>
          <p:nvPr/>
        </p:nvSpPr>
        <p:spPr>
          <a:xfrm>
            <a:off x="2050920" y="4997520"/>
            <a:ext cx="1081080" cy="3268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2876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2640" y="1196640"/>
            <a:ext cx="4464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načtení dat z MONIT7+ se automaticky vyplní část záložky -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monitorovací zprávě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a zaktivní se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rozpočet projektu z MONIT7+“.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eho zmáčknutím se automaticky načte na záložce Rozpočet projekt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aktuální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odob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rozpočt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1080" indent="-181080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bude příjemce potřebovat změnit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Typ zprávy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musí požádat příslušného poskytovatele podpory, aby typ zprávy změnil v IS Monit7+. Pak musí příjemce původně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založenou MZ v B7 smazat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, pomocí tlačítka Nový záznam vytvořit novou MZ, uložit a znovu načíst data z 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392360" cy="5040360"/>
          </a:xfrm>
          <a:prstGeom prst="rect">
            <a:avLst/>
          </a:prstGeom>
          <a:ln w="0">
            <a:noFill/>
          </a:ln>
        </p:spPr>
      </p:pic>
      <p:sp>
        <p:nvSpPr>
          <p:cNvPr id="95" name="Obdélník 2"/>
          <p:cNvSpPr/>
          <p:nvPr/>
        </p:nvSpPr>
        <p:spPr>
          <a:xfrm>
            <a:off x="2556000" y="1916280"/>
            <a:ext cx="1368360" cy="28872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bdélník 3"/>
          <p:cNvSpPr/>
          <p:nvPr/>
        </p:nvSpPr>
        <p:spPr>
          <a:xfrm>
            <a:off x="395280" y="5805360"/>
            <a:ext cx="2736720" cy="432000"/>
          </a:xfrm>
          <a:prstGeom prst="rect">
            <a:avLst/>
          </a:prstGeom>
          <a:noFill/>
          <a:ln w="255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Přímá spojnice se šipkou 5"/>
          <p:cNvCxnSpPr/>
          <p:nvPr/>
        </p:nvCxnSpPr>
        <p:spPr>
          <a:xfrm flipH="1">
            <a:off x="3131640" y="4723920"/>
            <a:ext cx="1728000" cy="1081800"/>
          </a:xfrm>
          <a:prstGeom prst="straightConnector1">
            <a:avLst/>
          </a:prstGeom>
          <a:ln w="1908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o projektu a MZ (V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56000" y="1341360"/>
            <a:ext cx="4608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Tlačítko                                          slouží k načtení dílčích dat do MZ z IS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Je vhodné ho použít, </a:t>
            </a:r>
            <a:r>
              <a:rPr b="1" lang="cs-CZ" sz="1800" spc="-1" strike="noStrike" u="sng">
                <a:solidFill>
                  <a:srgbClr val="0d3673"/>
                </a:solidFill>
                <a:uFillTx/>
                <a:latin typeface="Arial"/>
              </a:rPr>
              <a:t>pokud došlo k opravě údajů v Monit7+ během psaní MZ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(ze strany poskytovatele podpory/administrátora) a není potřeba načítat všechna data, ale pouze konkrétní záložku, na které byla provedena oprava / úprav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Konkrétní oblast dat vyberete pomocí zatržení checkboxu, a poté tlačítkem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pustit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 provedete aktualizaci dat z Monit7+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    </a:t>
            </a:r>
            <a:r>
              <a:rPr b="0" lang="cs-CZ" sz="2400" spc="-1" strike="noStrike">
                <a:solidFill>
                  <a:srgbClr val="006699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12" descr=""/>
          <p:cNvPicPr/>
          <p:nvPr/>
        </p:nvPicPr>
        <p:blipFill>
          <a:blip r:embed="rId1"/>
          <a:stretch/>
        </p:blipFill>
        <p:spPr>
          <a:xfrm>
            <a:off x="539640" y="1268280"/>
            <a:ext cx="2324160" cy="2574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3" descr=""/>
          <p:cNvPicPr/>
          <p:nvPr/>
        </p:nvPicPr>
        <p:blipFill>
          <a:blip r:embed="rId2"/>
          <a:stretch/>
        </p:blipFill>
        <p:spPr>
          <a:xfrm>
            <a:off x="5734080" y="1397160"/>
            <a:ext cx="2324160" cy="257040"/>
          </a:xfrm>
          <a:prstGeom prst="rect">
            <a:avLst/>
          </a:prstGeom>
          <a:ln w="0">
            <a:noFill/>
          </a:ln>
        </p:spPr>
      </p:pic>
      <p:sp>
        <p:nvSpPr>
          <p:cNvPr id="102" name="Obdélník 1"/>
          <p:cNvSpPr/>
          <p:nvPr/>
        </p:nvSpPr>
        <p:spPr>
          <a:xfrm>
            <a:off x="539640" y="1268280"/>
            <a:ext cx="2324160" cy="316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5" descr=""/>
          <p:cNvPicPr/>
          <p:nvPr/>
        </p:nvPicPr>
        <p:blipFill>
          <a:blip r:embed="rId3"/>
          <a:stretch/>
        </p:blipFill>
        <p:spPr>
          <a:xfrm>
            <a:off x="530280" y="1654200"/>
            <a:ext cx="3305160" cy="4962600"/>
          </a:xfrm>
          <a:prstGeom prst="rect">
            <a:avLst/>
          </a:prstGeom>
          <a:ln w="0">
            <a:noFill/>
          </a:ln>
        </p:spPr>
      </p:pic>
      <p:cxnSp>
        <p:nvCxnSpPr>
          <p:cNvPr id="104" name="Přímá spojnice se šipkou 4"/>
          <p:cNvCxnSpPr>
            <a:stCxn id="105" idx="2"/>
          </p:cNvCxnSpPr>
          <p:nvPr/>
        </p:nvCxnSpPr>
        <p:spPr>
          <a:xfrm flipH="1">
            <a:off x="1186920" y="3357360"/>
            <a:ext cx="1945440" cy="2951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05" name="Obdélník 5"/>
          <p:cNvSpPr/>
          <p:nvPr/>
        </p:nvSpPr>
        <p:spPr>
          <a:xfrm>
            <a:off x="2987640" y="3068640"/>
            <a:ext cx="28908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bdélník 11"/>
          <p:cNvSpPr/>
          <p:nvPr/>
        </p:nvSpPr>
        <p:spPr>
          <a:xfrm>
            <a:off x="530280" y="6308640"/>
            <a:ext cx="657000" cy="308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V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787640" y="980640"/>
            <a:ext cx="421308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ále vyplníte následující povinná pol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ředkládané datum předložení ŘO/ZS 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- vyplňte datum, kdy bude MZ podána </a:t>
            </a: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(např. 29.02.2012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lán výdajů za příští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předpokládanou částku výdajů na další monitorovací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- uveďte skutečně vynaložené celkové výdaje za poslední monitorovací období, kdy vyplňujete tuto monitorovací zpráv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Zatržením příslušného checkboxu se  zpřístupní k editaci odpovídající záložk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kdy příjemce bude potřebovat přepracovat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ozpočet projektu, harmonogram re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rojektu neb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realizační tým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musí zatrhnout příslušný checkbox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Vám bude MZ vrácena k přepracování/zamítnutá, v poli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 Důvody k vrácení/zamítnutí MZ/ výhrady ke schvále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nalezne příjemce zdůvodnění proč se tak stalo. Informace se načte z Monit7+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26600" y="2247840"/>
            <a:ext cx="3970440" cy="17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9" descr=""/>
          <p:cNvPicPr/>
          <p:nvPr/>
        </p:nvPicPr>
        <p:blipFill>
          <a:blip r:embed="rId1"/>
          <a:stretch/>
        </p:blipFill>
        <p:spPr>
          <a:xfrm>
            <a:off x="250920" y="1773360"/>
            <a:ext cx="4537080" cy="3024000"/>
          </a:xfrm>
          <a:prstGeom prst="rect">
            <a:avLst/>
          </a:prstGeom>
          <a:ln w="0">
            <a:noFill/>
          </a:ln>
        </p:spPr>
      </p:pic>
      <p:sp>
        <p:nvSpPr>
          <p:cNvPr id="111" name="Obdélník 1"/>
          <p:cNvSpPr/>
          <p:nvPr/>
        </p:nvSpPr>
        <p:spPr>
          <a:xfrm>
            <a:off x="250920" y="1773360"/>
            <a:ext cx="180000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Zaoblený obdélník 2"/>
          <p:cNvSpPr/>
          <p:nvPr/>
        </p:nvSpPr>
        <p:spPr>
          <a:xfrm>
            <a:off x="250920" y="2708280"/>
            <a:ext cx="1800000" cy="86508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bdélník 3"/>
          <p:cNvSpPr/>
          <p:nvPr/>
        </p:nvSpPr>
        <p:spPr>
          <a:xfrm>
            <a:off x="250920" y="3789360"/>
            <a:ext cx="4537080" cy="792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6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diká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0" y="1125000"/>
            <a:ext cx="4464000" cy="496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Tato záložka slouží k průběžnému vykazování indikátorů v rámci realizovaných aktivit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osažená hodnot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bude příjemce vyplňovat hodnoty, kterých bylo dosaženo v rámci realizace projektu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 vyplnění dosažené hodnoty se zpovinní pol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sažené hodnot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 Pole se vyplní automatick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pis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opište dosažení indikátoru v daném sledovaném období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Hodnoty se uvádějí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KUMULATIVNĚ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– tedy souhrnně za sledované období od počátku projektu do konce příslušného monitorovacího obdob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 případě, že je v rámci projektu MI nerelevantní, zatrhněte checkbox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ro automatické doplnění pole Nerelevantní u nesledovaných indikátorů lze použít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Zatrhni nerelevantní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-360360">
              <a:lnSpc>
                <a:spcPct val="80000"/>
              </a:lnSpc>
              <a:spcBef>
                <a:spcPts val="349"/>
              </a:spcBef>
              <a:buClr>
                <a:srgbClr val="ff0000"/>
              </a:buClr>
              <a:buSzPct val="10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Pokud neměníte dosaženou hodnotu, zůstává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datum dosažené hodnoty</a:t>
            </a:r>
            <a:r>
              <a:rPr b="0" lang="cs-CZ" sz="1400" spc="-1" strike="noStrike">
                <a:solidFill>
                  <a:srgbClr val="ff0000"/>
                </a:solidFill>
                <a:latin typeface="Arial"/>
              </a:rPr>
              <a:t> z té MZ, ve které bylo hodnoty dosaženo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6036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2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4498920" cy="5184720"/>
          </a:xfrm>
          <a:prstGeom prst="rect">
            <a:avLst/>
          </a:prstGeom>
          <a:ln w="0">
            <a:noFill/>
          </a:ln>
        </p:spPr>
      </p:pic>
      <p:sp>
        <p:nvSpPr>
          <p:cNvPr id="117" name="Obdélník 2"/>
          <p:cNvSpPr/>
          <p:nvPr/>
        </p:nvSpPr>
        <p:spPr>
          <a:xfrm>
            <a:off x="108000" y="1989000"/>
            <a:ext cx="44989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Přímá spojnice se šipkou 6"/>
          <p:cNvCxnSpPr/>
          <p:nvPr/>
        </p:nvCxnSpPr>
        <p:spPr>
          <a:xfrm flipH="1">
            <a:off x="2626920" y="2276640"/>
            <a:ext cx="289440" cy="2232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19" name="Obdélník 7"/>
          <p:cNvSpPr/>
          <p:nvPr/>
        </p:nvSpPr>
        <p:spPr>
          <a:xfrm>
            <a:off x="1835280" y="4508640"/>
            <a:ext cx="122400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délník 8"/>
          <p:cNvSpPr/>
          <p:nvPr/>
        </p:nvSpPr>
        <p:spPr>
          <a:xfrm>
            <a:off x="3444840" y="4853160"/>
            <a:ext cx="720720" cy="2314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délník 9"/>
          <p:cNvSpPr/>
          <p:nvPr/>
        </p:nvSpPr>
        <p:spPr>
          <a:xfrm>
            <a:off x="2448000" y="3500280"/>
            <a:ext cx="1116000" cy="2890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Přímá spojnice se šipkou 11"/>
          <p:cNvCxnSpPr/>
          <p:nvPr/>
        </p:nvCxnSpPr>
        <p:spPr>
          <a:xfrm flipH="1" flipV="1">
            <a:off x="3419280" y="3789000"/>
            <a:ext cx="1584720" cy="115272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23" name="Obdélník 12"/>
          <p:cNvSpPr/>
          <p:nvPr/>
        </p:nvSpPr>
        <p:spPr>
          <a:xfrm>
            <a:off x="3348000" y="4505400"/>
            <a:ext cx="1187640" cy="287280"/>
          </a:xfrm>
          <a:prstGeom prst="rect">
            <a:avLst/>
          </a:prstGeom>
          <a:noFill/>
          <a:ln w="25560">
            <a:solidFill>
              <a:srgbClr val="00b0f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ová říze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00400" y="998280"/>
            <a:ext cx="4182840" cy="516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V případě, že příjemce v žádosti o finanční podporu uvedl, že plánuje, či již má vyhlášené výběrové řízení, se tato informace automaticky přenese do MZ na záložku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Výběrová řízení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 za sledované obdob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ro založení nového VŘ použijte tlačítko </a:t>
            </a:r>
            <a:r>
              <a:rPr b="1" lang="cs-CZ" sz="16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U některých druhů VŘ se zpovinní pole a automaticky zatrhne checkbox Vybrá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400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4c7e"/>
                </a:solidFill>
                <a:latin typeface="Arial"/>
              </a:rPr>
              <a:t>Podrobný návod k vyplnění naleznete v Pokynech řídícího orgánu v Benefit7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374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Nové pole </a:t>
            </a:r>
            <a:r>
              <a:rPr b="1" lang="cs-CZ" sz="1500" spc="-1" strike="noStrike">
                <a:solidFill>
                  <a:srgbClr val="0d3673"/>
                </a:solidFill>
                <a:latin typeface="Arial"/>
              </a:rPr>
              <a:t>Skutečná cena VŘ po podpisu smlouvy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. Částka bude z pole</a:t>
            </a:r>
            <a:r>
              <a:rPr b="0" lang="en-US" sz="1500" spc="-1" strike="noStrike">
                <a:solidFill>
                  <a:srgbClr val="0d3673"/>
                </a:solidFill>
                <a:latin typeface="Arial"/>
              </a:rPr>
              <a:t>  </a:t>
            </a:r>
            <a:r>
              <a:rPr b="0" lang="cs-CZ" sz="1500" spc="-1" strike="noStrike">
                <a:solidFill>
                  <a:srgbClr val="0d3673"/>
                </a:solidFill>
                <a:latin typeface="Arial"/>
              </a:rPr>
              <a:t>u dodatku VŘ automaticky doplněna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10" descr=""/>
          <p:cNvPicPr/>
          <p:nvPr/>
        </p:nvPicPr>
        <p:blipFill>
          <a:blip r:embed="rId1"/>
          <a:stretch/>
        </p:blipFill>
        <p:spPr>
          <a:xfrm>
            <a:off x="135000" y="998640"/>
            <a:ext cx="2181240" cy="342720"/>
          </a:xfrm>
          <a:prstGeom prst="rect">
            <a:avLst/>
          </a:prstGeom>
          <a:ln w="0">
            <a:noFill/>
          </a:ln>
        </p:spPr>
      </p:pic>
      <p:sp>
        <p:nvSpPr>
          <p:cNvPr id="127" name="Obdélník 1"/>
          <p:cNvSpPr/>
          <p:nvPr/>
        </p:nvSpPr>
        <p:spPr>
          <a:xfrm>
            <a:off x="135000" y="1052640"/>
            <a:ext cx="720720" cy="171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7" descr=""/>
          <p:cNvPicPr/>
          <p:nvPr/>
        </p:nvPicPr>
        <p:blipFill>
          <a:blip r:embed="rId2"/>
          <a:stretch/>
        </p:blipFill>
        <p:spPr>
          <a:xfrm>
            <a:off x="324000" y="1557360"/>
            <a:ext cx="4608360" cy="4610160"/>
          </a:xfrm>
          <a:prstGeom prst="rect">
            <a:avLst/>
          </a:prstGeom>
          <a:ln w="0">
            <a:noFill/>
          </a:ln>
        </p:spPr>
      </p:pic>
      <p:cxnSp>
        <p:nvCxnSpPr>
          <p:cNvPr id="129" name="Přímá spojnice se šipkou 3"/>
          <p:cNvCxnSpPr/>
          <p:nvPr/>
        </p:nvCxnSpPr>
        <p:spPr>
          <a:xfrm flipH="1">
            <a:off x="4787280" y="5013000"/>
            <a:ext cx="864360" cy="432360"/>
          </a:xfrm>
          <a:prstGeom prst="straightConnector1">
            <a:avLst/>
          </a:prstGeom>
          <a:ln w="9360">
            <a:solidFill>
              <a:srgbClr val="262673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odavatelé k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364000" y="1196640"/>
            <a:ext cx="3600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. </a:t>
            </a:r>
            <a:r>
              <a:rPr b="0" lang="cs-CZ" sz="1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Dodavatelé k VŘ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je třeba vybrat Stát dodavate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Zaktivní se pol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IČ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rovedete validaci IČ a údaje o Názvu dodavatele a HPF dodavatele se načtou z registru ROS, pole je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povinné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říjemce doplní a popíše změnu v procesu vyhlášení nebo realizace VŘ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22720" indent="-522720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máte v ukončeném VŘ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více dodavatelů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je potřeba postupně každého dodavatele založit 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9" descr=""/>
          <p:cNvPicPr/>
          <p:nvPr/>
        </p:nvPicPr>
        <p:blipFill>
          <a:blip r:embed="rId2"/>
          <a:stretch/>
        </p:blipFill>
        <p:spPr>
          <a:xfrm>
            <a:off x="108000" y="851040"/>
            <a:ext cx="5124240" cy="33843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0" descr=""/>
          <p:cNvPicPr/>
          <p:nvPr/>
        </p:nvPicPr>
        <p:blipFill>
          <a:blip r:embed="rId3"/>
          <a:stretch/>
        </p:blipFill>
        <p:spPr>
          <a:xfrm>
            <a:off x="136440" y="4219560"/>
            <a:ext cx="5343480" cy="2343240"/>
          </a:xfrm>
          <a:prstGeom prst="rect">
            <a:avLst/>
          </a:prstGeom>
          <a:ln w="0">
            <a:noFill/>
          </a:ln>
        </p:spPr>
      </p:pic>
      <p:sp>
        <p:nvSpPr>
          <p:cNvPr id="134" name="Obdélník 2"/>
          <p:cNvSpPr/>
          <p:nvPr/>
        </p:nvSpPr>
        <p:spPr>
          <a:xfrm>
            <a:off x="108000" y="3860640"/>
            <a:ext cx="2160360" cy="3747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Obdélník 3"/>
          <p:cNvSpPr/>
          <p:nvPr/>
        </p:nvSpPr>
        <p:spPr>
          <a:xfrm>
            <a:off x="108000" y="4219560"/>
            <a:ext cx="2303280" cy="3618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Přímá spojnice se šipkou 5"/>
          <p:cNvCxnSpPr>
            <a:stCxn id="135" idx="2"/>
          </p:cNvCxnSpPr>
          <p:nvPr/>
        </p:nvCxnSpPr>
        <p:spPr>
          <a:xfrm flipH="1">
            <a:off x="684000" y="4581360"/>
            <a:ext cx="575280" cy="93600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37" name="Obdélník 6"/>
          <p:cNvSpPr/>
          <p:nvPr/>
        </p:nvSpPr>
        <p:spPr>
          <a:xfrm>
            <a:off x="209520" y="5511960"/>
            <a:ext cx="104940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Obdélník 7"/>
          <p:cNvSpPr/>
          <p:nvPr/>
        </p:nvSpPr>
        <p:spPr>
          <a:xfrm>
            <a:off x="108000" y="2637000"/>
            <a:ext cx="62712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9" name="Přímá spojnice se šipkou 9"/>
          <p:cNvCxnSpPr/>
          <p:nvPr/>
        </p:nvCxnSpPr>
        <p:spPr>
          <a:xfrm>
            <a:off x="539280" y="2923920"/>
            <a:ext cx="72360" cy="937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Adresa dodavatele V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475740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00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Pro </a:t>
            </a: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zahraničního dodavatele </a:t>
            </a:r>
            <a:r>
              <a:rPr b="0" lang="cs-CZ" sz="1600" spc="-1" strike="noStrike">
                <a:solidFill>
                  <a:srgbClr val="0d3673"/>
                </a:solidFill>
                <a:latin typeface="Arial"/>
              </a:rPr>
              <a:t>je nutné vyplnit jeho adres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5" descr=""/>
          <p:cNvPicPr/>
          <p:nvPr/>
        </p:nvPicPr>
        <p:blipFill>
          <a:blip r:embed="rId1"/>
          <a:stretch/>
        </p:blipFill>
        <p:spPr>
          <a:xfrm>
            <a:off x="1135080" y="907920"/>
            <a:ext cx="6676920" cy="39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292720" y="981000"/>
            <a:ext cx="35272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 rámci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ukončených a nenaplněných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výběrových řízení je povinné vybrat jednoho nebo více dodavatelů a ke každému z nich uvést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Nasmlouvanou cenu v Kč bez DPH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davatele aktivujete kliknutím na vybranou organizaci myší a následně jej přesunete zleva doprava pomocí </a:t>
            </a:r>
            <a:r>
              <a:rPr b="1" i="1" lang="cs-CZ" sz="2000" spc="-1" strike="noStrike">
                <a:solidFill>
                  <a:srgbClr val="144c7e"/>
                </a:solidFill>
                <a:latin typeface="Arial"/>
              </a:rPr>
              <a:t>šipky 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(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&gt;</a:t>
            </a:r>
            <a:r>
              <a:rPr b="0" i="1" lang="cs-CZ" sz="2000" spc="-1" strike="noStrike">
                <a:solidFill>
                  <a:srgbClr val="144c7e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Picture 14" descr=""/>
          <p:cNvPicPr/>
          <p:nvPr/>
        </p:nvPicPr>
        <p:blipFill>
          <a:blip r:embed="rId1"/>
          <a:stretch/>
        </p:blipFill>
        <p:spPr>
          <a:xfrm>
            <a:off x="316080" y="4508640"/>
            <a:ext cx="4838400" cy="121896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5" descr=""/>
          <p:cNvPicPr/>
          <p:nvPr/>
        </p:nvPicPr>
        <p:blipFill>
          <a:blip r:embed="rId2"/>
          <a:stretch/>
        </p:blipFill>
        <p:spPr>
          <a:xfrm>
            <a:off x="179280" y="1125360"/>
            <a:ext cx="5119920" cy="151164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7" descr=""/>
          <p:cNvPicPr/>
          <p:nvPr/>
        </p:nvPicPr>
        <p:blipFill>
          <a:blip r:embed="rId3"/>
          <a:stretch/>
        </p:blipFill>
        <p:spPr>
          <a:xfrm>
            <a:off x="262080" y="2781360"/>
            <a:ext cx="5246640" cy="1511280"/>
          </a:xfrm>
          <a:prstGeom prst="rect">
            <a:avLst/>
          </a:prstGeom>
          <a:ln w="0">
            <a:noFill/>
          </a:ln>
        </p:spPr>
      </p:pic>
      <p:sp>
        <p:nvSpPr>
          <p:cNvPr id="148" name="Obdélník 3"/>
          <p:cNvSpPr/>
          <p:nvPr/>
        </p:nvSpPr>
        <p:spPr>
          <a:xfrm>
            <a:off x="262080" y="3645000"/>
            <a:ext cx="262224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Obdélník 4"/>
          <p:cNvSpPr/>
          <p:nvPr/>
        </p:nvSpPr>
        <p:spPr>
          <a:xfrm>
            <a:off x="2738520" y="3284640"/>
            <a:ext cx="24912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0" name="Přímá spojnice se šipkou 6"/>
          <p:cNvCxnSpPr/>
          <p:nvPr/>
        </p:nvCxnSpPr>
        <p:spPr>
          <a:xfrm>
            <a:off x="2987640" y="3537000"/>
            <a:ext cx="432720" cy="133272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1" name="Obdélník 7"/>
          <p:cNvSpPr/>
          <p:nvPr/>
        </p:nvSpPr>
        <p:spPr>
          <a:xfrm>
            <a:off x="2738520" y="4869000"/>
            <a:ext cx="2415960" cy="2491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kladní informace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 Benefit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10920" y="1304640"/>
            <a:ext cx="806436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Benefit7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- webová aplikace sloužící žadatelům pro předkládání žádostí o finanční podporu z OP LZZ, předkládání monitorovacích zpráv (dále jen „MZ“) a zjednodušených žádostí o platbu (dále jen „ZjŽoP“ nebo „ŽoP“) příjemci podp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Kde formulář pro vyplnění monitorovací zprávy a žádosti o platbu z OP LZZ naleznet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u-zadost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nebo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eu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řípadě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technických problémů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obracejte na helpovou adresu řídícího orgánu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benefit7@mpsv.cz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do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předmětu e-mailu uvádějte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registrační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 </a:t>
            </a: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číslo projektu </a:t>
            </a:r>
            <a:r>
              <a:rPr b="0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(např. 94.00021)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9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etaily k VŘ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858920" y="836280"/>
            <a:ext cx="4033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17320" indent="-517320">
              <a:spcBef>
                <a:spcPts val="524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Pokud jste na záložce Výběrová řízení zatrhli checkbox </a:t>
            </a:r>
            <a:r>
              <a:rPr b="1" lang="cs-CZ" sz="2100" spc="-1" strike="noStrike">
                <a:solidFill>
                  <a:srgbClr val="144c7e"/>
                </a:solidFill>
                <a:latin typeface="Arial"/>
              </a:rPr>
              <a:t>Byl podepsán dodatek s dodavatelem?, </a:t>
            </a:r>
            <a:r>
              <a:rPr b="0" lang="cs-CZ" sz="2100" spc="-1" strike="noStrike">
                <a:solidFill>
                  <a:srgbClr val="144c7e"/>
                </a:solidFill>
                <a:latin typeface="Arial"/>
              </a:rPr>
              <a:t>musíte na záložce Detaily k VŘ vyplnit následující informace: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atum podpisu dodatku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Skutečná cena VŘ po podpisu dodatku v Kč bez DPH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144c7e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Popis změn řešených dodavatelem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spcBef>
                <a:spcPts val="476"/>
              </a:spcBef>
              <a:buClr>
                <a:srgbClr val="ff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ff0000"/>
                </a:solidFill>
                <a:latin typeface="Arial"/>
              </a:rPr>
              <a:t>Skutečná cena VŘ se týká celého VŘ, nikoliv jen jednoho dodavate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0">
              <a:spcBef>
                <a:spcPts val="476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1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10" descr=""/>
          <p:cNvPicPr/>
          <p:nvPr/>
        </p:nvPicPr>
        <p:blipFill>
          <a:blip r:embed="rId1"/>
          <a:stretch/>
        </p:blipFill>
        <p:spPr>
          <a:xfrm>
            <a:off x="539640" y="1508040"/>
            <a:ext cx="4608720" cy="2667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1" descr=""/>
          <p:cNvPicPr/>
          <p:nvPr/>
        </p:nvPicPr>
        <p:blipFill>
          <a:blip r:embed="rId2"/>
          <a:stretch/>
        </p:blipFill>
        <p:spPr>
          <a:xfrm>
            <a:off x="246240" y="1916280"/>
            <a:ext cx="5046480" cy="3490920"/>
          </a:xfrm>
          <a:prstGeom prst="rect">
            <a:avLst/>
          </a:prstGeom>
          <a:ln w="0">
            <a:noFill/>
          </a:ln>
        </p:spPr>
      </p:pic>
      <p:sp>
        <p:nvSpPr>
          <p:cNvPr id="157" name="Obdélník 2"/>
          <p:cNvSpPr/>
          <p:nvPr/>
        </p:nvSpPr>
        <p:spPr>
          <a:xfrm>
            <a:off x="246240" y="2205000"/>
            <a:ext cx="50464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Přímá spojnice se šipkou 5"/>
          <p:cNvCxnSpPr/>
          <p:nvPr/>
        </p:nvCxnSpPr>
        <p:spPr>
          <a:xfrm flipH="1">
            <a:off x="1834920" y="2420640"/>
            <a:ext cx="505440" cy="187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59" name="Obdélník 6"/>
          <p:cNvSpPr/>
          <p:nvPr/>
        </p:nvSpPr>
        <p:spPr>
          <a:xfrm>
            <a:off x="1547640" y="4292640"/>
            <a:ext cx="54000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eřejná podpo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00720" y="765000"/>
            <a:ext cx="446400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Pokud VP/de minimis v projektu nemáte, NEzakládejte nový záznam s kódem 01 „Není VP“, tzn. záložku vůbec nevyplňujte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záložce Veřejná podpora příjemce vyplní poskytnutou i vyčerpanou veřejnou podporu  v průběhu posledního monitorovacího období, a to v rozdělení na jednotlivé rok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U podpory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de minimis 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se v MZ vyplní poskytnutá podpora, vyčerpaná podpora se </a:t>
            </a:r>
            <a:r>
              <a:rPr b="1" lang="cs-CZ" sz="1800" spc="-1" strike="noStrike">
                <a:solidFill>
                  <a:srgbClr val="161645"/>
                </a:solidFill>
                <a:latin typeface="Arial"/>
              </a:rPr>
              <a:t>neuvádí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Jestliže je příjemcem VP/podpory de minimis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jiný (třetí) subjekt než příjemce/partner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založte jej nejprve v seznamu uvedeném na obrázku.     </a:t>
            </a:r>
            <a:r>
              <a:rPr b="1" lang="cs-CZ" sz="1800" spc="-1" strike="noStrike" u="sng">
                <a:solidFill>
                  <a:srgbClr val="144c7e"/>
                </a:solidFill>
                <a:uFillTx/>
                <a:latin typeface="Arial"/>
              </a:rPr>
              <a:t>V žádném případě, nezakládejte znovu organizaci příjemce, či partnerů!!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Pozor neukládat prázdný řádek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476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Lze požádat o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ypnutí validace </a:t>
            </a:r>
            <a:r>
              <a:rPr b="0" lang="cs-CZ" sz="1800" spc="-1" strike="noStrike">
                <a:solidFill>
                  <a:srgbClr val="0d3673"/>
                </a:solidFill>
                <a:latin typeface="Arial"/>
              </a:rPr>
              <a:t>z důvodu zániku/likvidace  podpořené </a:t>
            </a:r>
            <a:r>
              <a:rPr b="0" lang="cs-CZ" sz="1900" spc="-1" strike="noStrike">
                <a:solidFill>
                  <a:srgbClr val="0d3673"/>
                </a:solidFill>
                <a:latin typeface="Arial"/>
              </a:rPr>
              <a:t>organizac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8" descr=""/>
          <p:cNvPicPr/>
          <p:nvPr/>
        </p:nvPicPr>
        <p:blipFill>
          <a:blip r:embed="rId1"/>
          <a:stretch/>
        </p:blipFill>
        <p:spPr>
          <a:xfrm>
            <a:off x="179280" y="879480"/>
            <a:ext cx="4356360" cy="31021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2"/>
          <a:stretch/>
        </p:blipFill>
        <p:spPr>
          <a:xfrm>
            <a:off x="179280" y="3948120"/>
            <a:ext cx="4343400" cy="2144880"/>
          </a:xfrm>
          <a:prstGeom prst="rect">
            <a:avLst/>
          </a:prstGeom>
          <a:ln w="0">
            <a:noFill/>
          </a:ln>
        </p:spPr>
      </p:pic>
      <p:cxnSp>
        <p:nvCxnSpPr>
          <p:cNvPr id="164" name="Přímá spojnice se šipkou 3"/>
          <p:cNvCxnSpPr/>
          <p:nvPr/>
        </p:nvCxnSpPr>
        <p:spPr>
          <a:xfrm flipH="1">
            <a:off x="909720" y="3947760"/>
            <a:ext cx="3961080" cy="10659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65" name="Obdélník 4"/>
          <p:cNvSpPr/>
          <p:nvPr/>
        </p:nvSpPr>
        <p:spPr>
          <a:xfrm>
            <a:off x="250920" y="4941720"/>
            <a:ext cx="72072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ublici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932000" y="1412640"/>
            <a:ext cx="388764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Zde příjemce nalezne načtené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které uvedl v žádosti o finanční podporu.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Dle požadavku Řídícího orgánu OP LZZ nelze na této záložce ani přidávat, ani mazat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Nástroje publicity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, načtené z IS Monit7+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 povinném poli </a:t>
            </a:r>
            <a:r>
              <a:rPr b="1" lang="cs-CZ" sz="1900" spc="-1" strike="noStrike">
                <a:solidFill>
                  <a:srgbClr val="144c7e"/>
                </a:solidFill>
                <a:latin typeface="Arial"/>
              </a:rPr>
              <a:t>Popis</a:t>
            </a: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 příjemce uvede, jak plnil publicitu projektu v rámci monitorovacího období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476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4c7e"/>
                </a:solidFill>
                <a:latin typeface="Arial"/>
              </a:rPr>
              <a:t>Vzorek propagačních aktivit přiloží příjemce k MZ (např. leták, inzerát, apod.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1"/>
          <a:stretch/>
        </p:blipFill>
        <p:spPr>
          <a:xfrm>
            <a:off x="108000" y="1773360"/>
            <a:ext cx="4825800" cy="2447640"/>
          </a:xfrm>
          <a:prstGeom prst="rect">
            <a:avLst/>
          </a:prstGeom>
          <a:ln w="0">
            <a:noFill/>
          </a:ln>
        </p:spPr>
      </p:pic>
      <p:sp>
        <p:nvSpPr>
          <p:cNvPr id="169" name="Obdélník 2"/>
          <p:cNvSpPr/>
          <p:nvPr/>
        </p:nvSpPr>
        <p:spPr>
          <a:xfrm>
            <a:off x="108000" y="2349360"/>
            <a:ext cx="4751280" cy="287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ealizační tý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0" y="1268280"/>
            <a:ext cx="4392720" cy="478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upravuje </a:t>
            </a:r>
            <a:r>
              <a:rPr b="1" lang="cs-CZ" sz="2000" spc="-1" strike="noStrike">
                <a:solidFill>
                  <a:srgbClr val="144c7e"/>
                </a:solidFill>
                <a:latin typeface="Arial"/>
              </a:rPr>
              <a:t>pouze v případě, že se jedná o nepodstatnou změnu obsazení realizačního týmu.</a:t>
            </a: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říjemce provede nepodstatnou změnu a záznam uloží. Údaje se poté zobrazí v souhrnné tabulc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Každou další (novou) osobu do realizačního týmu lze zadat přes tlačítko Nový záznam, kde se příjemci otevře prázdný formulář. V případě nesprávného postupu se data navzájem přepisuj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Do rozpočtu projektu se změna obsazení realizačního týmu zadává ručně. Nelze načíst Realizační tým jako v žádos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7" descr=""/>
          <p:cNvPicPr/>
          <p:nvPr/>
        </p:nvPicPr>
        <p:blipFill>
          <a:blip r:embed="rId1"/>
          <a:stretch/>
        </p:blipFill>
        <p:spPr>
          <a:xfrm>
            <a:off x="360360" y="1268280"/>
            <a:ext cx="4178160" cy="1152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8" descr=""/>
          <p:cNvPicPr/>
          <p:nvPr/>
        </p:nvPicPr>
        <p:blipFill>
          <a:blip r:embed="rId2"/>
          <a:stretch/>
        </p:blipFill>
        <p:spPr>
          <a:xfrm>
            <a:off x="372960" y="2852640"/>
            <a:ext cx="4124520" cy="2160720"/>
          </a:xfrm>
          <a:prstGeom prst="rect">
            <a:avLst/>
          </a:prstGeom>
          <a:ln w="0">
            <a:noFill/>
          </a:ln>
        </p:spPr>
      </p:pic>
      <p:sp>
        <p:nvSpPr>
          <p:cNvPr id="174" name="Obdélník 2"/>
          <p:cNvSpPr/>
          <p:nvPr/>
        </p:nvSpPr>
        <p:spPr>
          <a:xfrm>
            <a:off x="360360" y="2133720"/>
            <a:ext cx="53964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42560" y="2707920"/>
            <a:ext cx="4213080" cy="40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enačetl rozpočet z Monit7+ (tlačítko 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            ), záložka zůstane prázdná a příjemce musí rozpočet načíst a to i v případě, že nechce rozpočet vůbec editovat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Pokud příjemce na záložce Informace o projektu a MZ zatrhl checkbox                       , záložka se zaktivní a rozpočet  </a:t>
            </a:r>
            <a:r>
              <a:rPr b="1" lang="cs-CZ" sz="2000" spc="-1" strike="noStrike" u="sng">
                <a:solidFill>
                  <a:srgbClr val="144c7e"/>
                </a:solidFill>
                <a:uFillTx/>
                <a:latin typeface="Arial"/>
              </a:rPr>
              <a:t>lze editovat</a:t>
            </a:r>
            <a:r>
              <a:rPr b="0" lang="cs-CZ" sz="2000" spc="-1" strike="noStrike">
                <a:solidFill>
                  <a:srgbClr val="144c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Picture 5" descr=""/>
          <p:cNvPicPr/>
          <p:nvPr/>
        </p:nvPicPr>
        <p:blipFill>
          <a:blip r:embed="rId1"/>
          <a:stretch/>
        </p:blipFill>
        <p:spPr>
          <a:xfrm>
            <a:off x="1692360" y="5661000"/>
            <a:ext cx="1550880" cy="1969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8" descr=""/>
          <p:cNvPicPr/>
          <p:nvPr/>
        </p:nvPicPr>
        <p:blipFill>
          <a:blip r:embed="rId2"/>
          <a:stretch/>
        </p:blipFill>
        <p:spPr>
          <a:xfrm>
            <a:off x="4427640" y="917640"/>
            <a:ext cx="4537080" cy="510840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9" descr=""/>
          <p:cNvPicPr/>
          <p:nvPr/>
        </p:nvPicPr>
        <p:blipFill>
          <a:blip r:embed="rId3"/>
          <a:stretch/>
        </p:blipFill>
        <p:spPr>
          <a:xfrm>
            <a:off x="407880" y="3471840"/>
            <a:ext cx="1596960" cy="190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" descr=""/>
          <p:cNvPicPr/>
          <p:nvPr/>
        </p:nvPicPr>
        <p:blipFill>
          <a:blip r:embed="rId4"/>
          <a:stretch/>
        </p:blipFill>
        <p:spPr>
          <a:xfrm>
            <a:off x="442800" y="1268280"/>
            <a:ext cx="3961080" cy="141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Rozpočet projekt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0" y="1196640"/>
            <a:ext cx="4248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ro editaci  jsou 2 možnosti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Editovat vše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, pak opravy provádíte přímo v tabulce rozpočtu a editaci ukončíte zmáčknutím </a:t>
            </a:r>
            <a:r>
              <a:rPr b="1" lang="en-US" sz="1800" spc="-1" strike="noStrike">
                <a:solidFill>
                  <a:srgbClr val="144c7e"/>
                </a:solidFill>
                <a:latin typeface="Arial"/>
              </a:rPr>
              <a:t>Ulo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</a:rPr>
              <a:t>žit vš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ebo kliknutím  na příslušný řádek v tabulce rozpočtu a dole pod tabulkou se zobrazí detail, který lze editov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Kliknutím na podskupinu a pomocí tlačítka Nový záznam, lze přidávat nové řádky, Postup vyplňování shodný s bodem 2. Nový řádek se očísluje automatic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Řádky načtené z Monit7+ nelze mazat, pouze přepisovat!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11" descr=""/>
          <p:cNvPicPr/>
          <p:nvPr/>
        </p:nvPicPr>
        <p:blipFill>
          <a:blip r:embed="rId1"/>
          <a:stretch/>
        </p:blipFill>
        <p:spPr>
          <a:xfrm>
            <a:off x="20520" y="1413000"/>
            <a:ext cx="4480200" cy="24476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2" descr=""/>
          <p:cNvPicPr/>
          <p:nvPr/>
        </p:nvPicPr>
        <p:blipFill>
          <a:blip r:embed="rId2"/>
          <a:stretch/>
        </p:blipFill>
        <p:spPr>
          <a:xfrm>
            <a:off x="28440" y="3830760"/>
            <a:ext cx="4470480" cy="1830240"/>
          </a:xfrm>
          <a:prstGeom prst="rect">
            <a:avLst/>
          </a:prstGeom>
          <a:ln w="0">
            <a:noFill/>
          </a:ln>
        </p:spPr>
      </p:pic>
      <p:sp>
        <p:nvSpPr>
          <p:cNvPr id="185" name="Obdélník 1"/>
          <p:cNvSpPr/>
          <p:nvPr/>
        </p:nvSpPr>
        <p:spPr>
          <a:xfrm>
            <a:off x="1979640" y="3213000"/>
            <a:ext cx="720720" cy="21600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6" name="Přímá spojnice se šipkou 7"/>
          <p:cNvCxnSpPr/>
          <p:nvPr/>
        </p:nvCxnSpPr>
        <p:spPr>
          <a:xfrm flipH="1">
            <a:off x="2259720" y="3428640"/>
            <a:ext cx="80280" cy="1872360"/>
          </a:xfrm>
          <a:prstGeom prst="straightConnector1">
            <a:avLst/>
          </a:prstGeom>
          <a:ln w="1908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187" name="Obdélník 8"/>
          <p:cNvSpPr/>
          <p:nvPr/>
        </p:nvSpPr>
        <p:spPr>
          <a:xfrm>
            <a:off x="1692360" y="5373720"/>
            <a:ext cx="1150920" cy="28728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Obdélník 9"/>
          <p:cNvSpPr/>
          <p:nvPr/>
        </p:nvSpPr>
        <p:spPr>
          <a:xfrm>
            <a:off x="28440" y="3429000"/>
            <a:ext cx="5828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3200" spc="-1" strike="noStrike">
                <a:solidFill>
                  <a:srgbClr val="d1131c"/>
                </a:solidFill>
                <a:latin typeface="Arial"/>
              </a:rPr>
              <a:t>Kontrola: Realizační tým &amp; Rozpoč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716360" y="1196640"/>
            <a:ext cx="417672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Na obou uvedených záložkách musí sedět názvy pozic, jednotky, úvazky, celkové hodnot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Dále musí sedět i mezery v názvech v rozpočtu projektu a RT. Řádně mezery zkontrolujt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kud budete v rámci realizačního týmu (RT) rušit osoby, tak náklady načtené z Monit7+ není možné v Rozpočtu projektu maz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 algn="just">
              <a:lnSpc>
                <a:spcPct val="80000"/>
              </a:lnSpc>
              <a:spcBef>
                <a:spcPts val="451"/>
              </a:spcBef>
              <a:buClr>
                <a:srgbClr val="144c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</a:rPr>
              <a:t>Podrobný návod opět naleznete v Pokynech řídícího orgán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800" spc="-1" strike="noStrike">
                <a:solidFill>
                  <a:srgbClr val="144c7e"/>
                </a:solidFill>
                <a:latin typeface="Arial"/>
              </a:rPr>
              <a:t>	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395280" y="4292640"/>
            <a:ext cx="8280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Postup je v tomto případě následující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Zrušené osoby musí zůstat jak v rozpočtu, tak v Realizačním týmu. Do názvu rušené osoby uveďte „ZRUŠENO“, opět na obou místech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 rozpočtu i v RT vynulujte částky, úvazky, prům. náklad zrušené osoby (+ vyplňte povinná pole v RT u zrušené osoby, pokud je nemáte). V rozpočtu je potřeba u zrušených osob </a:t>
            </a:r>
            <a:r>
              <a:rPr b="1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vymazat i režim podpory</a:t>
            </a:r>
            <a:r>
              <a:rPr b="0" lang="cs-CZ" sz="1800" spc="-1" strike="noStrike">
                <a:solidFill>
                  <a:srgbClr val="144c7e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9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4451400" cy="2665440"/>
          </a:xfrm>
          <a:prstGeom prst="rect">
            <a:avLst/>
          </a:prstGeom>
          <a:ln w="0">
            <a:noFill/>
          </a:ln>
        </p:spPr>
      </p:pic>
      <p:sp>
        <p:nvSpPr>
          <p:cNvPr id="193" name="Obdélník 1"/>
          <p:cNvSpPr/>
          <p:nvPr/>
        </p:nvSpPr>
        <p:spPr>
          <a:xfrm>
            <a:off x="250920" y="1628640"/>
            <a:ext cx="936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94" name="Přímá spojnice se šipkou 3"/>
          <p:cNvCxnSpPr>
            <a:stCxn id="193" idx="3"/>
          </p:cNvCxnSpPr>
          <p:nvPr/>
        </p:nvCxnSpPr>
        <p:spPr>
          <a:xfrm>
            <a:off x="1186920" y="1736280"/>
            <a:ext cx="577080" cy="1693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195" name="Obdélník 4"/>
          <p:cNvSpPr/>
          <p:nvPr/>
        </p:nvSpPr>
        <p:spPr>
          <a:xfrm>
            <a:off x="1763640" y="3357720"/>
            <a:ext cx="20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droje financ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211280" y="1915920"/>
            <a:ext cx="4608360" cy="31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íra spolufinancování z prostředků EU je v programovém období 2007 – 2013 vztahována pouze ke způsobilým veřejným výdajům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šechna pole se generují automaticky po zmáčknutí tlačítk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ad financ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Rozpad financí se dá provést pouze v případě, že je vyplněn a načten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Rozpočet projektu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bdélník 1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8" descr=""/>
          <p:cNvPicPr/>
          <p:nvPr/>
        </p:nvPicPr>
        <p:blipFill>
          <a:blip r:embed="rId1"/>
          <a:stretch/>
        </p:blipFill>
        <p:spPr>
          <a:xfrm>
            <a:off x="179280" y="1341360"/>
            <a:ext cx="4075200" cy="4248360"/>
          </a:xfrm>
          <a:prstGeom prst="rect">
            <a:avLst/>
          </a:prstGeom>
          <a:ln w="0">
            <a:noFill/>
          </a:ln>
        </p:spPr>
      </p:pic>
      <p:sp>
        <p:nvSpPr>
          <p:cNvPr id="201" name="Obdélník 2"/>
          <p:cNvSpPr/>
          <p:nvPr/>
        </p:nvSpPr>
        <p:spPr>
          <a:xfrm>
            <a:off x="2340000" y="2492280"/>
            <a:ext cx="1079640" cy="2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pl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643280" y="765000"/>
            <a:ext cx="4321440" cy="532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Je potřeba vyplnit pole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(sloupec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- celkem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(sloupec 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– investičn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vyúčtovaných prostředků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a neinvestičních výdajů v dalších ŽoP (přímé + nepřímé, veřejné + soukromé). Vyplňte aktuální 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všechny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í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 řádk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Odhad z toho investiční prostředky celkem v Kč -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odhadovaná výše vyúčtovaných způsobilých investičních výdajů v dalších ŽoP (přímé, veřejné + soukromé). Vyplňte aktuální a  </a:t>
            </a:r>
            <a:r>
              <a:rPr b="0" lang="cs-CZ" sz="1400" spc="-1" strike="noStrike" u="sng">
                <a:solidFill>
                  <a:srgbClr val="143f7e"/>
                </a:solidFill>
                <a:uFillTx/>
                <a:latin typeface="Arial"/>
              </a:rPr>
              <a:t>následující 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řádky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143f7e"/>
                </a:solidFill>
                <a:latin typeface="Arial"/>
              </a:rPr>
              <a:t>Pozn.: Jedná se o část částky, kterou jste již předtím případně zahrnuli i do sloupce Odhad – celkem.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34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V případě, že částky nejsou v pořádku, obraťte se na poskytovatele podpory, aby plán opravil. Poté aktualizovaný plán načtete do MZ pomocí tlačítka </a:t>
            </a:r>
            <a:r>
              <a:rPr b="1" lang="cs-CZ" sz="1400" spc="-1" strike="noStrike">
                <a:solidFill>
                  <a:srgbClr val="143f7e"/>
                </a:solidFill>
                <a:latin typeface="Arial"/>
              </a:rPr>
              <a:t>Aktualizovat finanční plán</a:t>
            </a: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12" descr=""/>
          <p:cNvPicPr/>
          <p:nvPr/>
        </p:nvPicPr>
        <p:blipFill>
          <a:blip r:embed="rId1"/>
          <a:stretch/>
        </p:blipFill>
        <p:spPr>
          <a:xfrm>
            <a:off x="250920" y="981000"/>
            <a:ext cx="4394160" cy="3456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14" descr=""/>
          <p:cNvPicPr/>
          <p:nvPr/>
        </p:nvPicPr>
        <p:blipFill>
          <a:blip r:embed="rId2"/>
          <a:stretch/>
        </p:blipFill>
        <p:spPr>
          <a:xfrm>
            <a:off x="250920" y="4581360"/>
            <a:ext cx="439416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Obdélník 6"/>
          <p:cNvSpPr/>
          <p:nvPr/>
        </p:nvSpPr>
        <p:spPr>
          <a:xfrm>
            <a:off x="250920" y="1413000"/>
            <a:ext cx="43941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7" name="Přímá spojnice se šipkou 8"/>
          <p:cNvCxnSpPr/>
          <p:nvPr/>
        </p:nvCxnSpPr>
        <p:spPr>
          <a:xfrm flipH="1">
            <a:off x="1115280" y="1628280"/>
            <a:ext cx="648360" cy="17298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08" name="Obdélník 9"/>
          <p:cNvSpPr/>
          <p:nvPr/>
        </p:nvSpPr>
        <p:spPr>
          <a:xfrm>
            <a:off x="250920" y="3141720"/>
            <a:ext cx="1189080" cy="9349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bdélník 11"/>
          <p:cNvSpPr/>
          <p:nvPr/>
        </p:nvSpPr>
        <p:spPr>
          <a:xfrm>
            <a:off x="250920" y="4869000"/>
            <a:ext cx="4394160" cy="21564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ioritní tém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392360" y="980640"/>
            <a:ext cx="450036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Částka ze zdrojů financování za prioritní téma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– povinné pole, do kterého se vyplňuje částka ze zál. Zdroje financování, z 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íspěvek ze strukturálních fondů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vinné pole, do kterého příjemce vyplní vyčerpanou částku za prioritní téma za sledované období (tj. 85% ze ZjŽoP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Skutečnost výdajů za uplynulé období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– pole se automaticky vyplní částkou, kterou příjemce uvedl ve stejnojmenném poli na zál. Informace o projektu a MZ. Z tohoto pole příjemce vypočte 85% (příp. 95%) a částku doplní do 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Aktuální stav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l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Název prioritního tématu, Číslo prioritního tématu a Stav před podáním monitorovací zprávy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se naplní automaticky z IS Monit7+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 přehledové tabulce příjemce nalezne prioritní témata (vždy minimálně jedno), ke kterým se zavázal v žádosti o finanční podpor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8" descr=""/>
          <p:cNvPicPr/>
          <p:nvPr/>
        </p:nvPicPr>
        <p:blipFill>
          <a:blip r:embed="rId1"/>
          <a:stretch/>
        </p:blipFill>
        <p:spPr>
          <a:xfrm>
            <a:off x="176040" y="1341360"/>
            <a:ext cx="4251600" cy="2882880"/>
          </a:xfrm>
          <a:prstGeom prst="rect">
            <a:avLst/>
          </a:prstGeom>
          <a:ln w="0">
            <a:noFill/>
          </a:ln>
        </p:spPr>
      </p:pic>
      <p:sp>
        <p:nvSpPr>
          <p:cNvPr id="213" name="Obdélník 2"/>
          <p:cNvSpPr/>
          <p:nvPr/>
        </p:nvSpPr>
        <p:spPr>
          <a:xfrm>
            <a:off x="2050920" y="3213000"/>
            <a:ext cx="1584360" cy="360360"/>
          </a:xfrm>
          <a:prstGeom prst="rect">
            <a:avLst/>
          </a:prstGeom>
          <a:noFill/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4" name="Přímá spojnice se šipkou 4"/>
          <p:cNvCxnSpPr/>
          <p:nvPr/>
        </p:nvCxnSpPr>
        <p:spPr>
          <a:xfrm flipH="1">
            <a:off x="3634920" y="1484280"/>
            <a:ext cx="1153440" cy="1729440"/>
          </a:xfrm>
          <a:prstGeom prst="straightConnector1">
            <a:avLst/>
          </a:prstGeom>
          <a:ln w="9360">
            <a:solidFill>
              <a:srgbClr val="92d050"/>
            </a:solidFill>
            <a:miter/>
            <a:tailEnd len="med" type="arrow" w="med"/>
          </a:ln>
        </p:spPr>
      </p:cxnSp>
      <p:sp>
        <p:nvSpPr>
          <p:cNvPr id="215" name="Obdélník 5"/>
          <p:cNvSpPr/>
          <p:nvPr/>
        </p:nvSpPr>
        <p:spPr>
          <a:xfrm>
            <a:off x="2050920" y="3573360"/>
            <a:ext cx="1584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6" name="Přímá spojnice se šipkou 7"/>
          <p:cNvCxnSpPr>
            <a:endCxn id="215" idx="3"/>
          </p:cNvCxnSpPr>
          <p:nvPr/>
        </p:nvCxnSpPr>
        <p:spPr>
          <a:xfrm flipH="1">
            <a:off x="3634920" y="2205000"/>
            <a:ext cx="1153440" cy="154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ůležité informace pro příjem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196640"/>
            <a:ext cx="82296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Odstávky aplikac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i mimořádné odstávky aplikace Benefit7 naleznete na internetových stránkách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esfcr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odkaz na V</a:t>
            </a:r>
            <a:r>
              <a:rPr b="0" i="1" lang="cs-CZ" sz="2000" spc="-1" strike="noStrike">
                <a:solidFill>
                  <a:srgbClr val="143f7e"/>
                </a:solidFill>
                <a:latin typeface="Arial"/>
              </a:rPr>
              <a:t>ýzvy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a rovněž na titulní straně aplikace Benefit7 </a:t>
            </a:r>
            <a:r>
              <a:rPr b="0" lang="cs-CZ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u-zadost.cz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lánované odstávky jsou vždy 1. pracovní den v měsíci. V případě, že tento den připadne na pátek je odstávka a instalace nové verze Benefitu7 provedena až v ponděl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cs-CZ" sz="2000" spc="-1" strike="noStrike" u="sng">
                <a:solidFill>
                  <a:srgbClr val="ff0000"/>
                </a:solidFill>
                <a:uFillTx/>
                <a:latin typeface="Arial"/>
              </a:rPr>
              <a:t>Nenechávejte si proto finalizaci a odevzdání MZ a ZjŽoP na poslední chvíli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 u="sng">
                <a:solidFill>
                  <a:srgbClr val="143f7e"/>
                </a:solidFill>
                <a:uFillTx/>
                <a:latin typeface="Arial"/>
              </a:rPr>
              <a:t>Důležité dokumenty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-1728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Pokyny pro vyplnění monitorovacích zpráv o realizaci projektu OP LZZ a jejich příloh (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D10), revize 1.7 platná od 1.11. 20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28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5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Harmonogram realiz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787640" y="1197000"/>
            <a:ext cx="410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Data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Harmonogram realizace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jsou aktivní v případě, že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zatrhl checkbox                         . Pokud ne                                , záložka zůstane neaktivní, tzn. bez možnosti editace harmonogramu K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kud příjemce na záložce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tento checkbox zatrhl, záložka se zaktivní a lze ji editovat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ovou klíčovou aktivitu zadat nelz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6" descr=""/>
          <p:cNvPicPr/>
          <p:nvPr/>
        </p:nvPicPr>
        <p:blipFill>
          <a:blip r:embed="rId1"/>
          <a:stretch/>
        </p:blipFill>
        <p:spPr>
          <a:xfrm>
            <a:off x="7093080" y="2387520"/>
            <a:ext cx="1647720" cy="19044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7" descr=""/>
          <p:cNvPicPr/>
          <p:nvPr/>
        </p:nvPicPr>
        <p:blipFill>
          <a:blip r:embed="rId2"/>
          <a:stretch/>
        </p:blipFill>
        <p:spPr>
          <a:xfrm>
            <a:off x="6515280" y="2685960"/>
            <a:ext cx="1714320" cy="162000"/>
          </a:xfrm>
          <a:prstGeom prst="rect">
            <a:avLst/>
          </a:prstGeom>
          <a:ln w="0">
            <a:noFill/>
          </a:ln>
        </p:spPr>
      </p:pic>
      <p:pic>
        <p:nvPicPr>
          <p:cNvPr id="221" name="Picture 12" descr=""/>
          <p:cNvPicPr/>
          <p:nvPr/>
        </p:nvPicPr>
        <p:blipFill>
          <a:blip r:embed="rId3"/>
          <a:stretch/>
        </p:blipFill>
        <p:spPr>
          <a:xfrm>
            <a:off x="266760" y="1119240"/>
            <a:ext cx="4854600" cy="2670120"/>
          </a:xfrm>
          <a:prstGeom prst="rect">
            <a:avLst/>
          </a:prstGeom>
          <a:ln w="0">
            <a:noFill/>
          </a:ln>
        </p:spPr>
      </p:pic>
      <p:sp>
        <p:nvSpPr>
          <p:cNvPr id="222" name="Line 10"/>
          <p:cNvSpPr/>
          <p:nvPr/>
        </p:nvSpPr>
        <p:spPr>
          <a:xfrm flipH="1" flipV="1">
            <a:off x="4752720" y="2666520"/>
            <a:ext cx="847800" cy="352440"/>
          </a:xfrm>
          <a:prstGeom prst="line">
            <a:avLst/>
          </a:prstGeom>
          <a:ln w="15840">
            <a:solidFill>
              <a:srgbClr val="99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Text Box 8"/>
          <p:cNvSpPr/>
          <p:nvPr/>
        </p:nvSpPr>
        <p:spPr>
          <a:xfrm>
            <a:off x="2484360" y="2573280"/>
            <a:ext cx="192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99cc00"/>
                </a:solidFill>
                <a:latin typeface="Arial"/>
              </a:rPr>
              <a:t>NE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3" descr=""/>
          <p:cNvPicPr/>
          <p:nvPr/>
        </p:nvPicPr>
        <p:blipFill>
          <a:blip r:embed="rId4"/>
          <a:stretch/>
        </p:blipFill>
        <p:spPr>
          <a:xfrm>
            <a:off x="266760" y="3645000"/>
            <a:ext cx="4854600" cy="2663640"/>
          </a:xfrm>
          <a:prstGeom prst="rect">
            <a:avLst/>
          </a:prstGeom>
          <a:ln w="0">
            <a:noFill/>
          </a:ln>
        </p:spPr>
      </p:pic>
      <p:sp>
        <p:nvSpPr>
          <p:cNvPr id="225" name="Text Box 9"/>
          <p:cNvSpPr/>
          <p:nvPr/>
        </p:nvSpPr>
        <p:spPr>
          <a:xfrm>
            <a:off x="3276720" y="513540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99"/>
                </a:solidFill>
                <a:latin typeface="Arial"/>
              </a:rPr>
              <a:t>AKTIV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"/>
          <p:cNvSpPr/>
          <p:nvPr/>
        </p:nvSpPr>
        <p:spPr>
          <a:xfrm flipH="1">
            <a:off x="4648320" y="4638600"/>
            <a:ext cx="952560" cy="496800"/>
          </a:xfrm>
          <a:prstGeom prst="line">
            <a:avLst/>
          </a:prstGeom>
          <a:ln w="15840">
            <a:solidFill>
              <a:srgbClr val="ff99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924360" y="941040"/>
            <a:ext cx="4875120" cy="500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Všechny povinné přílohy jsou uvedeny v kapitole 9 PŘÍLOHY MONITOROVACÍ ZPRÁVY v příručce D10. Seznam těchto příloh naleznete v souhrnné tabulce, přímo na záložc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řílohy monitorovací zprávy </a:t>
            </a:r>
            <a:r>
              <a:rPr b="1" lang="cs-CZ" sz="1700" spc="-1" strike="noStrike" u="sng">
                <a:solidFill>
                  <a:srgbClr val="143f7e"/>
                </a:solidFill>
                <a:uFillTx/>
                <a:latin typeface="Arial"/>
              </a:rPr>
              <a:t>není potřeba skenovat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s výjimkou příloh, u kterých je nezbytnou náležitostí podpis (příloha č. 1 Podpisové vzory, a hlavně prezenční listiny)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Povinné přílohy, které nemají závazný vzor v elektronické podobě (kopie účetních dokladů, výpis z bankovního účtu), není nutné dokládat v elektronické podobě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 velikost jedné přílohy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 přiložené k MZ v elektronické podobě je </a:t>
            </a:r>
            <a:r>
              <a:rPr b="1" lang="cs-CZ" sz="1700" spc="-1" strike="noStrike">
                <a:solidFill>
                  <a:srgbClr val="143f7e"/>
                </a:solidFill>
                <a:latin typeface="Arial"/>
              </a:rPr>
              <a:t>1MB</a:t>
            </a: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25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700" spc="-1" strike="noStrike">
                <a:solidFill>
                  <a:srgbClr val="143f7e"/>
                </a:solidFill>
                <a:latin typeface="Arial"/>
              </a:rPr>
              <a:t>Maximální velikost celé MZ je 5MB.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25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9" descr=""/>
          <p:cNvPicPr/>
          <p:nvPr/>
        </p:nvPicPr>
        <p:blipFill>
          <a:blip r:embed="rId1"/>
          <a:stretch/>
        </p:blipFill>
        <p:spPr>
          <a:xfrm>
            <a:off x="108000" y="1052640"/>
            <a:ext cx="3816360" cy="4895640"/>
          </a:xfrm>
          <a:prstGeom prst="rect">
            <a:avLst/>
          </a:prstGeom>
          <a:ln w="0">
            <a:noFill/>
          </a:ln>
        </p:spPr>
      </p:pic>
      <p:sp>
        <p:nvSpPr>
          <p:cNvPr id="231" name="Obdélník 1"/>
          <p:cNvSpPr/>
          <p:nvPr/>
        </p:nvSpPr>
        <p:spPr>
          <a:xfrm>
            <a:off x="108000" y="3357720"/>
            <a:ext cx="3816360" cy="215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2" name="Přímá spojnice se šipkou 3"/>
          <p:cNvCxnSpPr/>
          <p:nvPr/>
        </p:nvCxnSpPr>
        <p:spPr>
          <a:xfrm flipH="1">
            <a:off x="899640" y="3573000"/>
            <a:ext cx="504000" cy="2088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33" name="Obdélník 4"/>
          <p:cNvSpPr/>
          <p:nvPr/>
        </p:nvSpPr>
        <p:spPr>
          <a:xfrm>
            <a:off x="108000" y="5626080"/>
            <a:ext cx="1150920" cy="179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Další informa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755280" y="3644640"/>
            <a:ext cx="777708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může příjemce popsat doplňující informace k MZ a realizaci projektu, které neměl možnost uvést na jiných záložkách. Pole je nepovinné, takže jej příjemce vyplnit nemusí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99"/>
              </a:spcBef>
              <a:buNone/>
              <a:tabLst>
                <a:tab algn="l" pos="0"/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7" name="Picture 6" descr=""/>
          <p:cNvPicPr/>
          <p:nvPr/>
        </p:nvPicPr>
        <p:blipFill>
          <a:blip r:embed="rId1"/>
          <a:stretch/>
        </p:blipFill>
        <p:spPr>
          <a:xfrm>
            <a:off x="1405080" y="1413000"/>
            <a:ext cx="6333840" cy="168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5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427280" y="980640"/>
            <a:ext cx="453708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ukončení práce na MZ příjemce 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Kontrola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provede kontrolu vyplněných da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 případě, že nejsou vyplněné některé povinné údaje nebo systém při finalizaci zjistil nesoulad v zadaných údajích, objeví se na obrazovce </a:t>
            </a:r>
            <a:r>
              <a:rPr b="1" lang="cs-CZ" sz="1800" spc="-1" strike="noStrike" u="sng">
                <a:solidFill>
                  <a:srgbClr val="ff0000"/>
                </a:solidFill>
                <a:uFillTx/>
                <a:latin typeface="Arial"/>
              </a:rPr>
              <a:t>červené hlášky</a:t>
            </a: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se seznamem chyb, které je nutné odstranit. U každé chyby je uvedeno, na které záložce je nutné provést opravu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Černé hlášky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jsou pouze informa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Když je v MZ všechno v pořádku, Benefit7 ohlásí, že kontrola proběhla v pořádku. Příjemce může finalizovat M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451"/>
              </a:spcBef>
              <a:buNone/>
              <a:tabLst>
                <a:tab algn="l" pos="8985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Obrázek 1" descr=""/>
          <p:cNvPicPr/>
          <p:nvPr/>
        </p:nvPicPr>
        <p:blipFill>
          <a:blip r:embed="rId1"/>
          <a:stretch/>
        </p:blipFill>
        <p:spPr>
          <a:xfrm>
            <a:off x="179280" y="2084400"/>
            <a:ext cx="4321440" cy="4533840"/>
          </a:xfrm>
          <a:prstGeom prst="rect">
            <a:avLst/>
          </a:prstGeom>
          <a:ln w="0">
            <a:noFill/>
          </a:ln>
        </p:spPr>
      </p:pic>
      <p:sp>
        <p:nvSpPr>
          <p:cNvPr id="242" name="Text Box 3"/>
          <p:cNvSpPr/>
          <p:nvPr/>
        </p:nvSpPr>
        <p:spPr>
          <a:xfrm>
            <a:off x="2514600" y="1604880"/>
            <a:ext cx="2075040" cy="11034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POZOR!!!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ff0000"/>
                </a:solidFill>
                <a:uFillTx/>
                <a:latin typeface="Arial"/>
                <a:ea typeface="Arial"/>
              </a:rPr>
              <a:t>Červené hlášky jsou chyby, ty je nutné opravit. Bez opravy nebude možná finalizace!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3" name="Přímá spojnice se šipkou 13"/>
          <p:cNvCxnSpPr/>
          <p:nvPr/>
        </p:nvCxnSpPr>
        <p:spPr>
          <a:xfrm flipH="1">
            <a:off x="2987280" y="2707920"/>
            <a:ext cx="494640" cy="36108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44" name="Text Box 4"/>
          <p:cNvSpPr/>
          <p:nvPr/>
        </p:nvSpPr>
        <p:spPr>
          <a:xfrm>
            <a:off x="2627280" y="5589720"/>
            <a:ext cx="2092320" cy="8413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Aft>
                <a:spcPts val="1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Černé hlášky jsou pouze informativní a nejedná se o chyby. Příjemce je může ignorovat a finalizovat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Přímá spojnice se šipkou 16"/>
          <p:cNvCxnSpPr/>
          <p:nvPr/>
        </p:nvCxnSpPr>
        <p:spPr>
          <a:xfrm flipH="1" flipV="1">
            <a:off x="1475640" y="5373000"/>
            <a:ext cx="1151640" cy="3596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246" name="Picture 13" descr=""/>
          <p:cNvPicPr/>
          <p:nvPr/>
        </p:nvPicPr>
        <p:blipFill>
          <a:blip r:embed="rId2"/>
          <a:stretch/>
        </p:blipFill>
        <p:spPr>
          <a:xfrm>
            <a:off x="289080" y="590400"/>
            <a:ext cx="1618920" cy="142884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3"/>
          <p:cNvSpPr/>
          <p:nvPr/>
        </p:nvSpPr>
        <p:spPr>
          <a:xfrm>
            <a:off x="179280" y="515880"/>
            <a:ext cx="1873440" cy="15685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3"/>
          <p:cNvSpPr/>
          <p:nvPr/>
        </p:nvSpPr>
        <p:spPr>
          <a:xfrm>
            <a:off x="289080" y="1184400"/>
            <a:ext cx="936360" cy="24120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2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333680" y="1033200"/>
            <a:ext cx="451476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alizaci MZ příjemce provede pomocí tlačítka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Finalizace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Finálně uzavřená MZ má na záložce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Informace o projektu a MZ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 (přehledová tabulka v dolní části obrazovky) stav 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Předaný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pouze v případě, že proběhla i finalizace ZjŽoP). Automaticky pak dojde k zaregistrování MZ do IS Monit7+, což příjemce pozná podle stavu dle Monit7</a:t>
            </a:r>
            <a:r>
              <a:rPr b="1" lang="cs-CZ" sz="1600" spc="-1" strike="noStrike">
                <a:solidFill>
                  <a:srgbClr val="143f7e"/>
                </a:solidFill>
                <a:latin typeface="Arial"/>
              </a:rPr>
              <a:t> Zaregistrována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zápatí náhledu MZ je uveden</a:t>
            </a:r>
            <a:r>
              <a:rPr b="0" i="1" lang="cs-CZ" sz="1600" spc="-1" strike="noStrike">
                <a:solidFill>
                  <a:srgbClr val="143f7e"/>
                </a:solidFill>
                <a:latin typeface="Arial"/>
              </a:rPr>
              <a:t> Unikátní klíč </a:t>
            </a: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(12-ti místní kód), který je složen ze  čtyř částí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HHHHHH ... Hash projektu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M ... M (string pro identifikaci monitorovací zprávy). U ZjŽoP je identifikace označená „0“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aaa ... pořadové číslo monitorovací; zprávy, dotažené z M7+ doplněné zleva nulami do 3 pozic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80000"/>
              </a:lnSpc>
              <a:spcBef>
                <a:spcPts val="349"/>
              </a:spcBef>
              <a:buClr>
                <a:srgbClr val="143f7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143f7e"/>
                </a:solidFill>
                <a:latin typeface="Arial"/>
              </a:rPr>
              <a:t>BB ... verze monitorovací zprávy doplněná zleva nulou do 2 pozic, začínající od 01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icture 6" descr=""/>
          <p:cNvPicPr/>
          <p:nvPr/>
        </p:nvPicPr>
        <p:blipFill>
          <a:blip r:embed="rId1"/>
          <a:stretch/>
        </p:blipFill>
        <p:spPr>
          <a:xfrm>
            <a:off x="514440" y="2627280"/>
            <a:ext cx="3019320" cy="977760"/>
          </a:xfrm>
          <a:prstGeom prst="rect">
            <a:avLst/>
          </a:prstGeom>
          <a:ln w="15840">
            <a:solidFill>
              <a:srgbClr val="ff0000"/>
            </a:solidFill>
            <a:miter/>
          </a:ln>
        </p:spPr>
      </p:pic>
      <p:grpSp>
        <p:nvGrpSpPr>
          <p:cNvPr id="254" name="Group 10"/>
          <p:cNvGrpSpPr/>
          <p:nvPr/>
        </p:nvGrpSpPr>
        <p:grpSpPr>
          <a:xfrm>
            <a:off x="539640" y="5300640"/>
            <a:ext cx="7557840" cy="266760"/>
            <a:chOff x="539640" y="5300640"/>
            <a:chExt cx="7557840" cy="266760"/>
          </a:xfrm>
        </p:grpSpPr>
        <p:pic>
          <p:nvPicPr>
            <p:cNvPr id="255" name="Picture 11" descr=""/>
            <p:cNvPicPr/>
            <p:nvPr/>
          </p:nvPicPr>
          <p:blipFill>
            <a:blip r:embed="rId2"/>
            <a:stretch/>
          </p:blipFill>
          <p:spPr>
            <a:xfrm>
              <a:off x="580680" y="5300640"/>
              <a:ext cx="7516800" cy="266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Rectangle 12"/>
            <p:cNvSpPr/>
            <p:nvPr/>
          </p:nvSpPr>
          <p:spPr>
            <a:xfrm>
              <a:off x="539640" y="5321520"/>
              <a:ext cx="7385040" cy="206280"/>
            </a:xfrm>
            <a:prstGeom prst="rect">
              <a:avLst/>
            </a:pr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7" name="Text Box 17"/>
          <p:cNvSpPr/>
          <p:nvPr/>
        </p:nvSpPr>
        <p:spPr>
          <a:xfrm>
            <a:off x="114480" y="5524560"/>
            <a:ext cx="9029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Bude-li MZ vrácena k přepracování, objeví se na panelu ovládacích tlačítek příjemci tlačítko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Storno finalizace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  <a:ea typeface="Arial"/>
              </a:rPr>
              <a:t>.  Pomocí tohoto tlačítka příjemce otevře MZ, provede opravu, znovu finalizuje a opravené předloží poskytovateli podpory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8" name="Picture 19" descr=""/>
          <p:cNvPicPr/>
          <p:nvPr/>
        </p:nvPicPr>
        <p:blipFill>
          <a:blip r:embed="rId3"/>
          <a:stretch/>
        </p:blipFill>
        <p:spPr>
          <a:xfrm>
            <a:off x="539640" y="981000"/>
            <a:ext cx="1619280" cy="1428840"/>
          </a:xfrm>
          <a:prstGeom prst="rect">
            <a:avLst/>
          </a:prstGeom>
          <a:ln w="0">
            <a:noFill/>
          </a:ln>
        </p:spPr>
      </p:pic>
      <p:sp>
        <p:nvSpPr>
          <p:cNvPr id="259" name="Obdélník 2"/>
          <p:cNvSpPr/>
          <p:nvPr/>
        </p:nvSpPr>
        <p:spPr>
          <a:xfrm>
            <a:off x="539640" y="1773360"/>
            <a:ext cx="1079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60" name="Přímá spojnice se šipkou 5"/>
          <p:cNvCxnSpPr>
            <a:stCxn id="259" idx="2"/>
          </p:cNvCxnSpPr>
          <p:nvPr/>
        </p:nvCxnSpPr>
        <p:spPr>
          <a:xfrm>
            <a:off x="1079280" y="2060280"/>
            <a:ext cx="1080" cy="6166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261" name="Picture 20" descr=""/>
          <p:cNvPicPr/>
          <p:nvPr/>
        </p:nvPicPr>
        <p:blipFill>
          <a:blip r:embed="rId4"/>
          <a:stretch/>
        </p:blipFill>
        <p:spPr>
          <a:xfrm>
            <a:off x="441360" y="3933720"/>
            <a:ext cx="4278240" cy="1008000"/>
          </a:xfrm>
          <a:prstGeom prst="rect">
            <a:avLst/>
          </a:prstGeom>
          <a:ln w="0">
            <a:noFill/>
          </a:ln>
        </p:spPr>
      </p:pic>
      <p:sp>
        <p:nvSpPr>
          <p:cNvPr id="262" name="Line 18"/>
          <p:cNvSpPr/>
          <p:nvPr/>
        </p:nvSpPr>
        <p:spPr>
          <a:xfrm flipH="1">
            <a:off x="2895480" y="2676600"/>
            <a:ext cx="1866960" cy="1616040"/>
          </a:xfrm>
          <a:prstGeom prst="line">
            <a:avLst/>
          </a:prstGeom>
          <a:ln w="158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Obdélník 6"/>
          <p:cNvSpPr/>
          <p:nvPr/>
        </p:nvSpPr>
        <p:spPr>
          <a:xfrm>
            <a:off x="2581200" y="4292640"/>
            <a:ext cx="62244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a Finalizace MZ (I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716000" y="1483920"/>
            <a:ext cx="4226040" cy="436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Nově lze ovšem použít tlačítko „Kontrola“ či tlačítko „Finalizace“, které se nacházejí pod záložkou „Off-line“ operace s MZ“. Princip použití je stejný, jako v případě načítání dat na MZ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užití tohoto tlačítka je vhodné v okamžiku, kdy dosud používané funkce Kontrola/Finalizace nejsou schopny v časovém limitu provést požadovanou akci, tzn. funkce Kontrola/Finalizace je přerušena chybou (viz. „Nastala neočekávaná chyba“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V případě použití off-line kontroly je opět budete opět informováni o započaté operaci zobrazením informačního hlášení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00"/>
              </a:spcBef>
              <a:buClr>
                <a:srgbClr val="143f7e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143f7e"/>
                </a:solidFill>
                <a:latin typeface="Arial"/>
              </a:rPr>
              <a:t>Po skončení kontroly je opět zobrazen odkaz na informační zprávu v zeleném pruhu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539640" y="1496880"/>
            <a:ext cx="1790640" cy="329580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3" descr=""/>
          <p:cNvPicPr/>
          <p:nvPr/>
        </p:nvPicPr>
        <p:blipFill>
          <a:blip r:embed="rId2"/>
          <a:stretch/>
        </p:blipFill>
        <p:spPr>
          <a:xfrm>
            <a:off x="2460600" y="1496880"/>
            <a:ext cx="2095560" cy="1324080"/>
          </a:xfrm>
          <a:prstGeom prst="rect">
            <a:avLst/>
          </a:prstGeom>
          <a:ln w="0">
            <a:noFill/>
          </a:ln>
        </p:spPr>
      </p:pic>
      <p:sp>
        <p:nvSpPr>
          <p:cNvPr id="268" name="Obdélník 7"/>
          <p:cNvSpPr/>
          <p:nvPr/>
        </p:nvSpPr>
        <p:spPr>
          <a:xfrm>
            <a:off x="539640" y="4549680"/>
            <a:ext cx="179064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bdélník 8"/>
          <p:cNvSpPr/>
          <p:nvPr/>
        </p:nvSpPr>
        <p:spPr>
          <a:xfrm>
            <a:off x="2444760" y="1496880"/>
            <a:ext cx="2127240" cy="1324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4" descr=""/>
          <p:cNvPicPr/>
          <p:nvPr/>
        </p:nvPicPr>
        <p:blipFill>
          <a:blip r:embed="rId3"/>
          <a:stretch/>
        </p:blipFill>
        <p:spPr>
          <a:xfrm>
            <a:off x="539640" y="5157720"/>
            <a:ext cx="4229280" cy="1162080"/>
          </a:xfrm>
          <a:prstGeom prst="rect">
            <a:avLst/>
          </a:prstGeom>
          <a:ln w="0">
            <a:noFill/>
          </a:ln>
        </p:spPr>
      </p:pic>
      <p:cxnSp>
        <p:nvCxnSpPr>
          <p:cNvPr id="271" name="Přímá spojnice se šipkou 10"/>
          <p:cNvCxnSpPr/>
          <p:nvPr/>
        </p:nvCxnSpPr>
        <p:spPr>
          <a:xfrm flipH="1">
            <a:off x="2198160" y="4941720"/>
            <a:ext cx="2950560" cy="25596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MZ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211280" y="1268280"/>
            <a:ext cx="476100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příjemce FINALIZOVANOU MZ vytiskne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MZ včetně příloh předkládá příjemce poskytovateli podpory v listinné podobě v jednom vyhotovení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 u="sng">
                <a:solidFill>
                  <a:srgbClr val="143f7e"/>
                </a:solidFill>
                <a:uFillTx/>
                <a:latin typeface="Arial"/>
              </a:rPr>
              <a:t>Požadovaná forma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: pevně sešít listy 1. části (z Benefit7 v *.pdf) a 2. části MZ (ve wordu) a přelepit v levém horním rohu. ZjŽoP se předkládá samostatně!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Přílohy MZ musí být řádně označeny číslem MZ a přiloženy k 1. a 2. části MZ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V případě rozsáhlých projektů není nutné označit každou přílohu číslem monitorovací zprávy, je však nutné tímto číslem označit např. šanon, vázací desky apod., ve kterých budou přílohy k MZ přiložen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Rozhodujícím datem pro splnění termínu předložení MZ je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datum doručení MZ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1500" spc="-1" strike="noStrike">
                <a:solidFill>
                  <a:srgbClr val="143f7e"/>
                </a:solidFill>
                <a:latin typeface="Arial"/>
              </a:rPr>
              <a:t>poskytovateli podpory</a:t>
            </a: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, nikoliv datum podání zásilky na poště, tzn. nejpozději do 30 dnů od skončení sledovaného období v případě průběžné monitorovací zpráv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-178920">
              <a:lnSpc>
                <a:spcPct val="80000"/>
              </a:lnSpc>
              <a:spcBef>
                <a:spcPts val="374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143f7e"/>
                </a:solidFill>
                <a:latin typeface="Arial"/>
              </a:rPr>
              <a:t>Listinná podoba žádosti včetně příloh musí být doručena v zalepené obálce, označené dle stanovené struktury.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17892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1" descr=""/>
          <p:cNvPicPr/>
          <p:nvPr/>
        </p:nvPicPr>
        <p:blipFill>
          <a:blip r:embed="rId1"/>
          <a:stretch/>
        </p:blipFill>
        <p:spPr>
          <a:xfrm>
            <a:off x="250920" y="1130400"/>
            <a:ext cx="3836880" cy="5256000"/>
          </a:xfrm>
          <a:prstGeom prst="rect">
            <a:avLst/>
          </a:prstGeom>
          <a:ln w="0">
            <a:noFill/>
          </a:ln>
        </p:spPr>
      </p:pic>
      <p:sp>
        <p:nvSpPr>
          <p:cNvPr id="275" name="Rectangle 14"/>
          <p:cNvSpPr/>
          <p:nvPr/>
        </p:nvSpPr>
        <p:spPr>
          <a:xfrm>
            <a:off x="539640" y="6237360"/>
            <a:ext cx="2808360" cy="1443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Picture 10" descr=""/>
          <p:cNvPicPr/>
          <p:nvPr/>
        </p:nvPicPr>
        <p:blipFill>
          <a:blip r:embed="rId2"/>
          <a:stretch/>
        </p:blipFill>
        <p:spPr>
          <a:xfrm>
            <a:off x="108000" y="620640"/>
            <a:ext cx="1590480" cy="1476360"/>
          </a:xfrm>
          <a:prstGeom prst="rect">
            <a:avLst/>
          </a:prstGeom>
          <a:ln w="0">
            <a:noFill/>
          </a:ln>
        </p:spPr>
      </p:pic>
      <p:sp>
        <p:nvSpPr>
          <p:cNvPr id="277" name="Obdélník 3"/>
          <p:cNvSpPr/>
          <p:nvPr/>
        </p:nvSpPr>
        <p:spPr>
          <a:xfrm>
            <a:off x="108000" y="1844640"/>
            <a:ext cx="1224000" cy="25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Zjednodušená žádost o platbu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ehled záložek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50920" y="4508640"/>
            <a:ext cx="8407440" cy="14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V Kontě žádostí si příjemce vybere záložku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Žádost o platb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tupně příjemce vyplní všechny povinné záložky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pis jednotlivých záložek a polí je uveden v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Picture 10" descr=""/>
          <p:cNvPicPr/>
          <p:nvPr/>
        </p:nvPicPr>
        <p:blipFill>
          <a:blip r:embed="rId1"/>
          <a:stretch/>
        </p:blipFill>
        <p:spPr>
          <a:xfrm>
            <a:off x="255600" y="907920"/>
            <a:ext cx="8115120" cy="1905120"/>
          </a:xfrm>
          <a:prstGeom prst="rect">
            <a:avLst/>
          </a:prstGeom>
          <a:ln w="0">
            <a:noFill/>
          </a:ln>
        </p:spPr>
      </p:pic>
      <p:pic>
        <p:nvPicPr>
          <p:cNvPr id="282" name="Picture 9" descr=""/>
          <p:cNvPicPr/>
          <p:nvPr/>
        </p:nvPicPr>
        <p:blipFill>
          <a:blip r:embed="rId2"/>
          <a:stretch/>
        </p:blipFill>
        <p:spPr>
          <a:xfrm>
            <a:off x="404640" y="2619360"/>
            <a:ext cx="8334720" cy="1743120"/>
          </a:xfrm>
          <a:prstGeom prst="rect">
            <a:avLst/>
          </a:prstGeom>
          <a:ln w="0">
            <a:noFill/>
          </a:ln>
        </p:spPr>
      </p:pic>
      <p:sp>
        <p:nvSpPr>
          <p:cNvPr id="283" name="Obdélník 6"/>
          <p:cNvSpPr/>
          <p:nvPr/>
        </p:nvSpPr>
        <p:spPr>
          <a:xfrm>
            <a:off x="255600" y="1860480"/>
            <a:ext cx="1584360" cy="2001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84" name="Přímá spojnice se šipkou 5"/>
          <p:cNvCxnSpPr/>
          <p:nvPr/>
        </p:nvCxnSpPr>
        <p:spPr>
          <a:xfrm>
            <a:off x="1047240" y="2060640"/>
            <a:ext cx="358200" cy="1340640"/>
          </a:xfrm>
          <a:prstGeom prst="straightConnector1">
            <a:avLst/>
          </a:prstGeom>
          <a:ln w="1908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285" name="Obdélník 2"/>
          <p:cNvSpPr/>
          <p:nvPr/>
        </p:nvSpPr>
        <p:spPr>
          <a:xfrm>
            <a:off x="434880" y="3400560"/>
            <a:ext cx="1616040" cy="2444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0" y="1052280"/>
            <a:ext cx="439272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této záložce příjemce nalezne všeobecné informace o projektu, příjemci a žádosti o platbu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mocí tlačítka „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ačíst data z MONIT7+“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se na ŽoP načtou data do část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projektu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a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Informace o žádosti o platb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Typ žádosti o platbu jsou na výběr dvě varianty: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a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              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ex-pos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 poli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ýběr účtu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příjemce vybere účet, na který mu bude zaslána schválená platba. Číslo účtu je stanoveno právním akt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Číslo monitorovací zprávy lze vybrat pouze, je-li MZ již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ová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8" name="Picture 5" descr=""/>
          <p:cNvPicPr/>
          <p:nvPr/>
        </p:nvPicPr>
        <p:blipFill>
          <a:blip r:embed="rId1"/>
          <a:stretch/>
        </p:blipFill>
        <p:spPr>
          <a:xfrm>
            <a:off x="108000" y="1341360"/>
            <a:ext cx="4459320" cy="3511800"/>
          </a:xfrm>
          <a:prstGeom prst="rect">
            <a:avLst/>
          </a:prstGeom>
          <a:ln w="0">
            <a:noFill/>
          </a:ln>
        </p:spPr>
      </p:pic>
      <p:sp>
        <p:nvSpPr>
          <p:cNvPr id="289" name="Obdélník 1"/>
          <p:cNvSpPr/>
          <p:nvPr/>
        </p:nvSpPr>
        <p:spPr>
          <a:xfrm>
            <a:off x="108000" y="1341360"/>
            <a:ext cx="136836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523600"/>
            <a:ext cx="8229600" cy="159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Monitorovací zpráva a příloh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Žádost o platbu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478400" y="1341000"/>
            <a:ext cx="44863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e druhé části záložky ŽoP se vše odvíjí od volby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ypu žádosti: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EX-ANTE nebo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yplňte všechna povinná pole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Do pole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Zdůvodnění platby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uvede popis použití vynaložených prostředků v rámci realizace projektu v daném monitorovacím období. Pole je povinné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V Pokynech ŘO v B7 naleznete podrobný návod, jak jednotlivá pole vyplnit, a to jak pro ŽoP typu EX-ANTE, tak EX-POS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6" descr=""/>
          <p:cNvPicPr/>
          <p:nvPr/>
        </p:nvPicPr>
        <p:blipFill>
          <a:blip r:embed="rId1"/>
          <a:stretch/>
        </p:blipFill>
        <p:spPr>
          <a:xfrm>
            <a:off x="108000" y="979560"/>
            <a:ext cx="440208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řílohy žádosti o platb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68000" y="4508640"/>
            <a:ext cx="828036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skytovatelem podpory </a:t>
            </a:r>
            <a:r>
              <a:rPr b="0" lang="cs-CZ" sz="1800" spc="-1" strike="noStrike" u="sng">
                <a:solidFill>
                  <a:srgbClr val="143f7e"/>
                </a:solidFill>
                <a:uFillTx/>
                <a:latin typeface="Arial"/>
              </a:rPr>
              <a:t>nejsou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stanoveny povinné přílohy k žádosti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ový záznam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 může příjemce založit nepovinnou přílohu k žádosti o platb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Maximální velikost jedné přílohy přiložené ke ZjŽoP v elektronické podobě je 1MB. Maximální velikost celé ZjŽoP je 5MB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5" name="Picture 5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802120" cy="33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sk a předložení Zj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427640" y="2133720"/>
            <a:ext cx="4525920" cy="158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Kontrolu a finalizaci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ZjŽoP provádí příjemce stejně, jako v případě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Pomocí tlačítka </a:t>
            </a:r>
            <a:r>
              <a:rPr b="1" lang="cs-CZ" sz="1900" spc="-1" strike="noStrike">
                <a:solidFill>
                  <a:srgbClr val="143f7e"/>
                </a:solidFill>
                <a:latin typeface="Arial"/>
              </a:rPr>
              <a:t>Tisk</a:t>
            </a:r>
            <a:r>
              <a:rPr b="0" lang="cs-CZ" sz="1900" spc="-1" strike="noStrike">
                <a:solidFill>
                  <a:srgbClr val="143f7e"/>
                </a:solidFill>
                <a:latin typeface="Arial"/>
              </a:rPr>
              <a:t> příjemce ZjŽoP vytiskne. V tomto případě je postup stejný jako u MZ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6" descr=""/>
          <p:cNvPicPr/>
          <p:nvPr/>
        </p:nvPicPr>
        <p:blipFill>
          <a:blip r:embed="rId1"/>
          <a:stretch/>
        </p:blipFill>
        <p:spPr>
          <a:xfrm>
            <a:off x="647640" y="2133720"/>
            <a:ext cx="4032360" cy="4305240"/>
          </a:xfrm>
          <a:prstGeom prst="rect">
            <a:avLst/>
          </a:prstGeom>
          <a:ln w="0">
            <a:noFill/>
          </a:ln>
        </p:spPr>
      </p:pic>
      <p:pic>
        <p:nvPicPr>
          <p:cNvPr id="299" name="Picture 7" descr=""/>
          <p:cNvPicPr/>
          <p:nvPr/>
        </p:nvPicPr>
        <p:blipFill>
          <a:blip r:embed="rId2"/>
          <a:stretch/>
        </p:blipFill>
        <p:spPr>
          <a:xfrm>
            <a:off x="228600" y="851040"/>
            <a:ext cx="1638360" cy="1666800"/>
          </a:xfrm>
          <a:prstGeom prst="rect">
            <a:avLst/>
          </a:prstGeom>
          <a:ln w="0">
            <a:noFill/>
          </a:ln>
        </p:spPr>
      </p:pic>
      <p:sp>
        <p:nvSpPr>
          <p:cNvPr id="300" name="Obdélník 1"/>
          <p:cNvSpPr/>
          <p:nvPr/>
        </p:nvSpPr>
        <p:spPr>
          <a:xfrm>
            <a:off x="324000" y="2298600"/>
            <a:ext cx="647640" cy="1936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066680"/>
            <a:ext cx="8229600" cy="505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se jedná o Monitorovací zprávu se ŽoP, musí provést příjemce finalizaci MZ, poté mu Benefit7 umožní finalizovat zjednodušenou žádost o platbu. Následně bude automaticky MZ a ŽoP zaregistrována v Monit7+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V případě, že příjemc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neprovede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finalizaci ZjŽoP v Benefit7, může ještě provést STORNO FINALIZACE MZ a opravit nedostatky. Obráceně to nefunguje! Aplikace Benefit7 upozorní příjemce na skutečnost, že nelze provést finalizaci ZjŽoP, pokud není finalizována MZ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	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stup je pro příjemce následující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499"/>
              </a:spcBef>
              <a:buClr>
                <a:srgbClr val="143f7e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e ZjŽ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d113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d1131c"/>
                </a:solidFill>
                <a:latin typeface="Arial"/>
              </a:rPr>
              <a:t>Nelze založit MZ/ZjŽoP v Benefit7 dříve, než bude předchozí MZ/ZjŽoP v Monit7+ administrována (schválena/zamítnutá)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Storno finalizace MZ a Ž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468360" y="1844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MZ se/bez ŽoP mohou být kontaktní osobou poskytovatele podpory vráceny k dopracování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obě, jak MZ, tak 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říjemce provede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Storno finalizace, 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jinak nelze MZ ani ŽoP upravova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 opravě a kontrole je nutné provést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Finalizaci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, HASH se zvýší     o 1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avidla pro MZ a ŽoP (I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6" name=""/>
          <p:cNvGraphicFramePr/>
          <p:nvPr/>
        </p:nvGraphicFramePr>
        <p:xfrm>
          <a:off x="826920" y="1197000"/>
          <a:ext cx="7058160" cy="3535200"/>
        </p:xfrm>
        <a:graphic>
          <a:graphicData uri="http://schemas.openxmlformats.org/drawingml/2006/table">
            <a:tbl>
              <a:tblPr/>
              <a:tblGrid>
                <a:gridCol w="366840"/>
                <a:gridCol w="1771560"/>
                <a:gridCol w="1282680"/>
                <a:gridCol w="1836720"/>
                <a:gridCol w="1800360"/>
              </a:tblGrid>
              <a:tr h="131112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Kombinace MZ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a ZjŽoP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Odeslat do Benefit7 MZ i 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 STORNA FINALIZACE MZ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utné proveden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TORNA FINALIZAC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ZjŽoP ?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82260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1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v pořádku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není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N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2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v pořádk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3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MZ je špatně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ZjŽoP je špatně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600" spc="-1" strike="noStrike">
                          <a:solidFill>
                            <a:srgbClr val="143f7e"/>
                          </a:solidFill>
                          <a:latin typeface="Arial"/>
                          <a:ea typeface="Times New Roman"/>
                        </a:rPr>
                        <a:t>AN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7" name="Text Box 35"/>
          <p:cNvSpPr/>
          <p:nvPr/>
        </p:nvSpPr>
        <p:spPr>
          <a:xfrm>
            <a:off x="619200" y="4429080"/>
            <a:ext cx="8524800" cy="177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Pokud jsou navázány MZ+ŽoP,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vždy musí poskytovatel podpory odeslat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 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obě, jak MZ, tak ZjŽoP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  <a:ea typeface="Arial"/>
              </a:rPr>
              <a:t>. Poté bude možné provést v Benefit7 odfinalizování (STORNO FINALIZACE) MZ, nebo jen ZjŽoP, nebo obou (podle potřeby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Picture 3" descr=""/>
          <p:cNvPicPr/>
          <p:nvPr/>
        </p:nvPicPr>
        <p:blipFill>
          <a:blip r:embed="rId1"/>
          <a:stretch/>
        </p:blipFill>
        <p:spPr>
          <a:xfrm>
            <a:off x="1258920" y="1141560"/>
            <a:ext cx="7200720" cy="3582720"/>
          </a:xfrm>
          <a:prstGeom prst="rect">
            <a:avLst/>
          </a:prstGeom>
          <a:ln w="0">
            <a:noFill/>
          </a:ln>
        </p:spPr>
      </p:pic>
      <p:sp>
        <p:nvSpPr>
          <p:cNvPr id="310" name="Obdélník 5"/>
          <p:cNvSpPr/>
          <p:nvPr/>
        </p:nvSpPr>
        <p:spPr>
          <a:xfrm>
            <a:off x="1030320" y="5013360"/>
            <a:ext cx="55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</a:rPr>
              <a:t>Do mailu přijde upozornění, že v Benefit7+ je zprá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Obdélník 6"/>
          <p:cNvSpPr/>
          <p:nvPr/>
        </p:nvSpPr>
        <p:spPr>
          <a:xfrm>
            <a:off x="1042920" y="3881520"/>
            <a:ext cx="429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9194d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63680" y="1484280"/>
            <a:ext cx="4039920" cy="1873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Konto žádostí je nová zpráva zobrazena zatržítk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456840" y="3429000"/>
            <a:ext cx="4040280" cy="26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19194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44720" y="1196640"/>
            <a:ext cx="4041720" cy="1800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262673"/>
                </a:solidFill>
                <a:latin typeface="Arial"/>
              </a:rPr>
              <a:t>Na záložce zprávy najdete celou zpráv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Picture 2" descr=""/>
          <p:cNvPicPr/>
          <p:nvPr/>
        </p:nvPicPr>
        <p:blipFill>
          <a:blip r:embed="rId1"/>
          <a:stretch/>
        </p:blipFill>
        <p:spPr>
          <a:xfrm>
            <a:off x="5727600" y="2924280"/>
            <a:ext cx="2444760" cy="288756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7" descr=""/>
          <p:cNvPicPr/>
          <p:nvPr/>
        </p:nvPicPr>
        <p:blipFill>
          <a:blip r:embed="rId2"/>
          <a:stretch/>
        </p:blipFill>
        <p:spPr>
          <a:xfrm>
            <a:off x="468360" y="3284640"/>
            <a:ext cx="3743280" cy="2527200"/>
          </a:xfrm>
          <a:prstGeom prst="rect">
            <a:avLst/>
          </a:prstGeom>
          <a:ln w="0">
            <a:noFill/>
          </a:ln>
        </p:spPr>
      </p:pic>
      <p:sp>
        <p:nvSpPr>
          <p:cNvPr id="318" name="Ovál 12"/>
          <p:cNvSpPr/>
          <p:nvPr/>
        </p:nvSpPr>
        <p:spPr>
          <a:xfrm>
            <a:off x="3635280" y="4869000"/>
            <a:ext cx="432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Obdélník 13"/>
          <p:cNvSpPr/>
          <p:nvPr/>
        </p:nvSpPr>
        <p:spPr>
          <a:xfrm>
            <a:off x="5867280" y="5229360"/>
            <a:ext cx="1008360" cy="360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ff0000"/>
                </a:solidFill>
                <a:latin typeface="Arial"/>
              </a:rPr>
              <a:t>Zprávy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3" descr=""/>
          <p:cNvPicPr/>
          <p:nvPr/>
        </p:nvPicPr>
        <p:blipFill>
          <a:blip r:embed="rId1"/>
          <a:stretch/>
        </p:blipFill>
        <p:spPr>
          <a:xfrm>
            <a:off x="826920" y="1557360"/>
            <a:ext cx="7417080" cy="12240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8" descr=""/>
          <p:cNvPicPr/>
          <p:nvPr/>
        </p:nvPicPr>
        <p:blipFill>
          <a:blip r:embed="rId2"/>
          <a:stretch/>
        </p:blipFill>
        <p:spPr>
          <a:xfrm>
            <a:off x="684360" y="2924280"/>
            <a:ext cx="6408720" cy="3313080"/>
          </a:xfrm>
          <a:prstGeom prst="rect">
            <a:avLst/>
          </a:prstGeom>
          <a:ln w="0">
            <a:noFill/>
          </a:ln>
        </p:spPr>
      </p:pic>
      <p:sp>
        <p:nvSpPr>
          <p:cNvPr id="323" name="Obdélník 7"/>
          <p:cNvSpPr/>
          <p:nvPr/>
        </p:nvSpPr>
        <p:spPr>
          <a:xfrm>
            <a:off x="755640" y="5732640"/>
            <a:ext cx="1944720" cy="433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Obdélník 8"/>
          <p:cNvSpPr/>
          <p:nvPr/>
        </p:nvSpPr>
        <p:spPr>
          <a:xfrm>
            <a:off x="4716360" y="5732640"/>
            <a:ext cx="1656000" cy="360360"/>
          </a:xfrm>
          <a:prstGeom prst="rect">
            <a:avLst/>
          </a:prstGeom>
          <a:noFill/>
          <a:ln w="2556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38088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900" spc="-1" strike="noStrike">
                <a:solidFill>
                  <a:srgbClr val="143f7e"/>
                </a:solidFill>
                <a:latin typeface="Arial"/>
              </a:rPr>
              <a:t>Děkuji za pozorno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143f7e"/>
                </a:solidFill>
                <a:latin typeface="Arial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2400" spc="-1" strike="noStrike">
                <a:solidFill>
                  <a:srgbClr val="262673"/>
                </a:solidFill>
                <a:latin typeface="Arial"/>
              </a:rPr>
              <a:t>technická podpora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benefit7@mpsv.cz</a:t>
            </a:r>
            <a:r>
              <a:rPr b="1" lang="cs-CZ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Titulní strana Benefit7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5640" y="5157360"/>
            <a:ext cx="7848720" cy="84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 algn="just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titulní straně Benefit7 se nacházejí a průběžně aktualizují důležitá sdělení a novinky (červeně) v rámci OP LZ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"/>
          <p:cNvPicPr/>
          <p:nvPr/>
        </p:nvPicPr>
        <p:blipFill>
          <a:blip r:embed="rId1"/>
          <a:stretch/>
        </p:blipFill>
        <p:spPr>
          <a:xfrm>
            <a:off x="1258920" y="1125360"/>
            <a:ext cx="6300720" cy="4191120"/>
          </a:xfrm>
          <a:prstGeom prst="rect">
            <a:avLst/>
          </a:prstGeom>
          <a:ln w="0">
            <a:noFill/>
          </a:ln>
        </p:spPr>
      </p:pic>
      <p:sp>
        <p:nvSpPr>
          <p:cNvPr id="57" name="Obdélník 1"/>
          <p:cNvSpPr/>
          <p:nvPr/>
        </p:nvSpPr>
        <p:spPr>
          <a:xfrm flipV="1">
            <a:off x="6443640" y="3141720"/>
            <a:ext cx="72072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bdélník 2"/>
          <p:cNvSpPr/>
          <p:nvPr/>
        </p:nvSpPr>
        <p:spPr>
          <a:xfrm>
            <a:off x="1258920" y="2060640"/>
            <a:ext cx="1297080" cy="11890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Šipka dolů 3"/>
          <p:cNvSpPr/>
          <p:nvPr/>
        </p:nvSpPr>
        <p:spPr>
          <a:xfrm rot="10800000">
            <a:off x="6634080" y="3516480"/>
            <a:ext cx="385920" cy="776160"/>
          </a:xfrm>
          <a:prstGeom prst="downArrow">
            <a:avLst>
              <a:gd name="adj1" fmla="val 50000"/>
              <a:gd name="adj2" fmla="val 4997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Šipka doprava 4"/>
          <p:cNvSpPr/>
          <p:nvPr/>
        </p:nvSpPr>
        <p:spPr>
          <a:xfrm>
            <a:off x="324000" y="2413080"/>
            <a:ext cx="792000" cy="368280"/>
          </a:xfrm>
          <a:prstGeom prst="rightArrow">
            <a:avLst>
              <a:gd name="adj1" fmla="val 50000"/>
              <a:gd name="adj2" fmla="val 4999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o žádostí</a:t>
            </a:r>
            <a:r>
              <a:rPr b="0" lang="cs-CZ" sz="3200" spc="-1" strike="noStrike">
                <a:solidFill>
                  <a:srgbClr val="d1131c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458136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Na přehledu Vašich žádostí (</a:t>
            </a:r>
            <a:r>
              <a:rPr b="1" lang="cs-CZ" sz="2000" spc="-1" strike="noStrike">
                <a:solidFill>
                  <a:srgbClr val="143f7e"/>
                </a:solidFill>
                <a:latin typeface="Arial"/>
              </a:rPr>
              <a:t>Konto žádostí</a:t>
            </a: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) klikněte na projekt, ke kterému chcete vyplňovat M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143f7e"/>
                </a:solidFill>
                <a:latin typeface="Arial"/>
              </a:rPr>
              <a:t>Poté vyberte ze seznamu Monitorovací zprávu nebo Žádost o platb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9" descr=""/>
          <p:cNvPicPr/>
          <p:nvPr/>
        </p:nvPicPr>
        <p:blipFill>
          <a:blip r:embed="rId1"/>
          <a:stretch/>
        </p:blipFill>
        <p:spPr>
          <a:xfrm>
            <a:off x="900000" y="890640"/>
            <a:ext cx="7704360" cy="232236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10" descr=""/>
          <p:cNvPicPr/>
          <p:nvPr/>
        </p:nvPicPr>
        <p:blipFill>
          <a:blip r:embed="rId2"/>
          <a:stretch/>
        </p:blipFill>
        <p:spPr>
          <a:xfrm>
            <a:off x="1403280" y="2349360"/>
            <a:ext cx="6361200" cy="2052720"/>
          </a:xfrm>
          <a:prstGeom prst="rect">
            <a:avLst/>
          </a:prstGeom>
          <a:ln w="0">
            <a:noFill/>
          </a:ln>
        </p:spPr>
      </p:pic>
      <p:sp>
        <p:nvSpPr>
          <p:cNvPr id="65" name="Obdélník 1"/>
          <p:cNvSpPr/>
          <p:nvPr/>
        </p:nvSpPr>
        <p:spPr>
          <a:xfrm>
            <a:off x="2484360" y="1989000"/>
            <a:ext cx="5975280" cy="2160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6" name="Přímá spojnice se šipkou 4"/>
          <p:cNvCxnSpPr/>
          <p:nvPr/>
        </p:nvCxnSpPr>
        <p:spPr>
          <a:xfrm flipH="1">
            <a:off x="2267640" y="2205000"/>
            <a:ext cx="1367640" cy="100872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7" name="Obdélník 5"/>
          <p:cNvSpPr/>
          <p:nvPr/>
        </p:nvSpPr>
        <p:spPr>
          <a:xfrm>
            <a:off x="1403280" y="3068640"/>
            <a:ext cx="1297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Výběr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3645000"/>
            <a:ext cx="8229600" cy="248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Z přehledové tabulky vyberte MZ nebo ŽoP, na které chcete pracov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kud Vám nejde nová MZ založit, obraťte se na svou kontaktní osobu, Benefit7 Vás na tuto skutečnost upozorní červenou hlášk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1"/>
          <a:stretch/>
        </p:blipFill>
        <p:spPr>
          <a:xfrm>
            <a:off x="826920" y="1341360"/>
            <a:ext cx="7258320" cy="1612800"/>
          </a:xfrm>
          <a:prstGeom prst="rect">
            <a:avLst/>
          </a:prstGeom>
          <a:ln w="0">
            <a:noFill/>
          </a:ln>
        </p:spPr>
      </p:pic>
      <p:sp>
        <p:nvSpPr>
          <p:cNvPr id="71" name="Obdélník 1"/>
          <p:cNvSpPr/>
          <p:nvPr/>
        </p:nvSpPr>
        <p:spPr>
          <a:xfrm>
            <a:off x="847800" y="2262240"/>
            <a:ext cx="1368360" cy="28728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152280"/>
            <a:ext cx="8229600" cy="74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Záložky</a:t>
            </a: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Monitorovací zpráv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132000" y="1447920"/>
            <a:ext cx="56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pis jednotlivých záložek a polí je uveden v  </a:t>
            </a:r>
            <a:r>
              <a:rPr b="1" lang="cs-CZ" sz="2400" spc="-1" strike="noStrike">
                <a:solidFill>
                  <a:srgbClr val="143f7e"/>
                </a:solidFill>
                <a:latin typeface="Arial"/>
              </a:rPr>
              <a:t>Pokynech pro vyplnění monitorovacích zpráv o realizaci projektu OP LZZ a jejich příloh (D10)</a:t>
            </a: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Je nutné vyplňovat jednotlivé záložky a pole postupně. Jednotlivá data na sebe navazují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á pole v Benefitu7 jsou podbarvena </a:t>
            </a:r>
            <a:r>
              <a:rPr b="0" lang="cs-CZ" sz="2400" spc="-1" strike="noStrike" u="sng">
                <a:solidFill>
                  <a:srgbClr val="143f7e"/>
                </a:solidFill>
                <a:uFillTx/>
                <a:latin typeface="Arial"/>
              </a:rPr>
              <a:t>žlutou barv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143f7e"/>
              </a:buClr>
              <a:buFont typeface="Arial"/>
              <a:buChar char="•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cs-CZ" sz="2400" spc="-1" strike="noStrike">
                <a:solidFill>
                  <a:srgbClr val="143f7e"/>
                </a:solidFill>
                <a:latin typeface="Arial"/>
              </a:rPr>
              <a:t>Povinnost výběr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900000" y="1628640"/>
            <a:ext cx="1971720" cy="4176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6" descr=""/>
          <p:cNvPicPr/>
          <p:nvPr/>
        </p:nvPicPr>
        <p:blipFill>
          <a:blip r:embed="rId2"/>
          <a:stretch/>
        </p:blipFill>
        <p:spPr>
          <a:xfrm>
            <a:off x="6261120" y="4856040"/>
            <a:ext cx="1871640" cy="574920"/>
          </a:xfrm>
          <a:prstGeom prst="rect">
            <a:avLst/>
          </a:prstGeom>
          <a:ln w="0">
            <a:noFill/>
          </a:ln>
        </p:spPr>
      </p:pic>
      <p:sp>
        <p:nvSpPr>
          <p:cNvPr id="76" name="Ovál 1"/>
          <p:cNvSpPr/>
          <p:nvPr/>
        </p:nvSpPr>
        <p:spPr>
          <a:xfrm>
            <a:off x="7308720" y="4929120"/>
            <a:ext cx="432000" cy="43020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Informace  o projektu a MZ (I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147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143f7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Po úspěšném založení MZ je nutné, stejně jako doposud, stisknout tlačítko „</a:t>
            </a:r>
            <a:r>
              <a:rPr b="1" lang="cs-CZ" sz="1800" spc="-1" strike="noStrike">
                <a:solidFill>
                  <a:srgbClr val="143f7e"/>
                </a:solidFill>
                <a:latin typeface="Arial"/>
              </a:rPr>
              <a:t>Načíst data z MONIT7+“.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Na rozdíl od dosud používaného postupu je v tuto dobu, průměrně minutu, aplikace neaktivn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ff0000"/>
                </a:solidFill>
                <a:latin typeface="Arial"/>
              </a:rPr>
              <a:t>UPOZORNĚNÍ: Neklikejte na tlačítko „Načíst data z MONIT7+“ opakovaně. Po opakovaném stisknutí tlačítka může dojít k zablokování požadavku. Pokud již tato situace nastala, obraťte se, prosím, na emailovou adresu příslušné podpory uvedené na následujícím odkazu: </a:t>
            </a:r>
            <a:r>
              <a:rPr b="0" lang="cs-CZ" sz="1800" spc="-1" strike="noStrike">
                <a:solidFill>
                  <a:srgbClr val="143f7e"/>
                </a:solidFill>
                <a:latin typeface="Arial"/>
              </a:rPr>
              <a:t>https://www.eu-zadost.cz/info.aspx?ShowPage=OperationInf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0" y="2492280"/>
            <a:ext cx="9144000" cy="1952640"/>
          </a:xfrm>
          <a:prstGeom prst="rect">
            <a:avLst/>
          </a:prstGeom>
          <a:ln w="0">
            <a:noFill/>
          </a:ln>
        </p:spPr>
      </p:pic>
      <p:sp>
        <p:nvSpPr>
          <p:cNvPr id="80" name="Obdélník 7"/>
          <p:cNvSpPr/>
          <p:nvPr/>
        </p:nvSpPr>
        <p:spPr>
          <a:xfrm>
            <a:off x="1863720" y="3481560"/>
            <a:ext cx="1944720" cy="28872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cp:lastPrinted>2012-04-23T10:38:10Z</cp:lastPrinted>
  <dcterms:modified xsi:type="dcterms:W3CDTF">2013-10-03T07:53:26Z</dcterms:modified>
  <cp:revision>470</cp:revision>
  <dc:subject/>
  <dc:title>Snímek 1</dc:title>
</cp:coreProperties>
</file>