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6D2E-A8F4-4F3A-AA5F-BCDF4402DB1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F638-0675-491E-80E4-AA364B2802D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3A2B-0D44-46E7-81F5-D530C150D7E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5022-4D9A-4244-ACD4-AE5E63EE713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3AB4-6AAD-4893-8365-9CF7B6669D3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956B-2A1B-4099-B09D-7F3A160D427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BBE7-23A4-4DE9-9B24-5D832ABC54A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F547-E995-4D7A-8E79-CDAED809412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08AD-33A8-4875-9FE9-61281104C5F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EC16-7F5A-42FB-9B1F-90F7DB2BA5E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E32F-CB32-4D2A-AB6C-D1B005C42E9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8ABD-C65A-4E85-924A-69B5F65AEA7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Zákon o účetnictv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úplné nebo neprůkazné vedení účetnictví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porušování zásady věcné a časové souvislosti při účtování o nákladech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chybějící náležitosti účetního dokladu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správné opravy účetních dokladů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ní účtováno o pohledávkách a závazcích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existence, neúplnost nebo neaktuálnost vnitřních předpisů stanovených zákone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dostatečné zajištění archivace účetních dokladů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oklad není označen zkratkou či jiným interním označením, že jde o výdaj z daného projektu, který čerpá z ES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aktury neoznačeny číslem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esouvisí přímo se z. o účtu, ale je povinnou náležitostí u účetních dokladů z ES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Ověření hospodárnosti, efektivnosti a účelnosti výdajů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cen a mezd v místě obvyklých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Uzavření dodatku smlouvy o zvýšení ceny bez dalších podmínek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Sjednání nestandardních nebo jednostranně výhodných podmínek (nepřiměřeně vysoký úrok z prodlení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Technické zhodnocení najaté nemovitosti bez protiplnění pronajímatel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Zboží nebo služba jsou dodávány přes několik mezičlánků</a:t>
            </a: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ákup vybavení před závěrem projektu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Pracovněprávní vztah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úplné pracovní smlouvy/DPČ/DPP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stanovení rozsahu práce na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stanoveného rozsahu pracovní doby, příp. nesprávné stanovení rozsahu pracovní doby v PS/DPČ/DP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překrývání pracovních úvazků na projektech ES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Cestovní náhrad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jasná kritéria pro určení dopravního prostředku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poskytnutí vyšších náhrad, než stanovuje právní úprava, příp. vnitřní předpis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krácení stravného v případě poskytnutí stravování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vyplacení cestovní náhrady neoprávněné osobě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dodržení lhůt při proplacení cestovních náhrad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termín pracovní cesty překrývá aktivity projektu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Dodržování schváleného rozpoč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oznámené změny v rozpoč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řekročení částek v odsouhlaseném  rozpočtu nad rámec povoleného 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amovolné přesuny financí mezi kapitolami rozpoč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edodržení pravidel uznatelnosti výdajů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Zadávací řízen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při přípravě ZŘ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zvolení nesprávného postupu pro výběr dodavatele/dělení zakázek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diskriminační kvalifikační kritéria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dostatečně/netransparentně stanovená hodnotící kritéria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hodnotící kritéria použita jako kvalifikační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v průběhu ZŘ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stanovených lhůt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oslovení dostatečného počtu dodavatelů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správný způsob zveřejnění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vyloučení uchazeče nesplňujícího kvalifikační kritéria, nejasné hodnocení nabídek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pravidel při složení hodnotící komise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chybějící dokumentace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(např. doklady o doručení písemností (dodejky, doručenky z el. komunik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nedostatečně a nejasně popsaný průběh hodnocení v zápisu z hodnocení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bez dostatku jiné (pomocné) evidence – hodnotící tabulky apo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uzavírání neopodstatněných dodatků ke smlouvě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chybějící dokumentac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Věcné plnění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hybějící docházky na kurzy, semináře, osnovy kurzů (přednášek), chybí kopie poskytnutých učebních pomůcek pro příjemce (skripta, učebni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hybějící hmotné i nehmotné výstupy z projektu (analýzy, propagační předměty, publikace atd.)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hybí souhlasy účastníků projektu se zpracováním osobních údajů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svědčení, certifikáty – nesplňují pravidla publicity, chybí jejich kopie v archivovaných dokumentech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sledovaní, nevykazovaní indikátorů – chybí průběžná kontrola dosahování indikátorů a metody nápravy v případě, že nebudou dosažen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Publicita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–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špatné barevné provedení log, špatné umístění nebo pořadí log nebo jejich úplné vynechání na materiálech vytvářených v rámci projektu,  neinformování o poskytnutém příspěvku z ESF v průběhu pořádaných akcí, chybějící informace o projektu na webových stránkách příjemců, neoznačení vybavení pořízeného z projektu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Veřejná podpo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správné uvedení informací v čestném prohlášení k čerpání podpory de minimis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podmínek, za kterých byla veřejná podpora poskytnu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Jiné nedostatk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říjemce není na kontrolu připraven – na místě nejsou k dispozici požadované originály dokladů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, nejsou přítomny osoby zapojené do realizace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okumenty nejsou řádně archivovány – nepřehledné, nesystematické: nevyzná se v nich ani příjemce (zejm. případě účasti více osob na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ojektu)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, popřípadě je u větších organizací problémem neustálé „přebíhání„ např. z jedné budovy do druhé atd., časové prostoj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říjemce nepředává informace od poskytovatele dalším partnerům (je-li relevantní a projekt má partnera/y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07BC-0A0F-4449-AAEE-755FDADC110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0200-4A2D-4DC3-8546-912C7F724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5AC2-135B-4937-B5E3-AC908C2B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02AF-3536-416C-8809-66F44FE5D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0B56-CA8D-4510-B65E-7CED934F6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67C4-F4E7-4784-AEB0-E9EA2728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B897-FBFC-4DC7-BE27-7BB0BAC7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B471-4D8B-49FB-A99E-79A27D7F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D0D9-FF9F-4B1C-8A3F-85CAC2EF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D1A6-0E9D-4128-A055-BEF896F5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4FDD-5B7D-4609-B574-1968D5D8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75A7-F87D-4858-B79C-EA39A1CD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6A06-E785-40E2-9BD7-09E0FA10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0226-4674-4842-A84B-A58F1BAFFF0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podpora34-51@ea-oplzz.cz" TargetMode="External"/><Relationship Id="rId2" Type="http://schemas.openxmlformats.org/officeDocument/2006/relationships/hyperlink" Target="mailto:podpora34-51@ea-oplzz.cz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y na místě a nesrovnalosti</a:t>
            </a:r>
            <a:br>
              <a:rPr sz="1800"/>
            </a:b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u projektů realizovaných v rámci OP L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28" descr="logo_a_cb"/>
          <p:cNvPicPr/>
          <p:nvPr/>
        </p:nvPicPr>
        <p:blipFill>
          <a:blip r:embed="rId1"/>
          <a:stretch/>
        </p:blipFill>
        <p:spPr>
          <a:xfrm>
            <a:off x="7308720" y="4762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ůběh kontroly na místě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ahájení kontroly na mís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předložení pověření k provedení kontro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eznámení kontrolované osoby s právy a povinnostmi během kontr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eznámení kontrolované osoby s průběhem kontr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rovedení kontr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lastní kontrola vytypovaných oblastí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ýzva k odstranění nedostatků, které lze odstranit ještě před uzavřením kontr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Ukončení kontr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předání protokolu z kontroly, jeho podpis oběma stran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 případě podání námitek – vypořádání námitkového ří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 případě podezření na porušení rozpočtové kázně či trestný čin –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hlášení podezření na nesrovnalost Řídícímu orgá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d3673"/>
                </a:solidFill>
                <a:latin typeface="Arial"/>
              </a:rPr>
              <a:t>V případě neposkytnutí součinnosti může kontrolní orgán uložit pořádkovou pokutu až do výše 50 000 K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otokol z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Times New Roman"/>
              </a:rPr>
              <a:t>vypracovává vedoucí kontrolní skupiny ve spolupráci se všemi kontrolními pracovníky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a předává nebo zasílá jej kontrolované osobě k podpisu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obsahuje seznam zjištění, které nebylo možno odstranit během trvání kontroly a seznam uložených nápravných opatření, vč. lhůty k jejich odstran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typy zjištění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    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1) zjištění ze kterých plyne podezření na nesrovna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    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2) zjištění, ze kterých neplyne podezření na nesrovnal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(pouze ukládají doporučení k nápravě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převzetí protokolu z kontroly stvrzuje statutární zástupce kontrolované osoby nebo jím pověřená osoba svým podpis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 případě odmítnutí podpisu protokolu při převzetí je kontrolovaná osoba poučena o tom, že tím ztrácí možnost podat námitky proti protoko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ámitky proti protokolu z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možnost podat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písemné a zdůvodněné námitky, a to ve lhůtě 5 kalendářních dnů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ode dne seznámení s protokole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, není-li stanoveno jinak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o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 řádně podaných námitkách rozhoduje vedoucí kontrolního orgá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vydané rozhodnutí o námitkách je součástí protokolu z kontroly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 u="sng">
                <a:solidFill>
                  <a:srgbClr val="0d3673"/>
                </a:solidFill>
                <a:uFillTx/>
                <a:latin typeface="Arial"/>
              </a:rPr>
              <a:t>p</a:t>
            </a:r>
            <a:r>
              <a:rPr b="1" lang="cs-CZ" sz="2200" spc="-1" strike="noStrike" u="sng">
                <a:solidFill>
                  <a:srgbClr val="0d3673"/>
                </a:solidFill>
                <a:uFillTx/>
                <a:latin typeface="Arial"/>
                <a:ea typeface="Times New Roman"/>
              </a:rPr>
              <a:t>roti rozhodnutí o námitkách není opravný prostředek přípustný</a:t>
            </a:r>
            <a:r>
              <a:rPr b="1" lang="cs-CZ" sz="2200" spc="-1" strike="noStrike" u="sng">
                <a:solidFill>
                  <a:srgbClr val="0d3673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esrovnalost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= porušení právních předpisů ES nebo českých předpisů, včetně podmínek stanovených příjemci právním aktem o poskytnutí podp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Typy nesrovnalostí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porušení rozpočtové kázně ve smyslu zákona č. 218/2000 Sb. o rozpočtových pravidlech, tj. neoprávněné použití prostředků, poskytnutých ze státního rozpoč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trestný č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ystémová nesrovna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znikne-li v průběhu kontroly (či v jiném případě) podezření na nesrovnalost, je povinností kontrolora tuto skutečnost nahlásit pověřenému pracovníku Řídícího orgánu. Ten posoudí opodstatněnost podezření a v případě jeho potvrzení skutečnost nahlásí příslušnému orgánu (místně příslušný finanční úřad v případě porušení rozpočtové kázně, v ostatních případech např. orgán činný v trestním řízení apod.), který o případu pravomocně rozhod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Arial"/>
              </a:rPr>
              <a:t>Děkujeme za poz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Externí administrá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d3673"/>
                </a:solidFill>
                <a:latin typeface="Arial"/>
              </a:rPr>
              <a:t>email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: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dpora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ea-oplzz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d2d8a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tel.: +420 225 044 111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Doručovací adresa: P.O.BOX 98, 151 34 Praha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Řídící orgán OP L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Ministerstvo práce a sociálních věcí Č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Odbor řízení pomoci z ES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Na Poříčním právu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128 01 Praha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Cíle kontroly na místě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ověřit, zda uplatňované výdaje byly skutečně vynaloženy, a to v souladu s rozhodnutím o poskytnutí dotace, s vnitrostátními pravidly a pravidly Společen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předejít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vzniku vá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ých problémů pomocí v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asné identifikace nedostatk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, které by mohly ovlivnit ús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šnou realizaci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zajistit zpětnou vazbu poskytovateli prostředků v průběhu realizace progr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Legislativní rámec kontroly na místě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článek 13 nařízení Evropské komise č. 1828/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ákon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č. 320/2001 Sb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o finanční kontrole ve veřejné sprá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zákon č. 552/1991 Sb. o státní kontrole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bsah kontroly na místě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rocedurální kontro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Kontrola obsahové část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Finanční kontr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Kontrola výběrových 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ocedurální část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Správnost a úplnost vedení dokumentace k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Archivace projektové dokum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Řízení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Vztahy s partn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Dodržování podmínek právního a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bsahová část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lnění indikátorů stanovených v právním a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Úplnost dokumentace k prováděným kurzům nebo seminářů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Úplnost dokumentace k vyvíjeným modulům, metodikám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Úplnost </a:t>
            </a: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  <a:ea typeface="Times New Roman"/>
              </a:rPr>
              <a:t>dokumentace k poradenství</a:t>
            </a: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Úplnost dokumentace </a:t>
            </a: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  <a:ea typeface="Times New Roman"/>
              </a:rPr>
              <a:t>k vytvořeným pracovním místům</a:t>
            </a: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ční část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Nastavení systému finanční kontroly projektu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Aplikace nepřímých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působilost náklad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Oddělené účetnictv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Soulad čerpání s rozpoč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Kontrola vzorku účetních dokladů z každé kapitoly rozpo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Kontrola vykazování DP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Evidence projektových příjmů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výběrových řízen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Dle typu a výše zakázky, kontroluje 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typ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procedur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y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v závislosti na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finanční hodnotě zakázky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dodržení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áležitost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zveřejněn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stavení výběrových kritéri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dpovídající složení hodnotící kom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ápis hodnotící kom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bídky jednotlivých uchazeč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smluvní dokumen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Problematické oblasti kontrol</a:t>
            </a:r>
            <a:r>
              <a:rPr b="1" lang="cs-CZ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Dodr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ování podmínek, stanovených zákonem o ú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etnictví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vedení účetnic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uchovávání dokla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daňová ev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Dodr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ování podmínek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z hlediska zp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sobilosti výdaj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hospodárnost, efektivnost a účelnost výdaj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Dodr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ování podmínek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z hlediska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ostatních zákonných nor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pracovně právní vzta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cestovní náhr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zadávání veřejných zaká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Pavelková Marcela, Mgr. (MPSV)</cp:lastModifiedBy>
  <dcterms:modified xsi:type="dcterms:W3CDTF">2013-10-03T07:48:23Z</dcterms:modified>
  <cp:revision>278</cp:revision>
  <dc:subject/>
  <dc:title>Snímek 1</dc:title>
</cp:coreProperties>
</file>